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D44E-935C-4EBC-B291-6358105D0C3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3C8D-73E6-4ACA-B773-A171EC382E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C8F5-DB7B-4FF6-98EA-B461640523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2/9.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listopad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1193760"/>
            <a:ext cx="8189640" cy="5664240"/>
          </a:xfrm>
          <a:prstGeom prst="rect">
            <a:avLst/>
          </a:prstGeom>
          <a:noFill/>
          <a:ln w="0">
            <a:noFill/>
          </a:ln>
        </p:spPr>
        <p:txBody>
          <a:bodyPr anchor="t">
            <a:normAutofit fontScale="84000"/>
          </a:bodyPr>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200 tysięcy złotych.</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200 tysięcy zł.</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osoby uczące się lub mające miejsce zamieszkania </a:t>
            </a:r>
            <a:br>
              <a:rPr sz="1400"/>
            </a:br>
            <a:r>
              <a:rPr b="0" lang="pl-PL" sz="1400" spc="-1" strike="noStrike">
                <a:solidFill>
                  <a:srgbClr val="000000"/>
                </a:solidFill>
                <a:latin typeface="Arial"/>
                <a:ea typeface="Arial"/>
              </a:rPr>
              <a:t>na terenie województwa zachodniopomorskiego w rozumieniu Kodeksu Cywilnego lub szkoły </a:t>
            </a:r>
            <a:br>
              <a:rPr sz="1400"/>
            </a:br>
            <a:r>
              <a:rPr b="0" lang="pl-PL" sz="1400" spc="-1" strike="noStrike">
                <a:solidFill>
                  <a:srgbClr val="000000"/>
                </a:solidFill>
                <a:latin typeface="Arial"/>
                <a:ea typeface="Arial"/>
              </a:rPr>
              <a:t>i placówki realizujące kształcenie zawodowe zlokalizowane na terenie województwa zachodniopomorskiego bądź partnerzy społeczno – gospodarczy i pracodawcy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rPr>
              <a:t> </a:t>
            </a:r>
            <a:r>
              <a:rPr b="0" lang="pl-PL" sz="1400" spc="-1" strike="noStrike">
                <a:solidFill>
                  <a:srgbClr val="000000"/>
                </a:solidFill>
                <a:latin typeface="Arial"/>
              </a:rPr>
              <a:t>W punkcie 3.2 wniosku należy opisać grupę docelową stanowiącą osoby uczące się lub mające miejsce zamieszkania na terenie województwa zachodniopomorskiego w rozumieniu Kodeksu Cywilnego lub szkoły i placówki realizujące kształcenie zawodowe zlokalizowane na terenie województwa zachodniopomorskiego bądź partnerów społeczno – gospodarczych i pracodawców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571320"/>
            <a:ext cx="8190000" cy="6072120"/>
          </a:xfrm>
          <a:prstGeom prst="rect">
            <a:avLst/>
          </a:prstGeom>
          <a:noFill/>
          <a:ln w="0">
            <a:noFill/>
          </a:ln>
        </p:spPr>
        <p:txBody>
          <a:bodyPr anchor="t">
            <a:normAutofit fontScale="87000"/>
          </a:bodyPr>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a:t>
            </a:r>
            <a:r>
              <a:rPr b="0" lang="pl-PL" sz="1400" spc="-1" strike="noStrike">
                <a:solidFill>
                  <a:srgbClr val="000000"/>
                </a:solidFill>
                <a:latin typeface="Arial"/>
              </a:rPr>
              <a:t>	</a:t>
            </a:r>
            <a:r>
              <a:rPr b="0" lang="pl-PL" sz="1400" spc="-1" strike="noStrike">
                <a:solidFill>
                  <a:srgbClr val="000000"/>
                </a:solidFill>
                <a:latin typeface="Arial"/>
              </a:rPr>
              <a:t>Projektodawcą jest jeden z następujących podmiotów: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ła, placówka oświatowa (instytucje, kadra) i ich organ prowadzący, realizujące kształcenie zawodowe (z wyłączeniem szkół dla dorosłych),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w partnerstwie z organem prowadzącym szkołę lub placówkę oświatow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szkoła, placówka oświatowa, w punkcie 2.1 wniosku, należy zapisać nazwę organu prowadzącego oraz nazwę projektodawcy np. Gmina Miasto Szczecin / Szkoła Podstawowa Nr 1 w Szczecinie; w punkcie 2.2 wniosku należy zapisać status prawny projektodawcy (placówki oświatowej, szkoły).</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izacja pozarządowa prowadząca działalność statutową w zakresie edukacji w punkcie 2.1 i 2.2 należy zapisać  informacje dotyczące danej organizacji, natomiast w punkcie 2.8 należy podać dane partnera tzn. organu prowadzącego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zobowiązana jest realizować projekt w partnerstwie z organem prowadzącym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ą jest organizacja pozarządowa to w punkcie 3.5 wniosku należy wskazać, </a:t>
            </a:r>
            <a:br>
              <a:rPr sz="1400"/>
            </a:br>
            <a:r>
              <a:rPr b="0" lang="pl-PL" sz="1400" spc="-1" strike="noStrike">
                <a:solidFill>
                  <a:srgbClr val="000000"/>
                </a:solidFill>
                <a:latin typeface="Arial"/>
              </a:rPr>
              <a:t>że prowadzi ona działalność statutową w zakresie edukacji.</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 prowadzący w punkcie 2.1 i 2.2 należy wpisać dane dotyczące danej jednostki.</a:t>
            </a:r>
            <a:endParaRPr b="0" lang="en-US" sz="1400" spc="-1" strike="noStrike">
              <a:solidFill>
                <a:srgbClr val="000000"/>
              </a:solidFill>
              <a:latin typeface="Tahoma"/>
            </a:endParaRPr>
          </a:p>
          <a:p>
            <a:pPr marL="298440" indent="-2984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rPr>
              <a:t>Projektodawca wnosi  wkład własny  w wysokości 12% wartości projektu w postaci środków pochodzących z budżetu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IV Budżet projektu w pkt 4.3 </a:t>
            </a:r>
            <a:r>
              <a:rPr b="0" i="1" lang="pl-PL" sz="1400" spc="-1" strike="noStrike">
                <a:solidFill>
                  <a:srgbClr val="000000"/>
                </a:solidFill>
                <a:latin typeface="Arial"/>
              </a:rPr>
              <a:t>wkład własny </a:t>
            </a:r>
            <a:r>
              <a:rPr b="0" lang="pl-PL" sz="1400" spc="-1" strike="noStrike">
                <a:solidFill>
                  <a:srgbClr val="000000"/>
                </a:solidFill>
                <a:latin typeface="Arial"/>
              </a:rPr>
              <a:t>należy wpisać kwotę odpowiadającą 12% kosztów</a:t>
            </a:r>
            <a:r>
              <a:rPr b="0" i="1" lang="pl-PL" sz="1400" spc="-1" strike="noStrike">
                <a:solidFill>
                  <a:srgbClr val="000000"/>
                </a:solidFill>
                <a:latin typeface="Arial"/>
              </a:rPr>
              <a:t> </a:t>
            </a:r>
            <a:r>
              <a:rPr b="0" lang="pl-PL" sz="1400" spc="-1" strike="noStrike">
                <a:solidFill>
                  <a:srgbClr val="000000"/>
                </a:solidFill>
                <a:latin typeface="Arial"/>
              </a:rPr>
              <a:t>ogół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wkład własny ma charakter niepieniężny należy go również wykazać w pkt 4.3.1</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budżecie projektu przy kosztach, które będą stanowiły wkład niepieniężny, </a:t>
            </a:r>
            <a:br>
              <a:rPr sz="1400"/>
            </a:br>
            <a:r>
              <a:rPr b="0" lang="pl-PL" sz="1400" spc="-1" strike="noStrike">
                <a:solidFill>
                  <a:srgbClr val="000000"/>
                </a:solidFill>
                <a:latin typeface="Arial"/>
              </a:rPr>
              <a:t>w polu </a:t>
            </a:r>
            <a:r>
              <a:rPr b="0" i="1" lang="pl-PL" sz="1400" spc="-1" strike="noStrike">
                <a:solidFill>
                  <a:srgbClr val="000000"/>
                </a:solidFill>
                <a:latin typeface="Arial"/>
              </a:rPr>
              <a:t>kategoria</a:t>
            </a:r>
            <a:r>
              <a:rPr b="0" lang="pl-PL" sz="1400" spc="-1" strike="noStrike">
                <a:solidFill>
                  <a:srgbClr val="000000"/>
                </a:solidFill>
                <a:latin typeface="Arial"/>
              </a:rPr>
              <a:t>, należy wpisać „wkład własny niepienięż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214280"/>
            <a:ext cx="8229600" cy="4911840"/>
          </a:xfrm>
          <a:prstGeom prst="rect">
            <a:avLst/>
          </a:prstGeom>
          <a:noFill/>
          <a:ln w="0">
            <a:noFill/>
          </a:ln>
        </p:spPr>
        <p:txBody>
          <a:bodyPr anchor="t">
            <a:normAutofit fontScale="77000"/>
          </a:bodyPr>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 Projekt jest realizowany w szkołach lub placówkach prowadzących kształcenie zawodowe, </a:t>
            </a:r>
            <a:br>
              <a:rPr sz="1400"/>
            </a:br>
            <a:r>
              <a:rPr b="0" lang="pl-PL" sz="1400" spc="-1" strike="noStrike">
                <a:solidFill>
                  <a:srgbClr val="000000"/>
                </a:solidFill>
                <a:latin typeface="Arial"/>
              </a:rPr>
              <a:t>w których uczniowie osiągnęli średni wynik w ubiegłorocznych egzaminach zewnętrznych (maturalnych i/lub zawodowych), niższy od średniej wojewódzkiej.</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1 i 3.2 wniosku należy zapisać, że projekt realizowany będzie w szkołach lub placówkach oświatowych, których średni wynik egzaminu zewnętrznego (maturalnego i/lub zawodowego) w roku szkolnym 2008-2009 był niższy niż średnia w województwie zachodniopomorskim z wyżej wymienionych egzaminów.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Projekt łączy wsparcie w zakresie „modernizacja oferty kształcenia zawodowego i dostosowanie jej do potrzeb lokalnego i regionalnego rynku pracy (wprowadzanie nowych kierunków kształcenia, modyfikacja nowych kierunków kształcenia, modyfikacja programów nauczania </a:t>
            </a:r>
            <a:br>
              <a:rPr sz="1400"/>
            </a:br>
            <a:r>
              <a:rPr b="0" lang="pl-PL" sz="1400" spc="-1" strike="noStrike">
                <a:solidFill>
                  <a:srgbClr val="000000"/>
                </a:solidFill>
                <a:latin typeface="Arial"/>
              </a:rPr>
              <a:t>na kierunkach istniejących)” ze wsparciem „wyposażenie szkół i placówek prowadzących kształcenie zawodowe w nowoczesne materiały dydaktyczne.</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a:t>
            </a:r>
            <a:r>
              <a:rPr b="0" i="1" lang="pl-PL" sz="1400" spc="-1" strike="noStrike" u="sng">
                <a:solidFill>
                  <a:srgbClr val="000000"/>
                </a:solidFill>
                <a:uFillTx/>
                <a:latin typeface="Arial"/>
                <a:ea typeface="Arial"/>
              </a:rPr>
              <a:t> jedynie </a:t>
            </a:r>
            <a:r>
              <a:rPr b="0" i="1" lang="pl-PL" sz="1400" spc="-1" strike="noStrike">
                <a:solidFill>
                  <a:srgbClr val="000000"/>
                </a:solidFill>
                <a:latin typeface="Arial"/>
                <a:ea typeface="Arial"/>
              </a:rPr>
              <a:t>do typu projektu nr 2</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400" spc="-1" strike="noStrike">
                <a:solidFill>
                  <a:srgbClr val="000000"/>
                </a:solidFill>
                <a:latin typeface="Arial"/>
              </a:rPr>
              <a:t>W części 3.3 wniosku projektodawca winien zapisać iż projekt zakłada realizację określonych w kryterium strategicznym form wsparcia. </a:t>
            </a:r>
            <a:endParaRPr b="0" lang="en-US" sz="1400" spc="-1" strike="noStrike">
              <a:solidFill>
                <a:srgbClr val="000000"/>
              </a:solidFill>
              <a:latin typeface="Tahoma"/>
            </a:endParaRPr>
          </a:p>
          <a:p>
            <a:pPr marL="263880" indent="-263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rPr>
              <a:t>w latach 2004 –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punkcie 3.5 wniosku Projektodawca powinien zapisać, iż w ramach projektu wykorzystane zastaną specjalistyczne stanowiska do przeprowadzania zewnętrznych egzaminów zawodowych zakupionych ze środków Europejskiego Funduszu Społecznego na lata 2004-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 wniosku (np. pkt 3.1 i 3.5) należy zapisać z jaką inwestycją finansow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w ramach Działania 9.2 realizowane są zgodnie z ustawą o systemie oświaty </a:t>
            </a:r>
            <a:br>
              <a:rPr sz="1400"/>
            </a:br>
            <a:r>
              <a:rPr b="0" lang="pl-PL" sz="1400" spc="-1" strike="noStrike">
                <a:solidFill>
                  <a:srgbClr val="000000"/>
                </a:solidFill>
                <a:latin typeface="Arial"/>
              </a:rPr>
              <a:t>w związku z czym, co do zasady, nie przewidują występowania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Jeśli projektodawca zamierza czerpać powyższe korzyści projekt należy potraktować jako generujący dochó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Jeśli projektodawca nie uwzględni w takim projekcie dochodu, to przy stwierdzeniu czerpania </a:t>
            </a:r>
            <a:br>
              <a:rPr sz="1400"/>
            </a:br>
            <a:r>
              <a:rPr b="0" lang="pl-PL" sz="1400" spc="-1" strike="noStrike">
                <a:solidFill>
                  <a:srgbClr val="000000"/>
                </a:solidFill>
                <a:latin typeface="Arial"/>
              </a:rPr>
              <a:t>z jego tytułu korzyści ekonomicznych, zostanie uznane, ze udzielono mu niedozwolonej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0.09.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2/9.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sp>
        <p:nvSpPr>
          <p:cNvPr id="52" name="pole tekstowe 3"/>
          <p:cNvSpPr/>
          <p:nvPr/>
        </p:nvSpPr>
        <p:spPr>
          <a:xfrm>
            <a:off x="539640" y="6381720"/>
            <a:ext cx="468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tan na dzień 30.09. 2010 r.</a:t>
            </a:r>
            <a:endParaRPr b="0" lang="en-US" sz="1000" spc="-1" strike="noStrike">
              <a:solidFill>
                <a:srgbClr val="000000"/>
              </a:solidFill>
              <a:latin typeface="Arial"/>
            </a:endParaRPr>
          </a:p>
        </p:txBody>
      </p:sp>
      <p:pic>
        <p:nvPicPr>
          <p:cNvPr id="53" name="Wykres 5" descr=""/>
          <p:cNvPicPr/>
          <p:nvPr/>
        </p:nvPicPr>
        <p:blipFill>
          <a:blip r:embed="rId1"/>
          <a:stretch/>
        </p:blipFill>
        <p:spPr>
          <a:xfrm>
            <a:off x="244440" y="1547640"/>
            <a:ext cx="8655120" cy="469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6"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8"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6"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2/9.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0"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9 października 2010 r. do dnia 30 grud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50896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1 Uzasadnienie potrzeby realizacji projektu:</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lub zbyt ogólnie uzasadnione potrzeby realizacji projekt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wołania się na dane źródłowe oraz podania ich wartości;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powoływanie się na nieaktualne dane, brak wskazania do sytuacji w okresie bieżący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zbyt ogólny opis metodologii prowadzonych bad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dania źródeł pochodzenia da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cele, zbyt ogólne, niezgodne z POKL oraz innymi dokumentami strategiczny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ele nie wynikają z diagnozy i opisu problem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214280"/>
            <a:ext cx="8002440" cy="4911840"/>
          </a:xfrm>
          <a:prstGeom prst="rect">
            <a:avLst/>
          </a:prstGeom>
          <a:noFill/>
          <a:ln w="0">
            <a:noFill/>
          </a:ln>
        </p:spPr>
        <p:txBody>
          <a:bodyPr anchor="t">
            <a:normAutofit fontScale="94000"/>
          </a:bodyPr>
          <a:p>
            <a:pPr marL="250560" indent="-250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2 Grupy docelowe projektu:</a:t>
            </a:r>
            <a:endParaRPr b="0" lang="en-US" sz="16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niedostosowana do proponowanego wsparcia, niewynikająca z diagnozy;</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przedstawiona w sposób ogólny, niewskazujący na charakter wnioskowanego wsparc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uczestnikach, projektodawca w ogóle nie opisuje uczestników </a:t>
            </a:r>
            <a:br>
              <a:rPr sz="1400"/>
            </a:br>
            <a:r>
              <a:rPr b="0" lang="pl-PL" sz="1400" spc="-1" strike="noStrike">
                <a:solidFill>
                  <a:srgbClr val="000000"/>
                </a:solidFill>
                <a:latin typeface="Arial"/>
                <a:ea typeface="Arial"/>
              </a:rPr>
              <a:t>do kogo kierowany jest projekt, pomija przedział wiekowy, liczbę uczestników oraz proces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y opis rekrutacji – brak metod, kryteriów i sposobu przeprowadzenia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ekrutacja niespójna z celami projektów;</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brak uzasadnienia liczebności grupy;</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zasadnienie wyboru grupy docelowej oparte na zbyt ogólnych danych;</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względnienie w projekcie trudności związanych z udziałem grupy docelowej, wynikających z ich miejsca zamieszkan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między liczbą uczestników a rezultatami twardymi.</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0560" indent="-2505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999720"/>
            <a:ext cx="8002440" cy="510876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3 Działania:</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proponowanych zajęć z profilem zawodowym uczestnik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działań promocyjno – informacyj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wymiarze etatów/ formy zatrudnienia/ czasu poświęconego </a:t>
            </a:r>
            <a:br>
              <a:rPr sz="1400"/>
            </a:br>
            <a:r>
              <a:rPr b="0" lang="pl-PL" sz="1400" spc="-1" strike="noStrike">
                <a:solidFill>
                  <a:srgbClr val="000000"/>
                </a:solidFill>
                <a:latin typeface="Arial"/>
                <a:ea typeface="Arial"/>
              </a:rPr>
              <a:t>na realizację poszczególnych zadań, osób biorących udział w realizacji projek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skazania osób odpowiedzialnych za realizacje dział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na temat miejsc, gdzie będą organizowane zadania.</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071720"/>
            <a:ext cx="8002440" cy="5037120"/>
          </a:xfrm>
          <a:prstGeom prst="rect">
            <a:avLst/>
          </a:prstGeom>
          <a:noFill/>
          <a:ln w="0">
            <a:noFill/>
          </a:ln>
        </p:spPr>
        <p:txBody>
          <a:bodyPr anchor="t">
            <a:normAutofit fontScale="93000"/>
          </a:bodyPr>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4 Rezultaty projektu:</a:t>
            </a:r>
            <a:endParaRPr b="0" lang="en-US" sz="1600" spc="-1" strike="noStrike">
              <a:solidFill>
                <a:srgbClr val="000000"/>
              </a:solidFill>
              <a:latin typeface="Tahoma"/>
            </a:endParaRPr>
          </a:p>
          <a:p>
            <a:pPr marL="248040" indent="-248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kazane rezultaty stanowią produkty określające jakie zadania będą realizowane w projekcie; </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zultaty niemożliwe do spełnienia;</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rawidłowo zdefiniowane rezultaty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rwałości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rezultatów z celami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wantyfikacji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doprecyzowany sposób monitorowania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sposobu mierzenia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niewłaściwy sposób określenia rezultatów twardy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inięcie wskaźników mierzenia rezultatów miękki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nikomy wpływ rezultatów na cele projektu.</a:t>
            </a:r>
            <a:endParaRPr b="0" lang="en-US" sz="1400" spc="-1" strike="noStrike">
              <a:solidFill>
                <a:srgbClr val="000000"/>
              </a:solidFill>
              <a:latin typeface="Tahoma"/>
            </a:endParaRPr>
          </a:p>
          <a:p>
            <a:pPr marL="248040" indent="-248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5 Potencjał wnioskodawcy i sposób zarządzania projektem:</a:t>
            </a:r>
            <a:endParaRPr b="0" lang="en-US" sz="16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e przy angażu pracownik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plecza technicznego, kadrowego, instytucjonaln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bądź ogólny opis roli partnera. </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IV Wydatki projektu:</a:t>
            </a:r>
            <a:endParaRPr b="0" lang="en-US" sz="16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y rachunkowe;</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z opisanymi działania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e określanie cross – financing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e uzasadnienie zakupów w ramach cross-financingu;</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błędna metodologia wyliczenia kosztów pośredni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a dla bardzo wysokich kosz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zasadnione wydatki;</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1 5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9 775 000,0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725 000,0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2 Podniesienie atrakcyjności i jakości szkolnictwa zawodowego </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42960" y="1143000"/>
            <a:ext cx="7858080" cy="52862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t>
            </a:r>
            <a:r>
              <a:rPr b="1" lang="pl-PL" sz="1400" spc="-1" strike="noStrike">
                <a:solidFill>
                  <a:srgbClr val="000000"/>
                </a:solidFill>
                <a:latin typeface="Arial"/>
                <a:ea typeface="Arial"/>
              </a:rPr>
              <a:t>Kompetentna i świadoma dziewczyna – przedsiębiorcza na rynku prac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Zespół Szkół Ponadgimnazjalnych nr 2 Gryfin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ea typeface="Arial"/>
              </a:rPr>
              <a:t>01.09.2008 – 30.06.2009</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podniesienie zdolności do przyszłego zatrudnienia lub samozatrudnienia dziewcząt ze środowisk wiejskich i małych miasteczek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ea typeface="Arial"/>
              </a:rPr>
              <a:t>wsparciem objętych zostanie 30 dziewcząt, które kształcą się zawodowo w Zespole Szkół Ponadgimnazjalnych nr 2 w Gryfinie </a:t>
            </a:r>
            <a:br>
              <a:rPr sz="1400"/>
            </a:br>
            <a:r>
              <a:rPr b="0" lang="pl-PL" sz="1400" spc="-1" strike="noStrike">
                <a:solidFill>
                  <a:srgbClr val="000000"/>
                </a:solidFill>
                <a:latin typeface="Arial"/>
                <a:ea typeface="Arial"/>
              </a:rPr>
              <a:t>na kierunk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Ekonomiczne – kierunek Ekonomicz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Zawodowe – kierunek Technik żywienia i gospodarstwa domow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rostokąt 2"/>
          <p:cNvSpPr/>
          <p:nvPr/>
        </p:nvSpPr>
        <p:spPr>
          <a:xfrm>
            <a:off x="642960" y="1143000"/>
            <a:ext cx="792972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ształtowanie świadomych i aktywnych postaw życiowych (zajęcia warsztatowe prowadzone przez psychologa i terapeutę mające na celu poznanie się dziewcząt, zaprezentowanie siebie </a:t>
            </a:r>
            <a:br>
              <a:rPr sz="1400"/>
            </a:br>
            <a:r>
              <a:rPr b="0" lang="pl-PL" sz="1400" spc="-1" strike="noStrike">
                <a:solidFill>
                  <a:srgbClr val="000000"/>
                </a:solidFill>
                <a:latin typeface="Arial"/>
              </a:rPr>
              <a:t>i stworzenie fundamentów dla dobrej atmosfery do efektywnej pracy przez cały okres trwani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wój kulturalny jako czynnik osobotwórczy (uczestnictwo w wystawie artystycznej, spotkanie </a:t>
            </a:r>
            <a:br>
              <a:rPr sz="1400"/>
            </a:br>
            <a:r>
              <a:rPr b="0" lang="pl-PL" sz="1400" spc="-1" strike="noStrike">
                <a:solidFill>
                  <a:srgbClr val="000000"/>
                </a:solidFill>
                <a:latin typeface="Arial"/>
              </a:rPr>
              <a:t>w herbaciarni, obejrzenie spektaklu teatralnego, filmu, opery itp. wybranego przez młodzież, lunch w restauracji, konkurs na wspomnienia z czasu trwania projektu mający na celu odzwierciedlenie w interesujący sposób oczekiwań beneficjentek wobec projektu, przeżyć w czasie jego trwania </a:t>
            </a:r>
            <a:br>
              <a:rPr sz="1400"/>
            </a:br>
            <a:r>
              <a:rPr b="0" lang="pl-PL" sz="1400" spc="-1" strike="noStrike">
                <a:solidFill>
                  <a:srgbClr val="000000"/>
                </a:solidFill>
                <a:latin typeface="Arial"/>
              </a:rPr>
              <a:t>i ocenę własnego rozwoj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skonalenie umiejętności posługiwania się komputerem i Internetem w zakresie wejścia </a:t>
            </a:r>
            <a:br>
              <a:rPr sz="1400"/>
            </a:br>
            <a:r>
              <a:rPr b="0" lang="pl-PL" sz="1400" spc="-1" strike="noStrike">
                <a:solidFill>
                  <a:srgbClr val="000000"/>
                </a:solidFill>
                <a:latin typeface="Arial"/>
              </a:rPr>
              <a:t>na rynek pracy jako pracownik bądź przedsiębiorca (poznanie adresów i poruszanie się </a:t>
            </a:r>
            <a:br>
              <a:rPr sz="1400"/>
            </a:br>
            <a:r>
              <a:rPr b="0" lang="pl-PL" sz="1400" spc="-1" strike="noStrike">
                <a:solidFill>
                  <a:srgbClr val="000000"/>
                </a:solidFill>
                <a:latin typeface="Arial"/>
              </a:rPr>
              <a:t>w portalach internetowych oferujących pracę, nabycie umiejętności pobierania dokumentacji aplikacyjnej, wypełnianie jej i przesłanie, zamieszczenie własnego ogłoszenia o poszukiwaniu pracy, uruchomienie Punktu Informacji Doradztwa Zawodoznawczego – komputery zostaną wyposażone w oprogramowanie z dziedziny poradnictwa zawodowego i informacji zawod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rostokąt 2"/>
          <p:cNvSpPr/>
          <p:nvPr/>
        </p:nvSpPr>
        <p:spPr>
          <a:xfrm>
            <a:off x="642960" y="1143000"/>
            <a:ext cx="7929720" cy="35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własnego wizerunku (uczestniczki dowiedzą się jak przygotować się do rozmowy </a:t>
            </a:r>
            <a:br>
              <a:rPr sz="1400"/>
            </a:br>
            <a:r>
              <a:rPr b="0" lang="pl-PL" sz="1400" spc="-1" strike="noStrike">
                <a:solidFill>
                  <a:srgbClr val="000000"/>
                </a:solidFill>
                <a:latin typeface="Arial"/>
              </a:rPr>
              <a:t>z pracodawcą, na co zwrócić szczególną uwagę, jak przygotować dokumentację, jak stworzyć odpowiedni wizerunek, jak zachować się podczas rozmowy, autoprezentacja przed kamerą, indywidualna ścieżka kariery – rozmowa doradcza z doradcą zawodowym, wykład „zdrowe żywienie” – uzyskana wiedza pobudzi u uczennic refleksję nad sensem ekologicznego trybu życia oraz troskę o własne zdr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wyższanie kwalifikacji zawodowych – ukończenie profesjonalnego kursu dla każdego kierunku szkoły (w zawodzie ekonomista znajomość dodatkowych programów księgowych, </a:t>
            </a:r>
            <a:br>
              <a:rPr sz="1400"/>
            </a:br>
            <a:r>
              <a:rPr b="0" lang="pl-PL" sz="1400" spc="-1" strike="noStrike">
                <a:solidFill>
                  <a:srgbClr val="000000"/>
                </a:solidFill>
                <a:latin typeface="Arial"/>
              </a:rPr>
              <a:t>w zawodzie gastronom kurs barmański, dodatkowo dla wszystkich dziewcząt kurs pierwszej pomocy).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8"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a:t>
            </a:r>
            <a:r>
              <a:rPr b="0" lang="pl-PL" sz="1600" spc="-1" strike="noStrike">
                <a:solidFill>
                  <a:srgbClr val="000000"/>
                </a:solidFill>
                <a:latin typeface="Arial"/>
              </a:rPr>
              <a:t>(</a:t>
            </a:r>
            <a:r>
              <a:rPr b="0" lang="en-GB" sz="1600" spc="-1" strike="noStrike">
                <a:solidFill>
                  <a:srgbClr val="000000"/>
                </a:solidFill>
                <a:latin typeface="Arial"/>
              </a:rPr>
              <a:t>91</a:t>
            </a:r>
            <a:r>
              <a:rPr b="0" lang="pl-PL" sz="1600" spc="-1" strike="noStrike">
                <a:solidFill>
                  <a:srgbClr val="000000"/>
                </a:solidFill>
                <a:latin typeface="Arial"/>
              </a:rPr>
              <a:t>)</a:t>
            </a:r>
            <a:r>
              <a:rPr b="0" lang="en-GB" sz="1600" spc="-1" strike="noStrike">
                <a:solidFill>
                  <a:srgbClr val="000000"/>
                </a:solidFill>
                <a:latin typeface="Arial"/>
              </a:rPr>
              <a:t>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a:t>
            </a:r>
            <a:r>
              <a:rPr b="0" lang="pl-PL" sz="1600" spc="-1" strike="noStrike">
                <a:solidFill>
                  <a:srgbClr val="000000"/>
                </a:solidFill>
                <a:latin typeface="Arial"/>
              </a:rPr>
              <a:t>(</a:t>
            </a:r>
            <a:r>
              <a:rPr b="0" lang="en-GB" sz="1600" spc="-1" strike="noStrike">
                <a:solidFill>
                  <a:srgbClr val="000000"/>
                </a:solidFill>
                <a:latin typeface="Arial"/>
              </a:rPr>
              <a:t>94</a:t>
            </a:r>
            <a:r>
              <a:rPr b="0" lang="pl-PL" sz="1600" spc="-1" strike="noStrike">
                <a:solidFill>
                  <a:srgbClr val="000000"/>
                </a:solidFill>
                <a:latin typeface="Arial"/>
              </a:rPr>
              <a:t>)</a:t>
            </a:r>
            <a:r>
              <a:rPr b="0" lang="en-GB" sz="1600" spc="-1" strike="noStrike">
                <a:solidFill>
                  <a:srgbClr val="000000"/>
                </a:solidFill>
                <a:latin typeface="Arial"/>
              </a:rPr>
              <a:t>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9"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2"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143000"/>
            <a:ext cx="8229600" cy="498312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iagnozowanie potrzeb edukacyjnych w obszarze szkolnictwa zawodowego zgodnie z potrzebami lokalnego i regionalnego rynku pracy.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gramy rozwojowe szkół i placówek oświatowych prowadzących kształcenie zawodowe ukierunkowane na zmniejszanie dysproporcji w osiągnięciach uczniów w trakcie procesu kształcenia oraz podnoszenie jakości procesu kształcenia w szczególności obejmujące: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datkowe zajęcia dydaktyczno-wyrównawcze oraz specjalistyczne służące wyrównywaniu dysproporcji edukacyjnych w trakcie procesu kształcenia,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radztwo i opiekę pedagogiczno-psychologiczną dla uczniów wykazujących problemy w nauce lub z innych przyczyn zagrożonych przedwczesnym wypadnięciem z systemu szkolnictwa (np. wsparcie dla uczniów z obszarów wiejskich, wsparcie dla uczniów niepełnosprawnych, przeciwdziałanie uzależnieniom, programy prewencyjne, przeciwdziałanie patologiom społecznym),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datkowe zajęcia (pozalekcyjne i pozaszkolne) dla uczniów ukierunkowane na rozwój kompetencji kluczowych, ze szczególnym uwzględnieniem ICT, języków obcych, przedsiębiorczości, nauk przyrodniczo-matematycznych, </a:t>
            </a:r>
            <a:endParaRPr b="0" lang="en-US" sz="14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28760" y="1213920"/>
            <a:ext cx="8229600" cy="488340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efektywne programy doradztwa edukacyjno-zawodowego,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odernizację oferty kształcenia zawodowego i dostosowanie jej do potrzeb lokalnego </a:t>
            </a:r>
            <a:br>
              <a:rPr sz="1400"/>
            </a:br>
            <a:r>
              <a:rPr b="0" lang="pl-PL" sz="1400" spc="-1" strike="noStrike">
                <a:solidFill>
                  <a:srgbClr val="000000"/>
                </a:solidFill>
                <a:latin typeface="Arial"/>
                <a:ea typeface="Arial"/>
              </a:rPr>
              <a:t>i regionalnego rynku pracy (wprowadzanie nowych kierunków kształcenia, modyfikacja programów nauczania na kierunkach istniejących),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ółpracę szkół i placówek prowadzących kształcenie zawodowe z pracodawcami i instytucjami rynku pracy służącą podnoszeniu kwalifikacji zawodowych uczniów jako przyszłych absolwentów </a:t>
            </a:r>
            <a:br>
              <a:rPr sz="1400"/>
            </a:br>
            <a:r>
              <a:rPr b="0" lang="pl-PL" sz="1400" spc="-1" strike="noStrike">
                <a:solidFill>
                  <a:srgbClr val="000000"/>
                </a:solidFill>
                <a:latin typeface="Arial"/>
                <a:ea typeface="Arial"/>
              </a:rPr>
              <a:t>i wzmacnianie ich zdolności do zatrudnienia (w tym zwłaszcza w zakresie praktycznych form nauczania – staże i praktyk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yposażenie szkół i placówek prowadzących kształcenie zawodowe w nowoczesne materiały dydaktyczne (w tym podręczniki szkolne) zapewniające wysoką jakość kształcenia,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drożenie nowych, innowacyjnych form nauczania i oceniania cechujących się wyższą skutecznością niż formy tradycyjn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drażanie programów i narzędzi efektywnego zarządzania placówką oświatową przyczyniających się do poprawę jakości naucz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czniów i słuchaczy szkół i placówek oświatowych prowadzących kształcenie zawodowe </a:t>
            </a:r>
            <a:br>
              <a:rPr sz="1400"/>
            </a:br>
            <a:r>
              <a:rPr b="0" lang="pl-PL" sz="1400" spc="-1" strike="noStrike">
                <a:solidFill>
                  <a:srgbClr val="000000"/>
                </a:solidFill>
                <a:latin typeface="Arial"/>
                <a:ea typeface="Arial"/>
              </a:rPr>
              <a:t>(z wyłączeniem słuchaczy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i placówek (instytucji i kadry pedagogicznej) prowadzącej kształcenie zawodowe </a:t>
            </a:r>
            <a:br>
              <a:rPr sz="1400"/>
            </a:br>
            <a:r>
              <a:rPr b="0" lang="pl-PL" sz="1400" spc="-1" strike="noStrike">
                <a:solidFill>
                  <a:srgbClr val="000000"/>
                </a:solidFill>
                <a:latin typeface="Arial"/>
                <a:ea typeface="Arial"/>
              </a:rPr>
              <a:t>(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policealn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ów społeczno – gospodarcz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daw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11-04T14:21:27Z</dcterms:modified>
  <cp:revision>463</cp:revision>
  <dc:subject/>
  <dc:title>Slajd 1</dc:title>
</cp:coreProperties>
</file>