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8EAC-3FFE-4D12-8DB4-F539AF26083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8F01-BF2A-456A-8221-51B590C894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CBA4-A177-4293-8E5C-54A0B859DF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2/8.1.1/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9 czerwc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42600" y="1193400"/>
            <a:ext cx="7929720" cy="5164200"/>
          </a:xfrm>
          <a:prstGeom prst="rect">
            <a:avLst/>
          </a:prstGeom>
          <a:noFill/>
          <a:ln w="0">
            <a:noFill/>
          </a:ln>
        </p:spPr>
        <p:txBody>
          <a:bodyPr anchor="t">
            <a:normAutofit fontScale="60000"/>
          </a:bodyPr>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05560" indent="-20556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inimalna wartość projektu wynosi 200 tysięcy złotych.</a:t>
            </a: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Stosuje się do typu projektu nr 1</a:t>
            </a: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05560" indent="-2055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Aby wniosek spełnił kryterium, w części IV wniosku </a:t>
            </a:r>
            <a:r>
              <a:rPr b="0" i="1" lang="pl-PL" sz="1400" spc="-1" strike="noStrike">
                <a:solidFill>
                  <a:srgbClr val="000000"/>
                </a:solidFill>
                <a:latin typeface="Arial"/>
                <a:ea typeface="Arial"/>
              </a:rPr>
              <a:t>Budżet projektu, w wierszu 4.1 Koszty ogółem, w kolumnie ogółem musi widnieć kwota nie mniejsza niż 200 tysięcy zł. </a:t>
            </a: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inimalna wartość projektu wynosi 100 tysięcy złotych.</a:t>
            </a: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Stosuje się do typu projektu nr 2</a:t>
            </a: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05560" indent="-2055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Aby wniosek spełnił kryterium, w części IV wniosku </a:t>
            </a:r>
            <a:r>
              <a:rPr b="0" i="1" lang="pl-PL" sz="1400" spc="-1" strike="noStrike">
                <a:solidFill>
                  <a:srgbClr val="000000"/>
                </a:solidFill>
                <a:latin typeface="Arial"/>
                <a:ea typeface="Arial"/>
              </a:rPr>
              <a:t>Budżet projektu, w wierszu 4.1 Koszty ogółem, w kolumnie ogółem musi widnieć kwota nie mniejsza niż 100 tysięcy zł. </a:t>
            </a:r>
            <a:r>
              <a:rPr b="0" i="1" lang="pl-PL" sz="1400" spc="-1" strike="noStrike">
                <a:solidFill>
                  <a:srgbClr val="000000"/>
                </a:solidFill>
                <a:latin typeface="Tahoma"/>
              </a:rPr>
              <a:t>	</a:t>
            </a: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05560" indent="-2055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571320" y="1143000"/>
            <a:ext cx="8001000" cy="5214960"/>
          </a:xfrm>
          <a:prstGeom prst="rect">
            <a:avLst/>
          </a:prstGeom>
          <a:noFill/>
          <a:ln w="0">
            <a:noFill/>
          </a:ln>
        </p:spPr>
        <p:txBody>
          <a:bodyPr anchor="t">
            <a:normAutofit fontScale="88000"/>
          </a:bodyPr>
          <a:p>
            <a:pPr marL="301680" indent="-301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01680" indent="-30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01680" indent="-301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ea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ea typeface="Arial"/>
              </a:rPr>
              <a:t>po zakończeniu jego realizacji.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Stosuje się do typów projektów nr 1 i 2</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punkcie 3.5 wniosku projektodawca musi jasno zadeklarować, że w okresie realizacji projektu będzie prowadził biuro na terenie województwa, w którym będzie dostępna pełna dokumentacja projektu (również po jego zakończeniu) oraz będzie pracował kluczowy personel realizujący projekt.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śli projektodawca posiada siedzibę na terenie województwa zachodniopomorskiego (wskazaną w punkcie 2.5 wniosku) to jest to wystarczające dla spełnienia kryterium.</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571320" y="1143000"/>
            <a:ext cx="8001000" cy="5214960"/>
          </a:xfrm>
          <a:prstGeom prst="rect">
            <a:avLst/>
          </a:prstGeom>
          <a:noFill/>
          <a:ln w="0">
            <a:noFill/>
          </a:ln>
        </p:spPr>
        <p:txBody>
          <a:bodyPr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32640" indent="-3326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100000"/>
              </a:lnSpc>
              <a:spcBef>
                <a:spcPts val="3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ę docelową stanowią przedsiębiorcy i pracownicy przedsiębiorców (w tym osoby wykonujące pracę na podstawie umowy cywilno-prawnej) prowadzących działalność gospodarczą na terenie województwa zachodniopomorskiego. Kryterium uznaje się </a:t>
            </a:r>
            <a:br>
              <a:rPr sz="1400"/>
            </a:br>
            <a:r>
              <a:rPr b="0" lang="pl-PL" sz="1400" spc="-1" strike="noStrike">
                <a:solidFill>
                  <a:srgbClr val="000000"/>
                </a:solidFill>
                <a:latin typeface="Arial"/>
                <a:ea typeface="Arial"/>
              </a:rPr>
              <a:t>za spełnione również w przypadku objęcia wsparciem pracowników wyodrębnionej organizacyjnie części przedsiębiorstwa (krajowego lub zagranicznego) funkcjonującej </a:t>
            </a:r>
            <a:br>
              <a:rPr sz="1400"/>
            </a:br>
            <a:r>
              <a:rPr b="0" lang="pl-PL" sz="1400" spc="-1" strike="noStrike">
                <a:solidFill>
                  <a:srgbClr val="000000"/>
                </a:solidFill>
                <a:latin typeface="Arial"/>
                <a:ea typeface="Arial"/>
              </a:rPr>
              <a:t>na terenie województwa zachodniopomorskiego (filia, oddział, zakład). </a:t>
            </a:r>
            <a:endParaRPr b="0" lang="en-US" sz="1400" spc="-1" strike="noStrike">
              <a:solidFill>
                <a:srgbClr val="000000"/>
              </a:solidFill>
              <a:latin typeface="Tahoma"/>
            </a:endParaRPr>
          </a:p>
          <a:p>
            <a:pPr marL="332640" indent="-3326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Stosuje się do typów projektów nr 1 i 2</a:t>
            </a:r>
            <a:endParaRPr b="0" lang="en-US" sz="1400" spc="-1" strike="noStrike">
              <a:solidFill>
                <a:srgbClr val="000000"/>
              </a:solidFill>
              <a:latin typeface="Tahoma"/>
            </a:endParaRPr>
          </a:p>
          <a:p>
            <a:pPr marL="332640" indent="-3326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32640" indent="-3326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części 3.2 wniosku należy wyraźnie zapisać, że odbiorców projektów będą stanowili przedsiębiorcy i ich pracownicy prowadzący działalność gospodarczą na terenie województwa zachodniopomorskiego. </a:t>
            </a:r>
            <a:endParaRPr b="0" lang="en-US" sz="1400" spc="-1" strike="noStrike">
              <a:solidFill>
                <a:srgbClr val="000000"/>
              </a:solidFill>
              <a:latin typeface="Tahoma"/>
            </a:endParaRPr>
          </a:p>
          <a:p>
            <a:pPr marL="332640" indent="-3326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wadzenie działalności gospodarczej na terenie województwa zachodniopomorskiego rozumiane jest jako prowadzenie działalności gospodarczej zarejestrowanej na terenie województwa zachodniopomorskiego, czyli wpis do ewidencji.</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32640" indent="-3326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332640" indent="-3326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71320" y="1143000"/>
            <a:ext cx="8001000" cy="4929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kres doradztwa udzielanego w projekcie nie pokrywa się z zakresem doradztwa, na które przedsiębiorstwo otrzymało już wsparcie w ramach Poddziałania 1.3.1 RPO WZ.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Stosuje się do typu projektu nr 2</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części 3.1 wniosku Projektodawca powinien zawrzeć jasną informację, iż zakres zaplanowanego wsparcia nie jest tożsamy z zakresem doradztwa dla przedsiębiorstw, udzielanego w ramach Poddziałania 1.3.1 RPO WZ.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Kryterium będzie weryfikowane również na podstawie zapisów części 3.3 wniosku </a:t>
            </a:r>
            <a:br>
              <a:rPr sz="1400"/>
            </a:br>
            <a:r>
              <a:rPr b="0" lang="pl-PL" sz="1400" spc="-1" strike="noStrike">
                <a:solidFill>
                  <a:srgbClr val="000000"/>
                </a:solidFill>
                <a:latin typeface="Arial"/>
                <a:ea typeface="Arial"/>
              </a:rPr>
              <a:t>o dofinansowanie. </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71320" y="1143000"/>
            <a:ext cx="8001000" cy="4929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kodawca nie otrzymał pomocy z innych programów operacyjnych w odniesieniu do tych samych wydatków kwalifikowanych związanych z danym projektem, a uczestnikiem projektu nie jest uczestnik Działania 6.2 Promocja Przedsiębiorczości i samozatrudnienia lub Poddziałania 8.1.2 Wsparcie procesów adaptacyjnych i modernizacyjnych w regionie otrzymujący wsparcie pomostow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Stosuje się do typu projektu nr 2</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a podstawie podpisu/ podpisów złożonego/ złożonych w części </a:t>
            </a:r>
            <a:r>
              <a:rPr b="0" i="1" lang="pl-PL" sz="1400" spc="-1" strike="noStrike">
                <a:solidFill>
                  <a:srgbClr val="000000"/>
                </a:solidFill>
                <a:latin typeface="Arial"/>
                <a:ea typeface="Arial"/>
              </a:rPr>
              <a:t>V wniosku o dofinansowanie Oświadczenie weryfikuje się czy wnioskodawca nie otrzymał pomocy z innych programów operacyjnych w odniesieniu do tych samych wydatków kwalifikowalnych związanych z danym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części 3.2 wniosku o dofinansowanie projektodawca powinien zawrzeć jasną informację </a:t>
            </a:r>
            <a:br>
              <a:rPr sz="1400"/>
            </a:br>
            <a:r>
              <a:rPr b="0" lang="pl-PL" sz="1400" spc="-1" strike="noStrike">
                <a:solidFill>
                  <a:srgbClr val="000000"/>
                </a:solidFill>
                <a:latin typeface="Arial"/>
                <a:ea typeface="Arial"/>
              </a:rPr>
              <a:t>o tym, iż uczestnikami projektu nie będą osoby korzystające ze wsparcia w ramach Działania </a:t>
            </a:r>
            <a:r>
              <a:rPr b="0" i="1" lang="pl-PL" sz="1400" spc="-1" strike="noStrike">
                <a:solidFill>
                  <a:srgbClr val="000000"/>
                </a:solidFill>
                <a:latin typeface="Arial"/>
                <a:ea typeface="Arial"/>
              </a:rPr>
              <a:t>6.2 Wsparcie oraz Promocja przedsiębiorczości i samozatrudnienia lub Poddziałania 8.1.2 Wsparcie procesów adaptacyjnych i modernizacyjnych w regionie. </a:t>
            </a:r>
            <a:r>
              <a:rPr b="0" i="1" lang="pl-PL" sz="1400" spc="-1" strike="noStrike">
                <a:solidFill>
                  <a:srgbClr val="000000"/>
                </a:solidFill>
                <a:latin typeface="Tahoma"/>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571320" y="1214280"/>
            <a:ext cx="8001000" cy="4911840"/>
          </a:xfrm>
          <a:prstGeom prst="rect">
            <a:avLst/>
          </a:prstGeom>
          <a:noFill/>
          <a:ln w="0">
            <a:noFill/>
          </a:ln>
        </p:spPr>
        <p:txBody>
          <a:bodyPr anchor="t">
            <a:normAutofit fontScale="71000"/>
          </a:bodyPr>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zapewnia dodatkowo, poza innymi szkoleniami, moduł poświęcony na szkolenia dla kadry kierowniczej z zakresu stosowania i wdrożenia jednej lub kilku z następujących strategii zarządzania: intermentoring; mentoring; coaching; zarządzanie różnorodnością, w tym </a:t>
            </a:r>
            <a:br>
              <a:rPr sz="1400"/>
            </a:br>
            <a:r>
              <a:rPr b="0" lang="pl-PL" sz="1400" spc="-1" strike="noStrike">
                <a:solidFill>
                  <a:srgbClr val="000000"/>
                </a:solidFill>
                <a:latin typeface="Arial"/>
                <a:ea typeface="Arial"/>
              </a:rPr>
              <a:t>w szczególności zarządzanie wiekiem oraz zarządzania pracownikiem niepełnosprawnym </a:t>
            </a:r>
            <a:br>
              <a:rPr sz="1400"/>
            </a:br>
            <a:r>
              <a:rPr b="0" lang="pl-PL" sz="1400" spc="-1" strike="noStrike">
                <a:solidFill>
                  <a:srgbClr val="000000"/>
                </a:solidFill>
                <a:latin typeface="Arial"/>
                <a:ea typeface="Arial"/>
              </a:rPr>
              <a:t>i wykluczonym społecznie oraz zawodowo; tworzenie i wdrażanie strategii rozwoju przedsiębiorstwa; tworzenie i wdrażanie planów szkoleniowych pod potrzeby firmy; planowanie ścieżki kariery pracownika w firmie; zarządzanie wiedzą w organizacji. </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aga punktowa: 5 </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Stosuje się do typu projektu 1 </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43360" indent="-2433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częściach 3.1 i 3.3 wniosku o dofinansowanie należy jasno przedstawić, iż zaplanowane zostały dodatkowe moduły szkoleniowe dla kadry kierowniczej z zakresu wskazanego </a:t>
            </a:r>
            <a:br>
              <a:rPr sz="1400"/>
            </a:br>
            <a:r>
              <a:rPr b="0" lang="pl-PL" sz="1400" spc="-1" strike="noStrike">
                <a:solidFill>
                  <a:srgbClr val="000000"/>
                </a:solidFill>
                <a:latin typeface="Arial"/>
                <a:ea typeface="Arial"/>
              </a:rPr>
              <a:t>w kryterium, tj.: intermentoring; mentoring; coaching; zarządzanie różnorodnością, w tym </a:t>
            </a:r>
            <a:br>
              <a:rPr sz="1400"/>
            </a:br>
            <a:r>
              <a:rPr b="0" lang="pl-PL" sz="1400" spc="-1" strike="noStrike">
                <a:solidFill>
                  <a:srgbClr val="000000"/>
                </a:solidFill>
                <a:latin typeface="Arial"/>
                <a:ea typeface="Arial"/>
              </a:rPr>
              <a:t>w szczególności zarządzanie wiekiem oraz zarządzania pracownikiem niepełnosprawnym </a:t>
            </a:r>
            <a:br>
              <a:rPr sz="1400"/>
            </a:br>
            <a:r>
              <a:rPr b="0" lang="pl-PL" sz="1400" spc="-1" strike="noStrike">
                <a:solidFill>
                  <a:srgbClr val="000000"/>
                </a:solidFill>
                <a:latin typeface="Arial"/>
                <a:ea typeface="Arial"/>
              </a:rPr>
              <a:t>i wykluczonym społecznie oraz zawodowo; tworzenie i wdrażanie strategii rozwoju przedsiębiorstwa; tworzenie i wdrażanie planów szkoleniowych pod potrzeby firmy; planowanie ścieżki kariery pracownika w firmie; zarządzanie wiedzą w organizacji.</a:t>
            </a:r>
            <a:endParaRPr b="0" lang="en-US" sz="1400" spc="-1" strike="noStrike">
              <a:solidFill>
                <a:srgbClr val="000000"/>
              </a:solidFill>
              <a:latin typeface="Tahoma"/>
            </a:endParaRPr>
          </a:p>
          <a:p>
            <a:pPr marL="243360" indent="-2433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oduły te należy opisać szczegółowo, wskazując na ich zakres merytoryczny, tak aby możliwe było jednoznaczne stwierdzenie, iż są to strategie wskazane w kryterium.</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43360" indent="-243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3360" indent="-2433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43360" indent="-243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71320" y="1214280"/>
            <a:ext cx="8001000" cy="4911840"/>
          </a:xfrm>
          <a:prstGeom prst="rect">
            <a:avLst/>
          </a:prstGeom>
          <a:noFill/>
          <a:ln w="0">
            <a:noFill/>
          </a:ln>
        </p:spPr>
        <p:txBody>
          <a:bodyPr anchor="t">
            <a:normAutofit fontScale="88000"/>
          </a:bodyPr>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przewiduje objęcie szkoleniami w co najmniej 60 % pracowników z grupy 45+, </a:t>
            </a:r>
            <a:br>
              <a:rPr sz="1400"/>
            </a:br>
            <a:r>
              <a:rPr b="0" lang="pl-PL" sz="1400" spc="-1" strike="noStrike">
                <a:solidFill>
                  <a:srgbClr val="000000"/>
                </a:solidFill>
                <a:latin typeface="Arial"/>
                <a:ea typeface="Arial"/>
              </a:rPr>
              <a:t>a szkolenia te przyczynią się do rozwoju umiejętności w zakresie technologii informacyjno-komunikacyjnych (ICT) wśród tej grupy pracowników oraz zapewnią utrzymanie ich </a:t>
            </a:r>
            <a:br>
              <a:rPr sz="1400"/>
            </a:br>
            <a:r>
              <a:rPr b="0" lang="pl-PL" sz="1400" spc="-1" strike="noStrike">
                <a:solidFill>
                  <a:srgbClr val="000000"/>
                </a:solidFill>
                <a:latin typeface="Arial"/>
                <a:ea typeface="Arial"/>
              </a:rPr>
              <a:t>w zatrudnieniu.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aga punktowa: 20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Stosuje się do typu projektu 1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części 3.2 wniosku Projektodawca powinien wyraźnie wskazać, że odbiorców projektu będą stanowiły osoby należące do grupy wiekowej 45+ i wskazać jaki procent ogółu uczestników będą oni stanowili.</a:t>
            </a: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częściach 3.3 (ewentualnie 3.4) projektodawca powinien opisać, na czym będzie polegać planowane wsparcie dla grupy wiekowej 45+, z uwzględnieniem potrzeb tej grupy i wskazać jak szkolenie przyczyni się do utrzymania ich w zatrudnieniu. </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301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301680" indent="-301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42600" y="1214280"/>
            <a:ext cx="7929720" cy="4911840"/>
          </a:xfrm>
          <a:prstGeom prst="rect">
            <a:avLst/>
          </a:prstGeom>
          <a:noFill/>
          <a:ln w="0">
            <a:noFill/>
          </a:ln>
        </p:spPr>
        <p:txBody>
          <a:bodyPr anchor="t">
            <a:normAutofit fontScale="75000"/>
          </a:bodyPr>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inimum 50% uczestników projektu jest szkolonych na potrzeby przedsięwzięć, które otrzymały dofinansowanie w ramach RPO WZ lub min. 50% uczestników projektu stanowią pracownicy firm zlokalizowanych w strefach inwestycyjnych dofinansowanych z RPO WZ. </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aga punktowa: 5 </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Stosuje się do typu projektu 1 </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57040" indent="-257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części 3.2 Projektodawca powinien zawrzeć informację na temat tego, czy oraz ilu uczestników planowanych do objęcia wsparciem w ramach projektu stanowią osoby szkolone na potrzeby przedsięwzięć, które otrzymały dofinansowanie w ramach RPO WZ – i jakie </a:t>
            </a:r>
            <a:br>
              <a:rPr sz="1400"/>
            </a:br>
            <a:r>
              <a:rPr b="0" lang="pl-PL" sz="1400" spc="-1" strike="noStrike">
                <a:solidFill>
                  <a:srgbClr val="000000"/>
                </a:solidFill>
                <a:latin typeface="Arial"/>
                <a:ea typeface="Arial"/>
              </a:rPr>
              <a:t>to są przedsięwzięcia, lub </a:t>
            </a:r>
            <a:endParaRPr b="0" lang="en-US" sz="1400" spc="-1" strike="noStrike">
              <a:solidFill>
                <a:srgbClr val="000000"/>
              </a:solidFill>
              <a:latin typeface="Tahoma"/>
            </a:endParaRPr>
          </a:p>
          <a:p>
            <a:pPr marL="257040" indent="-257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awrzeć informację czy min. 50% uczestników projektu stanowią pracownicy firm zlokalizowanych w strefach inwestycyjnych dofinansowanych z RPO WZ. Należy konkretnie podać o których stref to dotyczy w projekcie. </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57040" indent="-25704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nformacje na temat procentowego udziału uczestników w projekcie powinny być zawarte </a:t>
            </a:r>
            <a:br>
              <a:rPr sz="1400"/>
            </a:br>
            <a:r>
              <a:rPr b="0" lang="pl-PL" sz="1400" spc="-1" strike="noStrike">
                <a:solidFill>
                  <a:srgbClr val="000000"/>
                </a:solidFill>
                <a:latin typeface="Arial"/>
                <a:ea typeface="Arial"/>
              </a:rPr>
              <a:t>w części 3.2 wniosku. </a:t>
            </a:r>
            <a:r>
              <a:rPr b="0" lang="pl-PL" sz="1400" spc="-1" strike="noStrike">
                <a:solidFill>
                  <a:srgbClr val="000000"/>
                </a:solidFill>
                <a:latin typeface="Tahoma"/>
              </a:rPr>
              <a:t>	</a:t>
            </a: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7040" indent="-257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42600" y="1214280"/>
            <a:ext cx="7929720" cy="4911840"/>
          </a:xfrm>
          <a:prstGeom prst="rect">
            <a:avLst/>
          </a:prstGeom>
          <a:noFill/>
          <a:ln w="0">
            <a:noFill/>
          </a:ln>
        </p:spPr>
        <p:txBody>
          <a:bodyPr anchor="t">
            <a:normAutofit fontScale="89000"/>
          </a:bodyPr>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Grupą docelową, w ramach projektów oferujących wsparcie w formie szkoleń, są wyłącznie pracownicy mikro, małych i średnich przedsiębiorstw, a wsparcie kierowane jest </a:t>
            </a:r>
            <a:br>
              <a:rPr sz="1400"/>
            </a:br>
            <a:r>
              <a:rPr b="0" lang="pl-PL" sz="1400" spc="-1" strike="noStrike">
                <a:solidFill>
                  <a:srgbClr val="000000"/>
                </a:solidFill>
                <a:latin typeface="Arial"/>
                <a:ea typeface="Arial"/>
              </a:rPr>
              <a:t>do pracowników konkretnych przedsiębiorstw z tej grupy, wskazanych we wniosku </a:t>
            </a:r>
            <a:br>
              <a:rPr sz="1400"/>
            </a:br>
            <a:r>
              <a:rPr b="0" lang="pl-PL" sz="1400" spc="-1" strike="noStrike">
                <a:solidFill>
                  <a:srgbClr val="000000"/>
                </a:solidFill>
                <a:latin typeface="Arial"/>
                <a:ea typeface="Arial"/>
              </a:rPr>
              <a:t>o dofinansowanie. </a:t>
            </a: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aga punktowa: 10 </a:t>
            </a: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Stosuje się do typu projektu 1</a:t>
            </a: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rócz części 3.2, również w częściach 3.1, 3.3, oraz 3.4 wniosku należy podać informacje </a:t>
            </a:r>
            <a:br>
              <a:rPr sz="1400"/>
            </a:br>
            <a:r>
              <a:rPr b="0" lang="pl-PL" sz="1400" spc="-1" strike="noStrike">
                <a:solidFill>
                  <a:srgbClr val="000000"/>
                </a:solidFill>
                <a:latin typeface="Arial"/>
                <a:ea typeface="Arial"/>
              </a:rPr>
              <a:t>na temat grupy docelowej, oznacza to, iż w niemal w całym wniosku powinny przewijać się informacje dokładnie opisujące grupę przedsiębiorstw do jakich skierowany jest projekt. </a:t>
            </a: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przypadku kierowania wsparcia do konkretnych przedsiębiorstw, znanych na etapie konstruowania wniosku, należy pamiętać o objęciu kosztów zarządzania projektem pomocą publiczną. </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W ramach Priorytetu VIII, Poddziałania 8.1.1 w odniesieniu do typów projektów opisywanych </a:t>
            </a:r>
            <a:br>
              <a:rPr sz="1400"/>
            </a:br>
            <a:r>
              <a:rPr b="0" lang="pl-PL" sz="1400" spc="-1" strike="noStrike">
                <a:solidFill>
                  <a:srgbClr val="000000"/>
                </a:solidFill>
                <a:latin typeface="Arial"/>
                <a:ea typeface="Arial"/>
              </a:rPr>
              <a:t>w niniejszej Dokumentacji konkursowej stosowane są poniższe kategorie pomocy publicznej: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omoc publiczna szkolenia ogólne i specjalistyczne;</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omoc publiczna na zakup usług doradczych dla mikro-, małych i średnich przedsiębiorst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0.04.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u </a:t>
            </a:r>
            <a:r>
              <a:rPr b="1" lang="pl-PL" sz="1400" spc="-1" strike="noStrike">
                <a:solidFill>
                  <a:srgbClr val="ff0000"/>
                </a:solidFill>
                <a:latin typeface="Arial"/>
              </a:rPr>
              <a:t>2/8.1.1/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3" descr=""/>
          <p:cNvPicPr/>
          <p:nvPr/>
        </p:nvPicPr>
        <p:blipFill>
          <a:blip r:embed="rId1"/>
          <a:stretch/>
        </p:blipFill>
        <p:spPr>
          <a:xfrm>
            <a:off x="781200" y="1639800"/>
            <a:ext cx="7753320" cy="464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82"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5"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87"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9"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0"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92"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3"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5"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6"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97"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0"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3"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2/8.1.1/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6"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9"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2"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5"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8"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1"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4"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7"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31"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720"/>
            <a:ext cx="8229600" cy="5357520"/>
          </a:xfrm>
          <a:prstGeom prst="rect">
            <a:avLst/>
          </a:prstGeom>
          <a:noFill/>
          <a:ln w="0">
            <a:noFill/>
          </a:ln>
        </p:spPr>
        <p:txBody>
          <a:bodyPr anchor="t">
            <a:normAutofit fontScale="89000"/>
          </a:bodyPr>
          <a:p>
            <a:pPr marL="305280" indent="-3052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3052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2/8.1.1/10 jest </a:t>
            </a:r>
            <a:r>
              <a:rPr b="1" lang="pl-PL" sz="1400" spc="-1" strike="noStrike" u="sng">
                <a:solidFill>
                  <a:srgbClr val="ff0000"/>
                </a:solidFill>
                <a:uFillTx/>
                <a:latin typeface="Arial"/>
              </a:rPr>
              <a:t>konkursem otwartym</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nioski o dofinansowanie projektu można składać osobiście, kurierem lub pocztą</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o Wojewódzkiego Urzędu Pracy </a:t>
            </a:r>
            <a:r>
              <a:rPr b="1" lang="pl-PL" sz="1400" spc="-1" strike="noStrike">
                <a:solidFill>
                  <a:srgbClr val="ff0000"/>
                </a:solidFill>
                <a:latin typeface="Arial"/>
                <a:ea typeface="Arial"/>
              </a:rPr>
              <a:t>od dnia 2 czerwca 2010 r. od godz. 9.00 </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ea typeface="Arial"/>
              </a:rPr>
              <a:t>w godzinach od 9.00 do 15.00</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Szczecin - pokój nr 211 </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Koszalin – pokój 25</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ecyduje data wpływu wniosku do Wojewódzkiego Urzędu Pracy)</a:t>
            </a:r>
            <a:endParaRPr b="0" lang="en-US" sz="1400" spc="-1" strike="noStrike">
              <a:solidFill>
                <a:srgbClr val="000000"/>
              </a:solidFill>
              <a:latin typeface="Tahoma"/>
            </a:endParaRPr>
          </a:p>
          <a:p>
            <a:pPr marL="305280" indent="-3052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siedzenia Komisji Oceny Projektów zaplanowano kolejno na:</a:t>
            </a:r>
            <a:endParaRPr b="0" lang="en-US" sz="1400" spc="-1" strike="noStrike">
              <a:solidFill>
                <a:srgbClr val="000000"/>
              </a:solidFill>
              <a:latin typeface="Tahoma"/>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5 lipca 2010 r.</a:t>
            </a:r>
            <a:r>
              <a:rPr b="0" lang="pl-PL" sz="1400" spc="-1" strike="noStrike">
                <a:solidFill>
                  <a:srgbClr val="000000"/>
                </a:solidFill>
                <a:latin typeface="Arial"/>
              </a:rPr>
              <a:t>– termin złożenia projektu warunkujący przekazanie wniosku do oceny merytorycznej na tym posiedzeniu Komisji upływa z dniem </a:t>
            </a:r>
            <a:r>
              <a:rPr b="1" lang="pl-PL" sz="1400" spc="-1" strike="noStrike">
                <a:solidFill>
                  <a:srgbClr val="000000"/>
                </a:solidFill>
                <a:latin typeface="Arial"/>
              </a:rPr>
              <a:t>25 czerwca;</a:t>
            </a:r>
            <a:endParaRPr b="0" lang="en-US" sz="1400" spc="-1" strike="noStrike">
              <a:solidFill>
                <a:srgbClr val="000000"/>
              </a:solidFill>
              <a:latin typeface="Tahoma"/>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7 sierpnia 2010 r.</a:t>
            </a:r>
            <a:r>
              <a:rPr b="0" lang="pl-PL" sz="1400" spc="-1" strike="noStrike">
                <a:solidFill>
                  <a:srgbClr val="000000"/>
                </a:solidFill>
                <a:latin typeface="Arial"/>
              </a:rPr>
              <a:t>- – termin złożenia projektu warunkujący przekazanie wniosku do oceny merytorycznej na tym posiedzeniu Komisji upływa z dniem </a:t>
            </a:r>
            <a:r>
              <a:rPr b="1" lang="pl-PL" sz="1400" spc="-1" strike="noStrike">
                <a:solidFill>
                  <a:srgbClr val="000000"/>
                </a:solidFill>
                <a:latin typeface="Arial"/>
              </a:rPr>
              <a:t>28 lipca.</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3"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35"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7"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9"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40"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41"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11280" y="1125360"/>
            <a:ext cx="8229600" cy="54295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Najczęściej popełniane błędy formalne</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zostawienie pustych pól w załączniku finansowym – właściwe jest wpisanie w pola, gdzie wartości są zerowe, cyfry „0” lub wstawienie znaku „-”</a:t>
            </a:r>
            <a:endParaRPr b="0" lang="en-US" sz="14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łożenie zamiast załącznika finansowego, sporządzonego wg wzoru wskazanego w Dokumentacji Konkursowej, pełnego sprawozdania finansowego</a:t>
            </a:r>
            <a:endParaRPr b="0" lang="en-US" sz="14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 parafek osób podpisujących załącznik finansowy na jego pierwszej stronie w sytuacji, gdy składa się z więcej niż jednej strony</a:t>
            </a:r>
            <a:endParaRPr b="0" lang="en-US" sz="14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uzupełnienie załącznika finansowego o informacje dotyczące okresu prowadzenia działalności</a:t>
            </a:r>
            <a:endParaRPr b="0" lang="en-US" sz="14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właściwe bądź brak wykreślenie informacji w deklaracji dotyczącej sposobu prowadzenia księgowości u wnioskodawcy w załączniku finansowym</a:t>
            </a:r>
            <a:endParaRPr b="0" lang="en-US" sz="14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spójne z deklaracją dot. sposobu prowadzenia księgowości złożenie podpisów pod informacją finansową. </a:t>
            </a:r>
            <a:endParaRPr b="0" lang="en-US" sz="14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awanie niewłaściwego nr konkursu.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4000" y="981000"/>
            <a:ext cx="8002440" cy="540072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ea typeface="Arial"/>
              </a:rPr>
              <a:t>3.1 Uzasadnienie potrzeby realizacji projektu:</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a:t>
            </a:r>
            <a:r>
              <a:rPr b="0" lang="pl-PL" sz="1500" spc="-1" strike="noStrike" u="sng">
                <a:solidFill>
                  <a:srgbClr val="000000"/>
                </a:solidFill>
                <a:uFillTx/>
                <a:latin typeface="Arial"/>
                <a:ea typeface="Arial"/>
              </a:rPr>
              <a:t>rzetelnej diagnozy</a:t>
            </a:r>
            <a:r>
              <a:rPr b="0" lang="pl-PL" sz="1500" spc="-1" strike="noStrike">
                <a:solidFill>
                  <a:srgbClr val="000000"/>
                </a:solidFill>
                <a:latin typeface="Arial"/>
                <a:ea typeface="Arial"/>
              </a:rPr>
              <a:t> i </a:t>
            </a:r>
            <a:r>
              <a:rPr b="0" lang="pl-PL" sz="1500" spc="-1" strike="noStrike" u="sng">
                <a:solidFill>
                  <a:srgbClr val="000000"/>
                </a:solidFill>
                <a:uFillTx/>
                <a:latin typeface="Arial"/>
                <a:ea typeface="Arial"/>
              </a:rPr>
              <a:t>analizy aktualnej sytuacji</a:t>
            </a:r>
            <a:r>
              <a:rPr b="0" lang="pl-PL" sz="1500" spc="-1" strike="noStrike">
                <a:solidFill>
                  <a:srgbClr val="000000"/>
                </a:solidFill>
                <a:latin typeface="Arial"/>
                <a:ea typeface="Arial"/>
              </a:rPr>
              <a:t> w obszarze, który wymaga zdaniem wnioskodawcy zmiany, a tym samym niewłaściwe definiowanie problemów;</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należy precyzyjnie zdefiniować obszar – odnieść się do informacji zawartych w pkt 1.9 wniosku;</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odniesień w diagnozie do wskazanego przez wnioskodawcę obszaru występowania problemów rynku lokalnego oraz samego przedsiębiorstwa/przedsiębiorstw, które zamierzają uzyskać wsparcie lub które mają być objęte wsparciem;</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niepoprawnie sformułowane cele, niezgodne z Podziałaniem, nie wynikające </a:t>
            </a:r>
            <a:br>
              <a:rPr sz="1500"/>
            </a:br>
            <a:r>
              <a:rPr b="0" lang="pl-PL" sz="1500" spc="-1" strike="noStrike">
                <a:solidFill>
                  <a:srgbClr val="000000"/>
                </a:solidFill>
                <a:latin typeface="Arial"/>
                <a:ea typeface="Arial"/>
              </a:rPr>
              <a:t>z diagnozy i opisu problemu – </a:t>
            </a:r>
            <a:r>
              <a:rPr b="1" lang="pl-PL" sz="1500" spc="-1" strike="noStrike">
                <a:solidFill>
                  <a:srgbClr val="000000"/>
                </a:solidFill>
                <a:latin typeface="Arial"/>
                <a:ea typeface="Arial"/>
              </a:rPr>
              <a:t>cel projektu to </a:t>
            </a:r>
            <a:r>
              <a:rPr b="1" lang="pl-PL" sz="1500" spc="-1" strike="noStrike" u="sng">
                <a:solidFill>
                  <a:srgbClr val="000000"/>
                </a:solidFill>
                <a:uFillTx/>
                <a:latin typeface="Arial"/>
                <a:ea typeface="Arial"/>
              </a:rPr>
              <a:t>stan pożądany</a:t>
            </a:r>
            <a:r>
              <a:rPr b="1" lang="pl-PL" sz="1500" spc="-1" strike="noStrike">
                <a:solidFill>
                  <a:srgbClr val="000000"/>
                </a:solidFill>
                <a:latin typeface="Arial"/>
                <a:ea typeface="Arial"/>
              </a:rPr>
              <a:t> w obszarze będącym przedmiotem naszego zainteresowania po zrealizowaniu projektu; to </a:t>
            </a:r>
            <a:r>
              <a:rPr b="1" lang="pl-PL" sz="1500" spc="-1" strike="noStrike" u="sng">
                <a:solidFill>
                  <a:srgbClr val="000000"/>
                </a:solidFill>
                <a:uFillTx/>
                <a:latin typeface="Arial"/>
                <a:ea typeface="Arial"/>
              </a:rPr>
              <a:t>zmiana </a:t>
            </a:r>
            <a:r>
              <a:rPr b="1" lang="pl-PL" sz="1500" spc="-1" strike="noStrike">
                <a:solidFill>
                  <a:srgbClr val="000000"/>
                </a:solidFill>
                <a:latin typeface="Arial"/>
                <a:ea typeface="Arial"/>
              </a:rPr>
              <a:t>jaka nastąpi w sytuacji grup docelowych.</a:t>
            </a:r>
            <a:endParaRPr b="0" lang="en-US" sz="1500" spc="-1" strike="noStrike">
              <a:solidFill>
                <a:srgbClr val="000000"/>
              </a:solidFill>
              <a:latin typeface="Tahoma"/>
            </a:endParaRPr>
          </a:p>
          <a:p>
            <a:pPr marL="266760" indent="-2667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981000"/>
            <a:ext cx="8002440" cy="540072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ea typeface="Arial"/>
              </a:rPr>
              <a:t>3.1 Uzasadnienie potrzeby realizacji projektu:</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wykazania korelacji pomiędzy zidentyfikowanym problemem, a planowanym wsparciem;</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konieczne jest wykazanie, iż poprzez udzielenie pomocy publicznej </a:t>
            </a:r>
            <a:r>
              <a:rPr b="0" lang="pl-PL" sz="1500" spc="-1" strike="noStrike" u="sng">
                <a:solidFill>
                  <a:srgbClr val="000000"/>
                </a:solidFill>
                <a:uFillTx/>
                <a:latin typeface="Arial"/>
                <a:ea typeface="Arial"/>
              </a:rPr>
              <a:t>spełniony zostanie efekt zachęty</a:t>
            </a:r>
            <a:r>
              <a:rPr b="0" lang="pl-PL" sz="1500" spc="-1" strike="noStrike">
                <a:solidFill>
                  <a:srgbClr val="000000"/>
                </a:solidFill>
                <a:latin typeface="Arial"/>
                <a:ea typeface="Arial"/>
              </a:rPr>
              <a:t>;</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zgodność projektu z celami szczegółowymi PO KL to nie deklaracja „projekt jest zgodny”, lecz przeprowadzenie dowodu na to, że jest zgodny – z jakimi celami, </a:t>
            </a:r>
            <a:br>
              <a:rPr sz="1500"/>
            </a:br>
            <a:r>
              <a:rPr b="0" lang="pl-PL" sz="1500" spc="-1" strike="noStrike">
                <a:solidFill>
                  <a:srgbClr val="000000"/>
                </a:solidFill>
                <a:latin typeface="Arial"/>
                <a:ea typeface="Arial"/>
              </a:rPr>
              <a:t>w jaki sposób, w jakim stopniu.</a:t>
            </a:r>
            <a:endParaRPr b="0" lang="en-US" sz="1500" spc="-1" strike="noStrike">
              <a:solidFill>
                <a:srgbClr val="000000"/>
              </a:solidFill>
              <a:latin typeface="Tahoma"/>
            </a:endParaRPr>
          </a:p>
          <a:p>
            <a:pPr marL="266760" indent="-26676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	</a:t>
            </a:r>
            <a:r>
              <a:rPr b="1" lang="pl-PL" sz="1500" spc="-1" strike="noStrike">
                <a:solidFill>
                  <a:srgbClr val="000000"/>
                </a:solidFill>
                <a:latin typeface="Arial"/>
                <a:ea typeface="Arial"/>
              </a:rPr>
              <a:t>Projekt to zestaw działań służących zmianie opisanej sytuacji problemowej. Jakość analizy sytuacji problemowej, a zwłaszcza trafna identyfikacja przyczyn problemu, </a:t>
            </a:r>
            <a:br>
              <a:rPr sz="1500"/>
            </a:br>
            <a:r>
              <a:rPr b="1" lang="pl-PL" sz="1500" spc="-1" strike="noStrike">
                <a:solidFill>
                  <a:srgbClr val="000000"/>
                </a:solidFill>
                <a:latin typeface="Arial"/>
                <a:ea typeface="Arial"/>
              </a:rPr>
              <a:t>to jeden z kluczy do sukcesu projektu.</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642600" y="1214280"/>
            <a:ext cx="8002440" cy="491184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rPr>
              <a:t>3.2 Grupy docelowe projektu:</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grupa niedostosowana do proponowanego wsparcia, nie wynikająca z diagnozy – </a:t>
            </a:r>
            <a:r>
              <a:rPr b="1" lang="pl-PL" sz="1500" spc="-1" strike="noStrike">
                <a:solidFill>
                  <a:srgbClr val="000000"/>
                </a:solidFill>
                <a:latin typeface="Arial"/>
              </a:rPr>
              <a:t>GRUPĄ DOCELOWĄ W RAMACH TEGO KONKURSU SĄ </a:t>
            </a:r>
            <a:r>
              <a:rPr b="1" lang="pl-PL" sz="1500" spc="-1" strike="noStrike" u="sng">
                <a:solidFill>
                  <a:srgbClr val="000000"/>
                </a:solidFill>
                <a:uFillTx/>
                <a:latin typeface="Arial"/>
              </a:rPr>
              <a:t>PRZEDSIĘBIORCY </a:t>
            </a:r>
            <a:r>
              <a:rPr b="1" lang="pl-PL" sz="1500" spc="-1" strike="noStrike">
                <a:solidFill>
                  <a:srgbClr val="000000"/>
                </a:solidFill>
                <a:latin typeface="Arial"/>
              </a:rPr>
              <a:t>I ICH PRACOWNICY</a:t>
            </a:r>
            <a:r>
              <a:rPr b="0" lang="pl-PL" sz="1500" spc="-1" strike="noStrike">
                <a:solidFill>
                  <a:srgbClr val="000000"/>
                </a:solidFill>
                <a:latin typeface="Arial"/>
              </a:rPr>
              <a:t>;</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grupa przedstawiona w sposób ogólny, nie wskazujący na specyficzny charakter wnioskowanego wsparcia;</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opis grupy nie uwzględnia charakterystyk kluczowych:</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ależy </a:t>
            </a:r>
            <a:r>
              <a:rPr b="0" lang="pl-PL" sz="1500" spc="-1" strike="noStrike" u="sng">
                <a:solidFill>
                  <a:srgbClr val="000000"/>
                </a:solidFill>
                <a:uFillTx/>
                <a:latin typeface="Arial"/>
              </a:rPr>
              <a:t>przede wszystkim</a:t>
            </a:r>
            <a:r>
              <a:rPr b="0" lang="pl-PL" sz="1500" spc="-1" strike="noStrike">
                <a:solidFill>
                  <a:srgbClr val="000000"/>
                </a:solidFill>
                <a:latin typeface="Arial"/>
              </a:rPr>
              <a:t> scharakteryzować przedsiębiorstwa objęte wsparciem, </a:t>
            </a:r>
            <a:br>
              <a:rPr sz="1500"/>
            </a:br>
            <a:r>
              <a:rPr b="0" lang="pl-PL" sz="1500" spc="-1" strike="noStrike">
                <a:solidFill>
                  <a:srgbClr val="000000"/>
                </a:solidFill>
                <a:latin typeface="Arial"/>
              </a:rPr>
              <a:t>tj. wielkość, sytuacja na rynku, rodzaj produkcji/świadczonych usług, jakie mają potrzeby szkoleniowe/doradcze, </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scharakteryzować strukturę zatrudnienia np. wiek i płeć pracowników przedsiębiorców, kategorie zawodowe, poziom wykształcenia, staż zawodowy,</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iewystarczający opis rekrutacji, zbyt ogólnikowe stwierdzenia;</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iespójność grupy z realizowanym typem projektu;</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rak uzasadnienia </a:t>
            </a:r>
            <a:r>
              <a:rPr b="0" lang="pl-PL" sz="1500" spc="-1" strike="noStrike" u="sng">
                <a:solidFill>
                  <a:srgbClr val="000000"/>
                </a:solidFill>
                <a:uFillTx/>
                <a:latin typeface="Arial"/>
              </a:rPr>
              <a:t>liczebności grupy</a:t>
            </a:r>
            <a:r>
              <a:rPr b="0" lang="pl-PL" sz="1500" spc="-1" strike="noStrike">
                <a:solidFill>
                  <a:srgbClr val="000000"/>
                </a:solidFill>
                <a:latin typeface="Arial"/>
              </a:rPr>
              <a:t>.</a:t>
            </a:r>
            <a:endParaRPr b="0" lang="en-US" sz="15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8 700 000,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000000"/>
                </a:solidFill>
                <a:latin typeface="Tahoma"/>
              </a:rPr>
              <a:t> </a:t>
            </a:r>
            <a:r>
              <a:rPr b="1" lang="pl-PL" sz="1400" spc="-1" strike="noStrike">
                <a:solidFill>
                  <a:srgbClr val="ff0000"/>
                </a:solidFill>
                <a:latin typeface="Arial"/>
              </a:rPr>
              <a:t>7 395 000,00 zł </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 </a:t>
            </a:r>
            <a:r>
              <a:rPr b="1" lang="pl-PL" sz="1400" spc="-1" strike="noStrike">
                <a:solidFill>
                  <a:srgbClr val="ff0000"/>
                </a:solidFill>
                <a:latin typeface="Arial"/>
              </a:rPr>
              <a:t>1 305 000,00 zł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42600" y="1214280"/>
            <a:ext cx="8002440" cy="491184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ea typeface="Arial"/>
              </a:rPr>
              <a:t>3.3 Działania:</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ogólny opis działań, bez wskazania terminów realizacji, miejsca realizacji, osób odpowiedzialnych;</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informacji na temat organizacji planowanych form wsparcia, np. częstotliwość szkoleń, godziny szkoleń;</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informacji o zakresie merytorycznym planowanych form wsparcia, np. główne punkty programu szkolenia, możliwe do uzyskania uprawnienia po szkoleniu;</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niespójność z harmonogramem i budżetem;</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informacji o wymiarze etatów zarówno kadry projektu, jak i kadry merytorycznej;</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przyjęte działania musza wynikać ze zdefiniowanych wcześniej potrzeb grupy docelowej – tj. w przypadku przedmiotowego konkursu </a:t>
            </a:r>
            <a:r>
              <a:rPr b="1" lang="pl-PL" sz="1500" spc="-1" strike="noStrike">
                <a:solidFill>
                  <a:srgbClr val="000000"/>
                </a:solidFill>
                <a:latin typeface="Arial"/>
                <a:ea typeface="Arial"/>
              </a:rPr>
              <a:t>PRZEDSIĘBIORCÓW.</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rPr>
              <a:t>3.4 Rezultaty projektu:</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wskazane rezultaty stanowią w rzeczywistości produkty określające, jakie zadania będą realizowane w projekcie;</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rak czytelnego rozróżnienia pomiędzy rezultatami;</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ieadekwatność do realizowanych działań;</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rak informacji wskazujących na trwałość rezultatów oraz wartość dodaną;</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iespójność z celami projektu;</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rPr>
              <a:t>brak opisu wpływu rezultatów na realizację celów!!!</a:t>
            </a:r>
            <a:endParaRPr b="0" lang="en-US" sz="1500" spc="-1" strike="noStrike">
              <a:solidFill>
                <a:srgbClr val="000000"/>
              </a:solidFill>
              <a:latin typeface="Tahoma"/>
            </a:endParaRPr>
          </a:p>
          <a:p>
            <a:pPr marL="266760" indent="-266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rPr>
              <a:t>3.4 Rezultaty projektu:</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iedoprecyzowany sposób monitorowania rezultatów. </a:t>
            </a:r>
            <a:r>
              <a:rPr b="0" lang="pl-PL" sz="1500" spc="-1" strike="noStrike" u="sng">
                <a:solidFill>
                  <a:srgbClr val="000000"/>
                </a:solidFill>
                <a:uFillTx/>
                <a:latin typeface="Arial"/>
              </a:rPr>
              <a:t>Opis sposobu monitorowania rezultatów powinien pokazywać:</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kiedy pomiary będą dokonywane (w jakich momentach realizacji projektu),</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jakimi metodami i przy zastosowaniu jakich narzędzie pomiar będzie dokonywany,</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jakie źródła danych będą używane przy dokonywaniu pomiarów,</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jakie wskaźniki będą używane do opisu wyników,</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kto będzie odpowiedzialny za realizacje monitoringu,</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ależy odróżnić </a:t>
            </a:r>
            <a:r>
              <a:rPr b="0" lang="pl-PL" sz="1500" spc="-1" strike="noStrike" u="sng">
                <a:solidFill>
                  <a:srgbClr val="000000"/>
                </a:solidFill>
                <a:uFillTx/>
                <a:latin typeface="Arial"/>
              </a:rPr>
              <a:t>monitorowanie stanu osiągania planowanych rezultatów </a:t>
            </a:r>
            <a:br>
              <a:rPr sz="1500"/>
            </a:br>
            <a:r>
              <a:rPr b="0" lang="pl-PL" sz="1500" spc="-1" strike="noStrike" u="sng">
                <a:solidFill>
                  <a:srgbClr val="000000"/>
                </a:solidFill>
                <a:uFillTx/>
                <a:latin typeface="Arial"/>
              </a:rPr>
              <a:t>od monitorowania stanu przebiegu realizacji projektu.</a:t>
            </a:r>
            <a:endParaRPr b="0" lang="en-US" sz="1500" spc="-1" strike="noStrike">
              <a:solidFill>
                <a:srgbClr val="000000"/>
              </a:solidFill>
              <a:latin typeface="Tahoma"/>
            </a:endParaRPr>
          </a:p>
          <a:p>
            <a:pPr marL="266760" indent="-26676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	</a:t>
            </a:r>
            <a:r>
              <a:rPr b="1" lang="pl-PL" sz="1500" spc="-1" strike="noStrike">
                <a:solidFill>
                  <a:srgbClr val="000000"/>
                </a:solidFill>
                <a:latin typeface="Arial"/>
              </a:rPr>
              <a:t>Rezultaty projektu to trwałe korzyści osiągane przez uczestników projektu, których projekt dotyczy, już w trakcie jego realizacji. Rezultaty to nowe stany. Opis rezultatów to opis zmian jakie zajdą w sytuacji uczestników w wyniku realizacji projektu. Rezultaty pokazują, czy osiągane są założone cele.</a:t>
            </a:r>
            <a:r>
              <a:rPr b="0" lang="pl-PL" sz="1500" spc="-1" strike="noStrike">
                <a:solidFill>
                  <a:srgbClr val="000000"/>
                </a:solidFill>
                <a:latin typeface="Arial"/>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rPr>
              <a:t>3.5 Potencjał wnioskodawcy i sposób zarządzania projektem:</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rak metod i technik zarządzania oraz informacji na temat kwalifikacji osób pełniących kluczowe role w projekcie;</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iejasny podział obowiązków i struktury zespołu projektowego;</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rak uzasadnienia dla proponowanej ilości osób w zespole projektowym;</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rak informacji i/lub uzasadnienia dla planowanego wymiaru zatrudnienia personelu zespołu zarządzającego;</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niespójność danych dotyczących posiadanego zaplecza technicznego z planowanymi wydatkami w projekcie;</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ogólny, zdawkowy opis roli partnera;</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rak informacji o zakresie zlecania usług, roli wykonawców, wymagań odnośnie ich wyboru, uzasadnienia dla konieczności zlecania usług na zewnątrz.</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ea typeface="Arial"/>
              </a:rPr>
              <a:t>IV Wydatki projektu:</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spójności z opisanymi działaniami;</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zachowania relacji nakład/rezultat (zawyżone koszty jednostkowe, wysokie koszty zarządzania projektem);</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dublowanie kosztów pośrednich w kosztach bezpośrednich;</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łędne przyporządkowanie kosztów finansowanych w ramach cross – financingu;</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lub błędna metodologia wyliczenia kosztów pośrednich;</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uzasadnienia dla proponowanych kosztów pośrednich;</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brak uzasadnienia dla bardzo wysokich stawek wynagrodzeń, np. trenerów, wykładowców, zakupu sprzętu.</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84000" y="1197000"/>
            <a:ext cx="8135640" cy="518472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ea typeface="Arial"/>
              </a:rPr>
              <a:t>Zalecenia dla właściwego przygotowania projektów:</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u="sng">
                <a:solidFill>
                  <a:srgbClr val="000000"/>
                </a:solidFill>
                <a:uFillTx/>
                <a:latin typeface="Arial"/>
                <a:ea typeface="Arial"/>
              </a:rPr>
              <a:t>W ramach niniejszego konkursu wsparcie jest kierowane do przedsiębiorców i ich pracowników, a nie dorosłych osób pracujących zgłaszających udział w szkoleniach z własnej inicjatywy</a:t>
            </a:r>
            <a:r>
              <a:rPr b="0" lang="pl-PL" sz="1500" spc="-1" strike="noStrike">
                <a:solidFill>
                  <a:srgbClr val="000000"/>
                </a:solidFill>
                <a:latin typeface="Arial"/>
                <a:ea typeface="Arial"/>
              </a:rPr>
              <a:t>. Wnioskodawcy są zobligowani </a:t>
            </a:r>
            <a:r>
              <a:rPr b="0" lang="pl-PL" sz="1500" spc="-1" strike="noStrike" u="sng">
                <a:solidFill>
                  <a:srgbClr val="000000"/>
                </a:solidFill>
                <a:uFillTx/>
                <a:latin typeface="Arial"/>
                <a:ea typeface="Arial"/>
              </a:rPr>
              <a:t>do rekrutacji przedsiębiorców</a:t>
            </a:r>
            <a:r>
              <a:rPr b="0" lang="pl-PL" sz="1500" spc="-1" strike="noStrike">
                <a:solidFill>
                  <a:srgbClr val="000000"/>
                </a:solidFill>
                <a:latin typeface="Arial"/>
                <a:ea typeface="Arial"/>
              </a:rPr>
              <a:t>. Dla ich pozyskania do udziału w projekcie </a:t>
            </a:r>
            <a:r>
              <a:rPr b="0" lang="pl-PL" sz="1500" spc="-1" strike="noStrike" u="sng">
                <a:solidFill>
                  <a:srgbClr val="000000"/>
                </a:solidFill>
                <a:uFillTx/>
                <a:latin typeface="Arial"/>
                <a:ea typeface="Arial"/>
              </a:rPr>
              <a:t>kluczowa jest właściwa diagnoza ich potrzeb w zakresie szkoleń ich pracowników</a:t>
            </a:r>
            <a:r>
              <a:rPr b="0" lang="pl-PL" sz="1500" spc="-1" strike="noStrike">
                <a:solidFill>
                  <a:srgbClr val="000000"/>
                </a:solidFill>
                <a:latin typeface="Arial"/>
                <a:ea typeface="Arial"/>
              </a:rPr>
              <a:t>. </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WUP w Szczecinie zdecydowanie rekomenduje przygotowywanie wniosków, gdzie przed jego złożeniem potrzeby przedsiębiorców zostały zdiagnozowane w porozumieniu z nimi oraz zostali oni z nazwy wskazani we wniosku. </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W przypadku realizacji projektów skierowanych do wielu, nieznanych na etapie jego tworzenia przedsiębiorców, </a:t>
            </a:r>
            <a:r>
              <a:rPr b="0" lang="pl-PL" sz="1500" spc="-1" strike="noStrike" u="sng">
                <a:solidFill>
                  <a:srgbClr val="000000"/>
                </a:solidFill>
                <a:uFillTx/>
                <a:latin typeface="Arial"/>
                <a:ea typeface="Arial"/>
              </a:rPr>
              <a:t>kluczowym jest realne i racjonalne oszacowanie liczby zainteresowanych przedsiębiorców</a:t>
            </a:r>
            <a:r>
              <a:rPr b="0" lang="pl-PL" sz="1500" spc="-1" strike="noStrike">
                <a:solidFill>
                  <a:srgbClr val="000000"/>
                </a:solidFill>
                <a:latin typeface="Arial"/>
                <a:ea typeface="Arial"/>
              </a:rPr>
              <a:t>. </a:t>
            </a: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u="sng">
                <a:solidFill>
                  <a:srgbClr val="000000"/>
                </a:solidFill>
                <a:uFillTx/>
                <a:latin typeface="Arial"/>
                <a:ea typeface="Arial"/>
              </a:rPr>
              <a:t>Projektodawca, wypełniając pola wniosku „Uzasadnienie kosztów” lub „Metodologia wyliczenia dofinansowania i wkładu prywatnego w ramach wydatków objętych pomocą publiczną”, powinien zawrzeć dodatkowe informacje, które mogą być pomocne dla ustalenia charakteru szkolenia oraz potwierdzać prawidłowość wyliczenia intensywności pomocy publicznej.</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4000" y="1197000"/>
            <a:ext cx="8135640" cy="518472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rPr>
              <a:t>Zalecenia dla właściwego przygotowania projektów:</a:t>
            </a: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u="sng">
                <a:solidFill>
                  <a:srgbClr val="000000"/>
                </a:solidFill>
                <a:uFillTx/>
                <a:latin typeface="Arial"/>
                <a:ea typeface="Arial"/>
              </a:rPr>
              <a:t>Zdecydowanie rekomenduje się</a:t>
            </a:r>
            <a:r>
              <a:rPr b="0" lang="pl-PL" sz="1500" spc="-1" strike="noStrike">
                <a:solidFill>
                  <a:srgbClr val="000000"/>
                </a:solidFill>
                <a:latin typeface="Arial"/>
                <a:ea typeface="Arial"/>
              </a:rPr>
              <a:t>, aby w przypadku </a:t>
            </a:r>
            <a:r>
              <a:rPr b="0" lang="pl-PL" sz="1500" spc="-1" strike="noStrike" u="sng">
                <a:solidFill>
                  <a:srgbClr val="000000"/>
                </a:solidFill>
                <a:uFillTx/>
                <a:latin typeface="Arial"/>
                <a:ea typeface="Arial"/>
              </a:rPr>
              <a:t>przedsiębiorców - właścicieli firm oraz osób prowadzących jednoosobową działalność gospodarczą wkład prywatny był wnoszony w formie pieniężnej (gotówkowej).</a:t>
            </a:r>
            <a:r>
              <a:rPr b="0" lang="pl-PL" sz="1500" spc="-1" strike="noStrike">
                <a:solidFill>
                  <a:srgbClr val="000000"/>
                </a:solidFill>
                <a:latin typeface="Arial"/>
                <a:ea typeface="Arial"/>
              </a:rPr>
              <a:t> W szczególności, jeżeli istnieje problem z właściwym udokumentowaniem przychodu/wynagrodzeń lub czasu pracy takich osób i podmiotów. </a:t>
            </a:r>
            <a:endParaRPr b="0" lang="en-US" sz="1500" spc="-1" strike="noStrike">
              <a:solidFill>
                <a:srgbClr val="000000"/>
              </a:solidFill>
              <a:latin typeface="Tahoma"/>
            </a:endParaRPr>
          </a:p>
          <a:p>
            <a:pPr marL="266760" indent="-266760"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ea typeface="Arial"/>
              </a:rPr>
              <a:t>W przypadku obejmowania wsparciem dużych przedsiębiorstw należy zadbać, aby sporządziły one w formie dokumentu wewnętrzną analizę wykonalności projektu lub zadań objętych pomocą uwzględniająca sytuację przedsiębiorstwa w przypadku otrzymania pomocy oraz bez jej udziału. </a:t>
            </a:r>
            <a:r>
              <a:rPr b="0" lang="pl-PL" sz="1500" spc="-1" strike="noStrike" u="sng">
                <a:solidFill>
                  <a:srgbClr val="000000"/>
                </a:solidFill>
                <a:uFillTx/>
                <a:latin typeface="Arial"/>
                <a:ea typeface="Arial"/>
              </a:rPr>
              <a:t>Dokument ten powinna zostać sporządzona przed złożeniem wniosku o przyznanie pomocy. Analiza ta powinna zostać wykorzystana w opisie wniosku o dofinansowanie projektu (np. w części 3.1 lub innym miejscu) oraz stanowić załącznik </a:t>
            </a:r>
            <a:br>
              <a:rPr sz="1500"/>
            </a:br>
            <a:r>
              <a:rPr b="0" lang="pl-PL" sz="1500" spc="-1" strike="noStrike" u="sng">
                <a:solidFill>
                  <a:srgbClr val="000000"/>
                </a:solidFill>
                <a:uFillTx/>
                <a:latin typeface="Arial"/>
                <a:ea typeface="Arial"/>
              </a:rPr>
              <a:t>do umowy zawartej z beneficjentem pomocy publicznej. W sytuacji realizacji projektu skierowanego do wielu przedsiębiorców, nieznanych na etapie konstruowania projektu, projektodawca musi wskazać, iż będzie badał w powyższy sposób efekt zachęty przed podpisaniem umowy z beneficjentem pomocy publicznej.</a:t>
            </a:r>
            <a:r>
              <a:rPr b="0" lang="pl-PL" sz="1500" spc="-1" strike="noStrike">
                <a:solidFill>
                  <a:srgbClr val="000000"/>
                </a:solidFill>
                <a:latin typeface="Arial"/>
                <a:ea typeface="Arial"/>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8360" y="1125000"/>
            <a:ext cx="8136000" cy="5185080"/>
          </a:xfrm>
          <a:prstGeom prst="rect">
            <a:avLst/>
          </a:prstGeom>
          <a:noFill/>
          <a:ln w="0">
            <a:noFill/>
          </a:ln>
        </p:spPr>
        <p:txBody>
          <a:bodyPr anchor="t">
            <a:normAutofit/>
          </a:bodyPr>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000000"/>
                </a:solidFill>
                <a:latin typeface="Arial"/>
              </a:rPr>
              <a:t>Zalecenia dla właściwego przygotowania projektów:</a:t>
            </a:r>
            <a:endParaRPr b="0" lang="en-US" sz="1500" spc="-1" strike="noStrike">
              <a:solidFill>
                <a:srgbClr val="000000"/>
              </a:solidFill>
              <a:latin typeface="Tahoma"/>
            </a:endParaRPr>
          </a:p>
          <a:p>
            <a:pPr marL="266760" indent="-26676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66760" indent="-26676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	</a:t>
            </a:r>
            <a:r>
              <a:rPr b="0" lang="pl-PL" sz="1500" spc="-1" strike="noStrike">
                <a:solidFill>
                  <a:srgbClr val="000000"/>
                </a:solidFill>
                <a:latin typeface="Arial"/>
              </a:rPr>
              <a:t>Instytucja Pośrednicząca zwraca uwagę, iż w przypadku realizacji projektów </a:t>
            </a:r>
            <a:r>
              <a:rPr b="0" lang="pl-PL" sz="1500" spc="-1" strike="noStrike" u="sng">
                <a:solidFill>
                  <a:srgbClr val="000000"/>
                </a:solidFill>
                <a:uFillTx/>
                <a:latin typeface="Arial"/>
              </a:rPr>
              <a:t>na rzecz przedsiębiorców i w ich imieniu Wnioskodawca </a:t>
            </a:r>
            <a:r>
              <a:rPr b="1" lang="pl-PL" sz="1500" spc="-1" strike="noStrike" u="sng">
                <a:solidFill>
                  <a:srgbClr val="000000"/>
                </a:solidFill>
                <a:uFillTx/>
                <a:latin typeface="Arial"/>
              </a:rPr>
              <a:t>staje się udzielającym pomocy publicznej</a:t>
            </a:r>
            <a:r>
              <a:rPr b="0" lang="pl-PL" sz="1500" spc="-1" strike="noStrike" u="sng">
                <a:solidFill>
                  <a:srgbClr val="000000"/>
                </a:solidFill>
                <a:uFillTx/>
                <a:latin typeface="Arial"/>
              </a:rPr>
              <a:t> i na nim spoczywają wszystkie wskazane prawem obowiązki związane </a:t>
            </a:r>
            <a:br>
              <a:rPr sz="1500"/>
            </a:br>
            <a:r>
              <a:rPr b="0" lang="pl-PL" sz="1500" spc="-1" strike="noStrike" u="sng">
                <a:solidFill>
                  <a:srgbClr val="000000"/>
                </a:solidFill>
                <a:uFillTx/>
                <a:latin typeface="Arial"/>
              </a:rPr>
              <a:t>z udzielaniem pomocy publicznej.</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59" name=""/>
          <p:cNvGraphicFramePr/>
          <p:nvPr/>
        </p:nvGraphicFramePr>
        <p:xfrm>
          <a:off x="571680" y="1214280"/>
          <a:ext cx="8143560" cy="499284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434 19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696 608,00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1"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62"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Ogólne i specjalistyczne szkolenia oraz doradztwo związane ze szkoleniami dla kadr zarządzających i pracowników przedsiębiorstw w zakresie m.in.: zarządzania, identyfikacji potrzeb w zakresie kwalifikacji pracowników, organizacji pracy, elastycznych form pracy, wdrażania technologii produkcyjnych przyjaznych środowisku, wykorzystania w prowadzonej działalności technologii informacyjnych i komunikacyjn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Doradztwo dla mikro-, małych i średnich przedsiębiorstw (MMŚP), w tym dla osób fizycznych prowadzących działalność gospodarczą, w szczególności w zakresie m.in. ekonomii, finansów, zarządzania zasobami ludzkimi lub rachunkowości (z wyłączeniem doradztwa związanego </a:t>
            </a:r>
            <a:br>
              <a:rPr sz="1400"/>
            </a:br>
            <a:r>
              <a:rPr b="0" lang="pl-PL" sz="1400" spc="-1" strike="noStrike">
                <a:solidFill>
                  <a:srgbClr val="000000"/>
                </a:solidFill>
                <a:latin typeface="Arial"/>
                <a:ea typeface="Arial"/>
              </a:rPr>
              <a:t>z procesami inwestycyjnymi).</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 </a:t>
            </a:r>
            <a:endParaRPr b="0" lang="en-US" sz="16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5"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zedsiębiorcy i ich pracownicy (w tym osoby wykonujące pracę na podstawie cywilno - prawnej).</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42600" y="1193400"/>
            <a:ext cx="7929720" cy="5164200"/>
          </a:xfrm>
          <a:prstGeom prst="rect">
            <a:avLst/>
          </a:prstGeom>
          <a:noFill/>
          <a:ln w="0">
            <a:noFill/>
          </a:ln>
        </p:spPr>
        <p:txBody>
          <a:bodyPr anchor="t">
            <a:normAutofit fontScale="56000"/>
          </a:bodyPr>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odawca złożył maksymalnie dwa wnioski o dofinansowanie w ramach danego posiedzenia Komisji Oceny Projektów. </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Stosuje się do typów projektów nr 1 i 2</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Spełnienie kryterium będzie weryfikowane na podstawie </a:t>
            </a:r>
            <a:r>
              <a:rPr b="0" lang="pl-PL" sz="1400" spc="-1" strike="noStrike">
                <a:solidFill>
                  <a:srgbClr val="000000"/>
                </a:solidFill>
                <a:latin typeface="Tahoma"/>
              </a:rPr>
              <a:t>protokołów z przekazania wniosków, które wpłynęły na dane posiedzenie KOP, do momentu wpłynięcia sprawdzanego wniosku.</a:t>
            </a:r>
            <a:r>
              <a:rPr b="0" lang="pl-PL" sz="1400" spc="-1" strike="noStrike">
                <a:solidFill>
                  <a:srgbClr val="000000"/>
                </a:solidFill>
                <a:latin typeface="Tahoma"/>
              </a:rPr>
              <a:t>	</a:t>
            </a:r>
            <a:endParaRPr b="0" lang="en-US" sz="1400" spc="-1" strike="noStrike">
              <a:solidFill>
                <a:srgbClr val="000000"/>
              </a:solidFill>
              <a:latin typeface="Tahoma"/>
            </a:endParaRPr>
          </a:p>
          <a:p>
            <a:pPr marL="191880" indent="-191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aksymalny okres realizacji projektu: do 31 grudnia 2011 r.</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Stosuje się do typów projektów nr 1 i 2</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wynosi od dnia złożenia wniosku do 31 grudnia 2011 roku, w punkcie. 1.8 wniosku należy więc wskazać właściwy okres realizacji.</a:t>
            </a: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1880" indent="-191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hawelka</cp:lastModifiedBy>
  <dcterms:modified xsi:type="dcterms:W3CDTF">2010-06-09T08:13:03Z</dcterms:modified>
  <cp:revision>480</cp:revision>
  <dc:subject/>
  <dc:title>Slajd 1</dc:title>
</cp:coreProperties>
</file>