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7.xml.rels" ContentType="application/vnd.openxmlformats-package.relationships+xml"/>
  <Override PartName="/ppt/notesSlides/_rels/notesSlide65.xml.rels" ContentType="application/vnd.openxmlformats-package.relationships+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72C6-22CA-4C4F-BD5F-41153B1948D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2857-55F2-4043-A8D0-B3BC97E065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731F-BC35-442D-A5BE-C28D3BFAC4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9.1.2/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12 lutego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8400" y="1193760"/>
            <a:ext cx="8189640" cy="5664240"/>
          </a:xfrm>
          <a:prstGeom prst="rect">
            <a:avLst/>
          </a:prstGeom>
          <a:noFill/>
          <a:ln w="0">
            <a:noFill/>
          </a:ln>
        </p:spPr>
        <p:txBody>
          <a:bodyPr anchor="t">
            <a:normAutofit fontScale="84000"/>
          </a:bodyPr>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1 r.</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1 grudnia 2011 r. W pkt 1.8 należy więc wskazać właściwy okres realizacji projektu.</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1 milion złotych.</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olu 3.1 </a:t>
            </a:r>
            <a:r>
              <a:rPr b="0" i="1" lang="pl-PL" sz="1400" spc="-1" strike="noStrike">
                <a:solidFill>
                  <a:srgbClr val="000000"/>
                </a:solidFill>
                <a:latin typeface="Arial"/>
              </a:rPr>
              <a:t>koszty ogółem </a:t>
            </a:r>
            <a:r>
              <a:rPr b="0" lang="pl-PL" sz="1400" spc="-1" strike="noStrike">
                <a:solidFill>
                  <a:srgbClr val="000000"/>
                </a:solidFill>
                <a:latin typeface="Arial"/>
              </a:rPr>
              <a:t>w części IV</a:t>
            </a:r>
            <a:r>
              <a:rPr b="0" i="1" lang="pl-PL" sz="1400" spc="-1" strike="noStrike">
                <a:solidFill>
                  <a:srgbClr val="000000"/>
                </a:solidFill>
                <a:latin typeface="Arial"/>
              </a:rPr>
              <a:t> budżet projektu </a:t>
            </a:r>
            <a:r>
              <a:rPr b="0" lang="pl-PL" sz="1400" spc="-1" strike="noStrike">
                <a:solidFill>
                  <a:srgbClr val="000000"/>
                </a:solidFill>
                <a:latin typeface="Arial"/>
              </a:rPr>
              <a:t>musi znaleźć się kwota nie mniejsza niż </a:t>
            </a:r>
            <a:br>
              <a:rPr sz="1400"/>
            </a:br>
            <a:r>
              <a:rPr b="0" lang="pl-PL" sz="1400" spc="-1" strike="noStrike">
                <a:solidFill>
                  <a:srgbClr val="000000"/>
                </a:solidFill>
                <a:latin typeface="Arial"/>
              </a:rPr>
              <a:t>1 milion zł.</a:t>
            </a: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w projekcie stanowią uczniowie i wychowankowie szkół i placówek oświatowych prowadzących kształcenie ogólne (z wyłączeniem słuchaczy szkół dla dorosłych) uczący się lub mający miejsce zamieszkania na terenie województwa zachodniopomorskiego </a:t>
            </a:r>
            <a:br>
              <a:rPr sz="1400"/>
            </a:br>
            <a:r>
              <a:rPr b="0" lang="pl-PL" sz="1400" spc="-1" strike="noStrike">
                <a:solidFill>
                  <a:srgbClr val="000000"/>
                </a:solidFill>
                <a:latin typeface="Arial"/>
                <a:ea typeface="Arial"/>
              </a:rPr>
              <a:t>w rozumieniu Kodeksu Cywilnego lub szkoły, placówki oświatowe (instytucje, kadra) i ich organy prowadzące realizujące kształcenie ogólne (z wyłączeniem szkół dla dorosłych), zlokalizowane </a:t>
            </a:r>
            <a:br>
              <a:rPr sz="1400"/>
            </a:br>
            <a:r>
              <a:rPr b="0" lang="pl-PL" sz="1400" spc="-1" strike="noStrike">
                <a:solidFill>
                  <a:srgbClr val="000000"/>
                </a:solidFill>
                <a:latin typeface="Arial"/>
                <a:ea typeface="Arial"/>
              </a:rPr>
              <a:t>na terenie województwa zachodniopomorski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kt. 3.2 wniosku należy opisać grupę docelową stanowiącą osoby uczące się mające miejsce zamieszkania na terenie województwa zachodniopomorskiego zgodnie z zapisami Kodeksu Cywilnego lub szkoły i ich organy prowadzące realizujące kształcenie ogólne zlokalizowane </a:t>
            </a:r>
            <a:br>
              <a:rPr sz="1400"/>
            </a:br>
            <a:r>
              <a:rPr b="0" lang="pl-PL" sz="1400" spc="-1" strike="noStrike">
                <a:solidFill>
                  <a:srgbClr val="000000"/>
                </a:solidFill>
                <a:latin typeface="Arial"/>
                <a:ea typeface="Arial"/>
              </a:rPr>
              <a:t>na terenie województwa zachodniopomorskiego.</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Jeśli projektodawca posiada siedzibę na terenie województwa zachodniopomorskiego (wskazaną </a:t>
            </a:r>
            <a:br>
              <a:rPr sz="1400"/>
            </a:br>
            <a:r>
              <a:rPr b="0" lang="pl-PL" sz="1400" spc="-1" strike="noStrike">
                <a:solidFill>
                  <a:srgbClr val="000000"/>
                </a:solidFill>
                <a:latin typeface="Arial"/>
              </a:rPr>
              <a:t> 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68360" y="571320"/>
            <a:ext cx="8190000" cy="6072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a:t>
            </a:r>
            <a:r>
              <a:rPr b="0" lang="pl-PL" sz="1400" spc="-1" strike="noStrike">
                <a:solidFill>
                  <a:srgbClr val="000000"/>
                </a:solidFill>
                <a:latin typeface="Arial"/>
              </a:rPr>
              <a:t>	</a:t>
            </a:r>
            <a:r>
              <a:rPr b="0" lang="pl-PL" sz="1400" spc="-1" strike="noStrike">
                <a:solidFill>
                  <a:srgbClr val="000000"/>
                </a:solidFill>
                <a:latin typeface="Arial"/>
              </a:rPr>
              <a:t>Projektodawcą jest jeden z następujących podmiotów: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szkoła, placówka oświatowa (instytucje, kadra) i ich organ prowadzący realizujące kształcenie ogólne (z wyłączeniem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rganizacja pozarządowa prowadząca działalność statutową w zakresie edukacji </a:t>
            </a:r>
            <a:br>
              <a:rPr sz="1400"/>
            </a:br>
            <a:r>
              <a:rPr b="0" lang="pl-PL" sz="1400" spc="-1" strike="noStrike">
                <a:solidFill>
                  <a:srgbClr val="000000"/>
                </a:solidFill>
                <a:latin typeface="Arial"/>
              </a:rPr>
              <a:t>w partnerstwie z organem prowadzącym szkołę lub placówkę oświatową.</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projektodawcą jest szkoła, placówka oświatowa, w punkcie 2.1 wniosku, należy zapisać nazwę organu prowadzącego oraz nazwę projektodawcy np. Gmina Miasto Szczecin/ Szkoła Podstawowa Nr 1 w Szczecini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2.2 wniosku należy zapisać status prawny projektodawcy (placówki oświatowej, szkoły).</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68360" y="571320"/>
            <a:ext cx="8190000" cy="6072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6.</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jest realizowany w szkołach lub placówkach oświatowych, w których w 2009 r. uczniowie osiągnęli średni wynik w ramach ubiegłorocznych egzaminów zewnętrznych lub sprawdzianów </a:t>
            </a:r>
            <a:br>
              <a:rPr sz="1400"/>
            </a:br>
            <a:r>
              <a:rPr b="0" lang="pl-PL" sz="1400" spc="-1" strike="noStrike">
                <a:solidFill>
                  <a:srgbClr val="000000"/>
                </a:solidFill>
                <a:latin typeface="Arial"/>
                <a:ea typeface="Arial"/>
              </a:rPr>
              <a:t>z części matematyczno – przyrodniczej lub przedmiotów matematyczno -  przyrodniczych (matematyka, fizyka, biologia, chemia, geografia), niższy od średniej wojewódzkiej oraz liczba godzin zajęć realizowanych w zakresie w/w przedmiotów stanowi minimum 50% liczby godzin zajęć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0" lang="pl-PL" sz="1400" spc="-1" strike="noStrike">
                <a:solidFill>
                  <a:srgbClr val="000000"/>
                </a:solidFill>
                <a:latin typeface="Arial"/>
              </a:rPr>
              <a:t>W części 3.1 lub 3.2 wniosku należy zapisać, że projekt realizowany będzie w szkołach lub placówkach oświatowych, których średni wynik egzaminów zewnętrznych (gimnazjalnego, maturalnego) lub sprawdzianów z części matematyczno – przyrodniczej lub przedmiotów matematyczno -  przyrodniczych (matematyka, fizyka, biologia, chemia, geografia), w roku szkolnym 2008-2009 był niższy niż średnia  w województwie zachodniopomorskim z wyżej wymienionych egzaminów; należy podać liczbowo średni wynik szkoły z danego egzaminu.</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214280"/>
            <a:ext cx="8229600" cy="4911840"/>
          </a:xfrm>
          <a:prstGeom prst="rect">
            <a:avLst/>
          </a:prstGeom>
          <a:noFill/>
          <a:ln w="0">
            <a:noFill/>
          </a:ln>
        </p:spPr>
        <p:txBody>
          <a:bodyPr anchor="t">
            <a:normAutofit fontScale="88000"/>
          </a:bodyPr>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jest realizowany w szkołach, placówkach oświatowych prowadzących kształcenie ogólne mających swoją siedzibę na obszarach wiejskich.</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20</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zakłada wykorzystanie sprzętu ICT zakupionego dla szkół ze środków   Europejskiego Funduszu Społecznego w latach  2004 – 2006.</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realizowany na obszarze gmin lub skierowany do mieszkańców gmin wymienionych </a:t>
            </a:r>
            <a:br>
              <a:rPr sz="1400"/>
            </a:br>
            <a:r>
              <a:rPr b="0" lang="pl-PL" sz="1400" spc="-1" strike="noStrike">
                <a:solidFill>
                  <a:srgbClr val="000000"/>
                </a:solidFill>
                <a:latin typeface="Arial"/>
                <a:ea typeface="Arial"/>
              </a:rPr>
              <a:t>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10</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jest komplementarny z inwestycjami zrealizowanymi bądź planowanymi do realizacji finansowanymi ze źródeł wspólnotowych innych niż Europejski Fundusz Społeczny.</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 5</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Poddziałaniu 9.1.2 pomoc publiczna co do zasady nie występuj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jektodawca musi jednak zwrócić uwagę, że niedozwolone jest czerpanie korzyści ekonomicznych z realizacji projektu w szczególności poprzez odpłatny wynajem środków trwałych zakupionych w ramach projektu, pomieszczeń wyremontowanych w ramach projektu it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Jeśli projektodawca zamierza czerpać powyższe korzyści projekt należy potraktować jako generujący dochód. Jeśli projektodawca nie uwzględni w takim projekcie dochodu, to przy stwierdzeniu czerpania z jego tytułu korzyści ekonomicznych, zostanie uznane, ze udzielono mu niedozwolonej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69"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12.2009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1/9.1.2/10</a:t>
            </a:r>
            <a:r>
              <a:rPr b="0" lang="pl-PL" sz="1400" spc="-1" strike="noStrike">
                <a:solidFill>
                  <a:srgbClr val="000000"/>
                </a:solidFill>
                <a:latin typeface="Arial"/>
              </a:rPr>
              <a:t>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a:t>
            </a:r>
            <a:r>
              <a:rPr b="1" lang="pl-PL" sz="1400" spc="-1" strike="noStrike">
                <a:solidFill>
                  <a:srgbClr val="ff0000"/>
                </a:solidFill>
                <a:latin typeface="Arial"/>
              </a:rPr>
              <a:t> współpracy ponadnarodowej</a:t>
            </a:r>
            <a:r>
              <a:rPr b="0" lang="pl-PL" sz="1400" spc="-1" strike="noStrike">
                <a:solidFill>
                  <a:srgbClr val="000000"/>
                </a:solidFill>
                <a:latin typeface="Arial"/>
              </a:rPr>
              <a:t> oraz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781200" y="1494000"/>
            <a:ext cx="7753320" cy="46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86"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8"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0"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1"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3"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4"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7"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8"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
          <p:cNvSpPr/>
          <p:nvPr/>
        </p:nvSpPr>
        <p:spPr>
          <a:xfrm>
            <a:off x="428760" y="1071720"/>
            <a:ext cx="82580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1"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4"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9.1.2/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0"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3"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6"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357120" y="928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9"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357120" y="928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428760" y="121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5"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428760" y="121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857160" y="928800"/>
            <a:ext cx="721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9.1.2/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Od 4 lutego 2010 r. do dnia 25 marca 2010 r.</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o kwestie problemowe – brak powołania się na dane źródł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kompleksowości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a:t>
            </a:r>
            <a:r>
              <a:rPr b="1" lang="pl-PL" sz="1600" spc="-1" strike="noStrike">
                <a:solidFill>
                  <a:srgbClr val="000000"/>
                </a:solidFill>
                <a:latin typeface="Arial"/>
              </a:rPr>
              <a:t>cele</a:t>
            </a:r>
            <a:r>
              <a:rPr b="0" lang="pl-PL" sz="1600" spc="-1" strike="noStrike">
                <a:solidFill>
                  <a:srgbClr val="000000"/>
                </a:solidFill>
                <a:latin typeface="Arial"/>
              </a:rPr>
              <a:t>, niezgodne z Pod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dniesień diagnozy do problemów konkretnej placówki (szkoły), której uczniowie zamierzają uzyskać wsparci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356840"/>
            <a:ext cx="8229600" cy="476892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grupy z realizowanym typem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ziałań z harmonogramem i budże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informacji o wymiarze e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lanowanie wsparcia mającego na celu urozmaicenie edukacji a nie wyrównywanie szans edukacyjnych.</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600200"/>
            <a:ext cx="8229600" cy="452592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a:t>
            </a:r>
            <a:br>
              <a:rPr sz="1600"/>
            </a:br>
            <a:r>
              <a:rPr b="0" lang="pl-PL" sz="1600" spc="-1" strike="noStrike">
                <a:solidFill>
                  <a:srgbClr val="000000"/>
                </a:solidFill>
                <a:latin typeface="Arial"/>
              </a:rPr>
              <a:t>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sposób monitorowania rezultatów.</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5 Potencjał wnioskodawcy i sposób zarządzania projektem:</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świadczenia w realizacji podobnych przedsięwzięć;</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jasny podział obowiązków i struktury zespołu projektowego;</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danych dotyczących zaplecza technicznego z planowanymi wydatkami </a:t>
            </a:r>
            <a:br>
              <a:rPr sz="1600"/>
            </a:br>
            <a:r>
              <a:rPr b="0" lang="pl-PL" sz="1600" spc="-1" strike="noStrike">
                <a:solidFill>
                  <a:srgbClr val="000000"/>
                </a:solidFill>
                <a:latin typeface="Arial"/>
              </a:rPr>
              <a:t>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roli partner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yraźnego podziału zadań pomiędzy Wnioskodawcę a Podwykonawcę;</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skazania podziału na Wnioskodawcę oraz Realizatora projektu.</a:t>
            </a:r>
            <a:endParaRPr b="0" lang="en-US" sz="1600" spc="-1" strike="noStrike">
              <a:solidFill>
                <a:srgbClr val="000000"/>
              </a:solidFill>
              <a:latin typeface="Tahoma"/>
            </a:endParaRPr>
          </a:p>
          <a:p>
            <a:pPr marL="266760" indent="-2667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y rachunk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ne określanie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dla bardzo wysokich kosztów.</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22 907 566,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19 471 431,1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3 436 134,9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obre praktyki</a:t>
            </a:r>
            <a:endParaRPr b="0" lang="en-US" sz="1800" spc="-1" strike="noStrike">
              <a:solidFill>
                <a:srgbClr val="000000"/>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u="sng">
                <a:solidFill>
                  <a:srgbClr val="000000"/>
                </a:solidFill>
                <a:uFillTx/>
                <a:latin typeface="Arial"/>
              </a:rPr>
              <a:t>Priorytet IX </a:t>
            </a:r>
            <a:r>
              <a:rPr b="1" i="1" lang="pl-PL" sz="1800" spc="-1" strike="noStrike">
                <a:solidFill>
                  <a:srgbClr val="000000"/>
                </a:solidFill>
                <a:latin typeface="Arial"/>
              </a:rPr>
              <a:t>Rozwój wykształcenia i kompetencji w regionach</a:t>
            </a: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Numer i nazwa Poddziałania: </a:t>
            </a:r>
            <a:r>
              <a:rPr b="1" lang="pl-PL" sz="1800" spc="-1" strike="noStrike">
                <a:solidFill>
                  <a:srgbClr val="000000"/>
                </a:solidFill>
                <a:latin typeface="Arial"/>
              </a:rPr>
              <a:t>9.1.2 Wyrównywanie szans edukacyjnych uczniów z grup o utrudnionym dostępie </a:t>
            </a:r>
            <a:br>
              <a:rPr sz="1800"/>
            </a:br>
            <a:r>
              <a:rPr b="1" lang="pl-PL" sz="1800" spc="-1" strike="noStrike">
                <a:solidFill>
                  <a:srgbClr val="000000"/>
                </a:solidFill>
                <a:latin typeface="Arial"/>
              </a:rPr>
              <a:t>do edukacji oraz zmniejszanie różnic w jakości usług edukacyjnych</a:t>
            </a:r>
            <a:endParaRPr b="0" lang="en-US" sz="18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42960" y="1143000"/>
            <a:ext cx="7858080" cy="52862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a:t>
            </a:r>
            <a:r>
              <a:rPr b="1" i="1" lang="pl-PL" sz="1400" spc="-1" strike="noStrike">
                <a:solidFill>
                  <a:srgbClr val="000000"/>
                </a:solidFill>
                <a:latin typeface="Arial"/>
                <a:ea typeface="Arial"/>
              </a:rPr>
              <a:t>MOGĘ, CHCĘ, ZROBIĘ – ZAJĘCIA POZALEKCYJNE DLA UCZNIÓW SZKÓŁ </a:t>
            </a:r>
            <a:br>
              <a:rPr sz="1400"/>
            </a:br>
            <a:r>
              <a:rPr b="1" i="1" lang="pl-PL" sz="1400" spc="-1" strike="noStrike">
                <a:solidFill>
                  <a:srgbClr val="000000"/>
                </a:solidFill>
                <a:latin typeface="Arial"/>
                <a:ea typeface="Arial"/>
              </a:rPr>
              <a:t>GMINY PRZELEWIC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ea typeface="Arial"/>
              </a:rPr>
              <a:t>Gmina Przelewice</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lipca 2008</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1 sierpnia 2009</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r>
              <a:rPr b="0" lang="pl-PL" sz="1400" spc="-1" strike="noStrike">
                <a:solidFill>
                  <a:srgbClr val="000000"/>
                </a:solidFill>
                <a:latin typeface="Arial"/>
                <a:ea typeface="Arial"/>
              </a:rPr>
              <a:t> zmniejszenie nierówności w dostępie do edukacji, pomiędzy obszarami wiejskimi i miejskimi poprzez organizację zajęć pozalekcyjnych dla uczniów szkół z terenu gminy Przelewic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85 uczniów z następujących szkół: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oła Podstawowa w Kłodzinie,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oła Podstawowa w Żukowie,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oła Podstawowa w Jesionowie,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imnazjum w Przelewica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rostokąt 3"/>
          <p:cNvSpPr/>
          <p:nvPr/>
        </p:nvSpPr>
        <p:spPr>
          <a:xfrm>
            <a:off x="1000080" y="1357200"/>
            <a:ext cx="7572600" cy="3470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rostokąt 2"/>
          <p:cNvSpPr/>
          <p:nvPr/>
        </p:nvSpPr>
        <p:spPr>
          <a:xfrm>
            <a:off x="642960" y="1143000"/>
            <a:ext cx="7929720" cy="563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ZIAŁ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 Szkole Podstawowej w Kłodzin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z języka polskiego oraz matematyk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dodatkowe – wyrównawcz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korekcyjno – kompensacyj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a zainteresowań: matematyczne, informatyczne, plastyczne, teatralne, sportowe, muzycz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proponowane zajęcia rozwijają kluczowe umiejętności u uczniów, które pomagają wyrównywać dysproporcje w rozwoju edukacyjnym, celem ich było osiągnięcie wyższego poziomu umiejętności u uczniów, dzięki organizacji zajęć dodatkowych – kół zainteresowań, uczniowie mieli dostęp </a:t>
            </a:r>
            <a:br>
              <a:rPr sz="1400"/>
            </a:br>
            <a:r>
              <a:rPr b="0" lang="pl-PL" sz="1400" spc="-1" strike="noStrike">
                <a:solidFill>
                  <a:srgbClr val="000000"/>
                </a:solidFill>
                <a:latin typeface="Arial"/>
                <a:ea typeface="Arial"/>
              </a:rPr>
              <a:t>do rozwoju umiejętności, które do tej pory nie były rozwija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 Szkole Podstawowej w Żukow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wyrównawcze z języka polskiego;</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o matematyczne i zajęcia wyrównawcz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a zainteresowań: informatyczne, przyrodnicze, języka angielskiego, sportow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rygowanie wad posta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te pozwoliły uczniom słabszym, którzy mają wyraźne dysproporcje w nauce wyrównać poziom w klasach, a tym samym zachęcić do dalszej wytężałej nauki, prowadziły do rozwoju umiejętności kluczowych np. Zachęta do wykorzystywania matematyki w praktyc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rostokąt 3"/>
          <p:cNvSpPr/>
          <p:nvPr/>
        </p:nvSpPr>
        <p:spPr>
          <a:xfrm>
            <a:off x="1000080" y="1357200"/>
            <a:ext cx="7572600" cy="31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rostokąt 2"/>
          <p:cNvSpPr/>
          <p:nvPr/>
        </p:nvSpPr>
        <p:spPr>
          <a:xfrm>
            <a:off x="642960" y="1357200"/>
            <a:ext cx="792972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 Szkole Podstawowej w Jesionow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korekcyjno – kompensacyj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z języka niemieckiego;</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a zainteresowań: matematyczne, polonistyczno – teatralne, informatycz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wyrównawcze z języka polskiego oraz matematyk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sportowe – SKS oraz basen – korygowanie wad posta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 Gimnazjum w Przelewica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wyrównawcze z: języka polskiego, matematyki, języka angielskiego, języka niemieckiego</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szkolenie z zakresu technologii komputerowych – rozwój kluczowych umiejętności poruszania się w środowisku komputerowy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z języka angielskiego z native spekaere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ła zainteresowań: matematyczne, ekologiczne, historyczne, teatralne, fizyczne, wokalno instrumental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jęcia z zakresu zwalczania agresji – warsztaty „Porozumienie bez przemoc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urs językowy w Rothenklempenow – pokazanie pozytywnych przykładów, iż dzieci z terenów wiejskich są równie zdolne i mogą coś osiągnąć podobnie jak dzieci z mias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y zespołowe: siatkówka i piłka ręczna – poprawa sprawności fizy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orygowanie wad postawy – zajęcia na basenie.</a:t>
            </a: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8"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0"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1"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4"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 Programy rozwojowe szkół i placówek oświatowych prowadzących kształcenie ogólne ukierunkowane na wyrównywanie szans edukacyjnych uczniów i zmniejszanie dysproporcji w ich osiągnięciach edukacyjnych oraz podnoszenie jakości procesu kształcenia, w szczególności obejmujące:</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datkowe zajęcia dydaktyczno - wyrównawcze oraz specjalistyczne służące wyrównywaniu dysproporcji edukacyjnych w trakcie procesu kształcenia;</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radztwo i opiekę pedagogiczno – psychologiczną dla uczniów wykazujących problemy </a:t>
            </a:r>
            <a:br>
              <a:rPr sz="1400"/>
            </a:br>
            <a:r>
              <a:rPr b="0" lang="pl-PL" sz="1400" spc="-1" strike="noStrike">
                <a:solidFill>
                  <a:srgbClr val="000000"/>
                </a:solidFill>
                <a:latin typeface="Arial"/>
              </a:rPr>
              <a:t>w nauce lub z innych przyczyn zagrożonych przedwczesnym wypadnięciem z systemu oświaty (np. wsparcie dla uczniów z obszarów wiejskich, wsparcie dla uczniów niepełnosprawnych, przeciwdziałanie uzależnieniom, programy prewencyjne, przeciwdziałanie patologiom społecznym);</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y skierowane do dzieci i młodzieży które znajdują się poza systemem szkolnictwa podstawowego, gimnazjalnego i ponadgimnazjalnego (przedwcześnie opuszczający system szkolnictwa) umożliwiające ukończenie danego etapu kształcenia oraz kontynuację nauki;</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datkowe zajęcia (pozalekcyjne i pozaszkolne) dla uczniów ukierunkowane na rozwój kompetencji kluczowych, ze szczególnym uwzględnieniem ICT, języków obcych, przedsiębiorczości, nauk przyrodniczo – matematycznych;</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endParaRPr b="0" lang="en-US" sz="16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1571760"/>
            <a:ext cx="8229600" cy="45259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szerzanie oferty szkół o zagadnienia związane z poradnictwem i doradztwem edukacyjno - zawodowym, informowaniem uczniów o korzyściach płynących z wyboru danej ścieżki edukacyjnej oraz możliwościach dalszego kształcenia w kontekście uwarunkowań lokalnego i regionalnego rynku pracy (szkolne ośrodki kariery);</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drożenie nowych, innowacyjnych form nauczania i oceniania cechujących się wyższą skutecznością niż formy tradycyjne;</a:t>
            </a:r>
            <a:endParaRPr b="0" lang="en-US" sz="1400" spc="-1" strike="noStrike">
              <a:solidFill>
                <a:srgbClr val="000000"/>
              </a:solidFill>
              <a:latin typeface="Tahoma"/>
            </a:endParaRPr>
          </a:p>
          <a:p>
            <a:pPr lvl="1" marL="743040" indent="-2858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drażanie programów i narzędzi efektywnego zarządzania placówką oświatową przyczyniających się do poprawę jakości nauczan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ół, placówek oświatowych (instytucje, kadra) i ich organów prowadzących realizujących kształcenie ogólne (z wyłączeniem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czniów i wychowanków szkół i placówek oświatowych prowadzących kształcenie ogólne </a:t>
            </a:r>
            <a:br>
              <a:rPr sz="1400"/>
            </a:br>
            <a:r>
              <a:rPr b="0" lang="pl-PL" sz="1400" spc="-1" strike="noStrike">
                <a:solidFill>
                  <a:srgbClr val="000000"/>
                </a:solidFill>
                <a:latin typeface="Arial"/>
              </a:rPr>
              <a:t>(z wyłączeniem słuchaczy szkół dla dorosł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ób, które przedwcześnie opuściły system oświa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 </cp:lastModifiedBy>
  <dcterms:modified xsi:type="dcterms:W3CDTF">2010-03-12T12:35:45Z</dcterms:modified>
  <cp:revision>451</cp:revision>
  <dc:subject/>
  <dc:title>Slajd 1</dc:title>
</cp:coreProperties>
</file>