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66.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BF21-77D0-458F-A4A6-5E6AE14AF80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6892-2E80-4CC5-B774-665DF61A343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9F68-C681-442B-9BFE-5367CBD789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8C62-543C-4FBF-A2A2-909BBE71F9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qual.org.pl/baza.php?M=3&amp;lang=pl" TargetMode="External"/><Relationship Id="rId2" Type="http://schemas.openxmlformats.org/officeDocument/2006/relationships/hyperlink" Target="http://leonardo.org.pl/" TargetMode="External"/><Relationship Id="rId3" Type="http://schemas.openxmlformats.org/officeDocument/2006/relationships/hyperlink" Target="http://www.pracownik50plus.pl/o-projekcie/"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31 maj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62"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28400" y="1193760"/>
            <a:ext cx="8189640" cy="56642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3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400 tysięcy złot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400" y="1193760"/>
            <a:ext cx="8189640" cy="5664240"/>
          </a:xfrm>
          <a:prstGeom prst="rect">
            <a:avLst/>
          </a:prstGeom>
          <a:noFill/>
          <a:ln w="0">
            <a:noFill/>
          </a:ln>
        </p:spPr>
        <p:txBody>
          <a:bodyPr anchor="t">
            <a:normAutofit fontScale="85000"/>
          </a:bodyPr>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 c.d.:</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Odbiorców w projekcie stanowią osoby mające miejsce zamieszkania na terenie województwa zachodniopomorskiego w rozumieniu przepisów Kodeksu Cywilnego lub instytucje działające </a:t>
            </a:r>
            <a:br>
              <a:rPr sz="1400"/>
            </a:br>
            <a:r>
              <a:rPr b="0" lang="pl-PL" sz="1400" spc="-1" strike="noStrike">
                <a:solidFill>
                  <a:srgbClr val="000000"/>
                </a:solidFill>
                <a:latin typeface="Tahoma"/>
              </a:rPr>
              <a:t>na terenie województwa zachodniopomorskiego.</a:t>
            </a: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będzie weryfikowane na podstawie odpowiednich zapisów w punkcie </a:t>
            </a:r>
            <a:r>
              <a:rPr b="0" i="1" lang="pl-PL" sz="1400" spc="-1" strike="noStrike">
                <a:solidFill>
                  <a:srgbClr val="000000"/>
                </a:solidFill>
                <a:latin typeface="Arial"/>
                <a:ea typeface="Arial"/>
              </a:rPr>
              <a:t>3.5 oraz 3.2 </a:t>
            </a:r>
            <a:r>
              <a:rPr b="0" lang="pl-PL" sz="1400" spc="-1" strike="noStrike">
                <a:solidFill>
                  <a:srgbClr val="000000"/>
                </a:solidFill>
                <a:latin typeface="Arial"/>
                <a:ea typeface="Arial"/>
              </a:rPr>
              <a:t>wniosku od dofinansowanie projektu. W punkcie 3.5 wniosku projektodawca musi jasno zadeklarować, że w okresie realizacji projektu będzie prowadził biuro na terenie województwa zachodniopomorskiego, w którym będzie dostępna pełna dokumentacji projektu (również po jego zakończeniu) oraz gdzie będzie pracował kluczowy personel realizujący projekt. Jeśli projektodawca posiada siedzibę na terenie województwa zachodniopomorskiego (wskazaną w punkcie 2.5 wniosku) to jest to wystarczające dla spełnienia kryterium. Ponadto w części 3.2 wniosku należy wyraźnie zapisać, że osoby uzyskujące wsparcie w ramach projektu będą mieszkańcami województwa zachodniopomorskiego/ powiatu z terenu województwa/ gminy z terenu województwa.</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15-25 lat, opuszczające rodziny zastępcze, placówki opiekuńczo-wychowawcze oraz placówki, o których mowa w art. 88 ustawy o pomocy społecznej, mające trudności z integracją zawodową i społeczn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Kryterium będzie weryfikowane na podstawie odpowiednich zapisów w punkcie 1.12 , 3.3, 3.4 </a:t>
            </a:r>
            <a:br>
              <a:rPr sz="1400"/>
            </a:br>
            <a:r>
              <a:rPr b="0" lang="pl-PL" sz="1400" spc="-1" strike="noStrike">
                <a:solidFill>
                  <a:srgbClr val="000000"/>
                </a:solidFill>
                <a:latin typeface="Arial"/>
              </a:rPr>
              <a:t>i 3.5 (w zakresie kryterium strategicznego nr 1) oraz 3.1 i 3.2 (w zakresie kryterium strategicznego nr 2) wniosku od dofinansowanie projektu. Kryteria strategiczne są weryfikowane na podstawie treści wniosku i nie jest możliwe ich przyznanie w przypadku braku odpowiedniej informacji.</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rojekty złożone w odpowiedzi na konkurs 1/VII/INN/10 </a:t>
            </a:r>
            <a:r>
              <a:rPr b="1" lang="pl-PL" sz="1400" spc="-1" strike="noStrike" u="sng">
                <a:solidFill>
                  <a:srgbClr val="ff0000"/>
                </a:solidFill>
                <a:uFillTx/>
                <a:latin typeface="Arial"/>
              </a:rPr>
              <a:t>co do zasady nie powinny zakładać</a:t>
            </a:r>
            <a:r>
              <a:rPr b="1" lang="pl-PL" sz="1400" spc="-1" strike="noStrike">
                <a:solidFill>
                  <a:srgbClr val="ff0000"/>
                </a:solidFill>
                <a:latin typeface="Arial"/>
              </a:rPr>
              <a:t> </a:t>
            </a:r>
            <a:r>
              <a:rPr b="1" lang="pl-PL" sz="1400" spc="-1" strike="noStrike">
                <a:solidFill>
                  <a:srgbClr val="000000"/>
                </a:solidFill>
                <a:latin typeface="Arial"/>
              </a:rPr>
              <a:t>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rzypadku jej wystąpienia zastosowanie ma </a:t>
            </a:r>
            <a:r>
              <a:rPr b="0" i="1" lang="pl-PL" sz="1400" spc="-1" strike="noStrike">
                <a:solidFill>
                  <a:srgbClr val="000000"/>
                </a:solidFill>
                <a:latin typeface="Arial"/>
              </a:rPr>
              <a:t>Rozporządzenie Ministra Rozwoju Regionalnego z dnia 6 maja 2008 r. w sprawie udzielania pomocy publicznej w ramach Programu Operacyjnego Kapitał Ludzki. </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5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696 608,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Arial"/>
              </a:rPr>
              <a:t> </a:t>
            </a:r>
            <a:r>
              <a:rPr b="1" lang="pl-PL" sz="1400" spc="-1" strike="noStrike">
                <a:solidFill>
                  <a:srgbClr val="ff0000"/>
                </a:solidFill>
                <a:latin typeface="Arial"/>
              </a:rPr>
              <a:t>9 092 116,8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04 491,2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42600" y="1143000"/>
            <a:ext cx="7929720" cy="4983120"/>
          </a:xfrm>
          <a:prstGeom prst="rect">
            <a:avLst/>
          </a:prstGeom>
          <a:noFill/>
          <a:ln w="0">
            <a:noFill/>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Tworzenie i wdrażanie systemowych rozwiązań podwyższających innowacyjność </a:t>
            </a:r>
            <a:br>
              <a:rPr sz="1400"/>
            </a:br>
            <a:r>
              <a:rPr b="1" lang="pl-PL" sz="1400" spc="-1" strike="noStrike">
                <a:solidFill>
                  <a:srgbClr val="ff0000"/>
                </a:solidFill>
                <a:latin typeface="Arial"/>
              </a:rPr>
              <a:t>i adaptacyjność pracowników i przedsiębiorstw na poziomie regionalnym.</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sparcie świadczenia w jednym miejscu kompleksowych usług – informacyjnych doradczych i finansowych – dla przedsiębiorców i osób zamierzających rozpocząć prowadzenie działalności gospodarczej.</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Analiza, testowanie i wdrażanie idei flexicurity.</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42600" y="1052280"/>
            <a:ext cx="7929720" cy="5019480"/>
          </a:xfrm>
          <a:prstGeom prst="rect">
            <a:avLst/>
          </a:prstGeom>
          <a:noFill/>
          <a:ln w="0">
            <a:noFill/>
          </a:ln>
        </p:spPr>
        <p:txBody>
          <a:bodyPr anchor="t">
            <a:normAutofit fontScale="90000"/>
          </a:bodyPr>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dsiębiorcy i ich pracownicy (w tym osoby wykonujące pracę na podstawie umowy cywilno – prawnej);</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odawcy i pracownicy pracodawców przechodzących procesy adaptacyjne </a:t>
            </a:r>
            <a:br>
              <a:rPr sz="1400"/>
            </a:br>
            <a:r>
              <a:rPr b="0" lang="pl-PL" sz="1400" spc="-1" strike="noStrike">
                <a:solidFill>
                  <a:srgbClr val="000000"/>
                </a:solidFill>
                <a:latin typeface="Arial"/>
              </a:rPr>
              <a:t>i modernizacyjn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których stosunek pracy wygasł lub został rozwiązany z przyczyn niedotyczących pracownika w okresie nie dłuższym niż 6 miesięcy przed dniem przystąpienia do projektu;</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organizacje pracodawców i związk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odchodzące z rolnictwa lub rybołówstwa (rybactw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y gospodarcze 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dnostki samorządu terytorialnego;</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rynku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ć lokaln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e pozarzą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toranci, absolwenci uczelni (w okresie 12 miesięcy od daty ukończenia studiów) i studenci.</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4"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76"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400" y="1193760"/>
            <a:ext cx="8189640" cy="566424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a:t>
            </a: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Kryterium będzie weryfikowane na podstawie zapisów w punkcie 3.5 wniosku o dofinansowanie</a:t>
            </a:r>
            <a:r>
              <a:rPr b="0" i="1" lang="pl-PL" sz="1400" spc="-1" strike="noStrike">
                <a:solidFill>
                  <a:srgbClr val="000000"/>
                </a:solidFill>
                <a:latin typeface="Tahoma"/>
              </a:rPr>
              <a:t> projektu</a:t>
            </a:r>
            <a:r>
              <a:rPr b="0" i="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28400" y="1193760"/>
            <a:ext cx="8189640" cy="5664240"/>
          </a:xfrm>
          <a:prstGeom prst="rect">
            <a:avLst/>
          </a:prstGeom>
          <a:noFill/>
          <a:ln w="0">
            <a:noFill/>
          </a:ln>
        </p:spPr>
        <p:txBody>
          <a:bodyPr anchor="t">
            <a:normAutofit fontScale="79000"/>
          </a:bodyPr>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zależności od wyboru grupy odbiorców projektu innowacyjnego, w przypadku kierowania wsparcia do osób należy wskazać na fakt ich zamieszkania w województwie zachodniopomorskim (w rozumieniu Kodeksu Cywilnego), a w przypadku podmiotów – </a:t>
            </a:r>
            <a:br>
              <a:rPr sz="1400"/>
            </a:br>
            <a:r>
              <a:rPr b="0" lang="pl-PL" sz="1400" spc="-1" strike="noStrike">
                <a:solidFill>
                  <a:srgbClr val="000000"/>
                </a:solidFill>
                <a:latin typeface="Arial"/>
              </a:rPr>
              <a:t>na prowadzenie działalności na terenie woj. Zachodniopomorskiego.</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odawca w przeciągu ostatnich 12 miesięcy poprzedzających złożenie wniosku uzyskał przychód w wysokości minimum 50% wnioskowanego dofinansowania (kryterium nie stosuje się do jednostek sektora publicznego).</a:t>
            </a: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5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1214280"/>
            <a:ext cx="81154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3.3, 3.4, 3.5 wniosku </a:t>
            </a:r>
            <a:br>
              <a:rPr sz="1400"/>
            </a:br>
            <a:r>
              <a:rPr b="0" i="1" lang="pl-PL" sz="1400" spc="-1" strike="noStrike">
                <a:solidFill>
                  <a:srgbClr val="000000"/>
                </a:solidFill>
                <a:latin typeface="Tahoma"/>
              </a:rPr>
              <a:t>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45 + lub wypracowane instrumenty pozwolą </a:t>
            </a:r>
            <a:br>
              <a:rPr sz="1400"/>
            </a:br>
            <a:r>
              <a:rPr b="0" lang="pl-PL" sz="1400" spc="-1" strike="noStrike">
                <a:solidFill>
                  <a:srgbClr val="000000"/>
                </a:solidFill>
                <a:latin typeface="Arial"/>
              </a:rPr>
              <a:t>na stosowanie rozwiązań skutkujących zwiększeniem odsetka aktywności zawodowej osób </a:t>
            </a:r>
            <a:br>
              <a:rPr sz="1400"/>
            </a:br>
            <a:r>
              <a:rPr b="0" lang="pl-PL" sz="1400" spc="-1" strike="noStrike">
                <a:solidFill>
                  <a:srgbClr val="000000"/>
                </a:solidFill>
                <a:latin typeface="Arial"/>
              </a:rPr>
              <a:t>po 45 r.ż.</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Tahoma"/>
              </a:rPr>
              <a:t>Stosuje się do Tematu nr: 1, 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3840" y="928440"/>
            <a:ext cx="8929800" cy="5073480"/>
          </a:xfrm>
          <a:prstGeom prst="rect">
            <a:avLst/>
          </a:prstGeom>
          <a:noFill/>
          <a:ln w="0">
            <a:noFill/>
          </a:ln>
        </p:spPr>
        <p:txBody>
          <a:bodyPr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W </a:t>
            </a:r>
            <a:r>
              <a:rPr b="1" lang="pl-PL" sz="1400" spc="-1" strike="noStrike">
                <a:solidFill>
                  <a:srgbClr val="000000"/>
                </a:solidFill>
                <a:latin typeface="Arial"/>
              </a:rPr>
              <a:t>projektach złożonych w odpowiedzi na konkurs 1/VIII/INN/10 </a:t>
            </a:r>
            <a:r>
              <a:rPr b="1" lang="pl-PL" sz="1400" spc="-1" strike="noStrike" u="sng">
                <a:solidFill>
                  <a:srgbClr val="ff0000"/>
                </a:solidFill>
                <a:uFillTx/>
                <a:latin typeface="Arial"/>
              </a:rPr>
              <a:t>może wystąpić pomoc publiczna, </a:t>
            </a:r>
            <a:br>
              <a:rPr sz="1400"/>
            </a:br>
            <a:r>
              <a:rPr b="0" lang="pl-PL" sz="1400" spc="-1" strike="noStrike">
                <a:solidFill>
                  <a:srgbClr val="000000"/>
                </a:solidFill>
                <a:latin typeface="Arial"/>
              </a:rPr>
              <a:t>w przypadku:</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ń (ogólnych i specjalistyczn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usług doradcz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mocy de minimis.</a:t>
            </a:r>
            <a:endParaRPr b="0" lang="en-US" sz="1400" spc="-1" strike="noStrike">
              <a:solidFill>
                <a:srgbClr val="000000"/>
              </a:solidFill>
              <a:latin typeface="Tahoma"/>
            </a:endParaRPr>
          </a:p>
          <a:p>
            <a:pPr marL="335880" indent="-3358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godnie z przepisami rozporządzenia Komisji nr 800/2008, jednym z warunków przyznania pomocy publicznej w ramach wyłączeń blokowych jest wystąpienie efektu zachęty, który gwarantuje, że bez udzielonej pomocy publicznej dany projekt nie zostałby zrealizowany w przewidzianej formie lub zakresie.</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rostokąt 1"/>
          <p:cNvSpPr/>
          <p:nvPr/>
        </p:nvSpPr>
        <p:spPr>
          <a:xfrm>
            <a:off x="714240" y="1071720"/>
            <a:ext cx="7858440" cy="407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Na etapie składania wniosku o dofinansowanie z komponentem ponadnarodowym zaplanowanym od początku realizacji projektu, Wnioskodawcę i jego potencjalnego partnera/ów zagranicznych musi wiązać </a:t>
            </a:r>
            <a:r>
              <a:rPr b="1" lang="pl-PL" sz="1400" spc="-1" strike="noStrike">
                <a:solidFill>
                  <a:srgbClr val="ff0000"/>
                </a:solidFill>
                <a:latin typeface="Arial"/>
                <a:ea typeface="Arial"/>
              </a:rPr>
              <a:t>list intencyjny</a:t>
            </a:r>
            <a:r>
              <a:rPr b="0" lang="pl-PL" sz="1400" spc="-1" strike="noStrike">
                <a:solidFill>
                  <a:srgbClr val="000000"/>
                </a:solidFill>
                <a:latin typeface="Arial"/>
                <a:ea typeface="Arial"/>
              </a:rPr>
              <a:t>, przygotowany zgodnie z Zasadami dokonywania wyboru projektów w ramach PO KL.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zór listu intencyjnego stanowi </a:t>
            </a:r>
            <a:r>
              <a:rPr b="1" lang="pl-PL" sz="1400" spc="-1" strike="noStrike">
                <a:solidFill>
                  <a:srgbClr val="ff0000"/>
                </a:solidFill>
                <a:latin typeface="Arial"/>
                <a:ea typeface="Arial"/>
              </a:rPr>
              <a:t>załącznik nr 7.5.1</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o dokumentacji konkurs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rostokąt 1"/>
          <p:cNvSpPr/>
          <p:nvPr/>
        </p:nvSpPr>
        <p:spPr>
          <a:xfrm>
            <a:off x="642960" y="1214280"/>
            <a:ext cx="7858080" cy="4923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a:solidFill>
                  <a:srgbClr val="000000"/>
                </a:solidFill>
                <a:latin typeface="Arial"/>
              </a:rPr>
              <a:t>Do wniosku o dofinansowanie projektu z komponentem ponadnarodowym należy dołączyć kopię </a:t>
            </a:r>
            <a:r>
              <a:rPr b="1" lang="pl-PL" sz="1400" spc="-1" strike="noStrike">
                <a:solidFill>
                  <a:srgbClr val="ff0000"/>
                </a:solidFill>
                <a:latin typeface="Arial"/>
              </a:rPr>
              <a:t>listu intencyjnego </a:t>
            </a:r>
            <a:r>
              <a:rPr b="1" lang="pl-PL" sz="1400" spc="-1" strike="noStrike">
                <a:solidFill>
                  <a:srgbClr val="000000"/>
                </a:solidFill>
                <a:latin typeface="Arial"/>
              </a:rPr>
              <a:t>poświadczoną za zgodność z oryginałem przez osobę uprawnioną do podejmowania decyzji wiążących w stosunku do projektodawcy</a:t>
            </a:r>
            <a:r>
              <a:rPr b="0" lang="pl-PL" sz="1400" spc="-1" strike="noStrike">
                <a:solidFill>
                  <a:srgbClr val="000000"/>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list intencyjny składany jest jednocześnie w ramach PO KL i innych programów operacyjnych współfinansowanych przez EFS (lub w ramach innych europejskich źródeł finansowania) w krajach pochodzenia partnerów ponadnarodowych, Projektodawcy przysługuje prawo </a:t>
            </a:r>
            <a:r>
              <a:rPr b="1" lang="pl-PL" sz="1400" spc="-1" strike="noStrike">
                <a:solidFill>
                  <a:srgbClr val="ff0000"/>
                </a:solidFill>
                <a:latin typeface="Arial"/>
              </a:rPr>
              <a:t>modyfikowania</a:t>
            </a:r>
            <a:r>
              <a:rPr b="0" lang="pl-PL" sz="1400" spc="-1" strike="noStrike">
                <a:solidFill>
                  <a:srgbClr val="000000"/>
                </a:solidFill>
                <a:latin typeface="Arial"/>
              </a:rPr>
              <a:t> wzoru listu intencyjnego z zastrzeżeniem zapisów wskazujących na wolę podpisania umowy o współpracy ponadnarodowej;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ist intencyjny jest składany w języku roboczym partnerstwa współpracy ponadnarodowej  </a:t>
            </a:r>
            <a:r>
              <a:rPr b="0" lang="pl-PL" sz="1400" spc="-1" strike="noStrike">
                <a:solidFill>
                  <a:srgbClr val="ff0000"/>
                </a:solidFill>
                <a:latin typeface="Arial"/>
              </a:rPr>
              <a:t>(</a:t>
            </a:r>
            <a:r>
              <a:rPr b="1" lang="pl-PL" sz="1400" spc="-1" strike="noStrike">
                <a:solidFill>
                  <a:srgbClr val="ff0000"/>
                </a:solidFill>
                <a:latin typeface="Arial"/>
              </a:rPr>
              <a:t>angielski, francuski, niemiecki lub polski)</a:t>
            </a:r>
            <a:r>
              <a:rPr b="0" lang="pl-PL" sz="1400" spc="-1" strike="noStrike">
                <a:solidFill>
                  <a:srgbClr val="000000"/>
                </a:solidFill>
                <a:latin typeface="Arial"/>
              </a:rPr>
              <a:t>. Wersja dokumentu podpisana w języku roboczym ma charakter obowiązujący, przy czym - wraz z kopią listu sformułowanego                  w języku innym niż język polski, Wnioskodawca składa tłumaczenie listu intencyjnego na język polski. </a:t>
            </a:r>
            <a:r>
              <a:rPr b="0" lang="pl-PL" sz="1400" spc="-1" strike="noStrike" u="sng">
                <a:solidFill>
                  <a:srgbClr val="ff0000"/>
                </a:solidFill>
                <a:uFillTx/>
                <a:latin typeface="Arial"/>
              </a:rPr>
              <a:t>Nie ma obowiązku składania jego wersji przetłumaczonej przez tłumacza przysięgłego</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rostokąt 1"/>
          <p:cNvSpPr/>
          <p:nvPr/>
        </p:nvSpPr>
        <p:spPr>
          <a:xfrm>
            <a:off x="642960" y="1143000"/>
            <a:ext cx="7929720" cy="3902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 poszczególnymi partnerami ponadnarodowymi planowana jest wzajemna współpraca – formułuje się jeden list intencyjny podpisany przez wszystkich partnerów ponadnarodowych. W przypadku gdy projektodawca nawiązuje współpracę z każdym partnerem z osobna (pomiędzy poszczególnymi partnerami zagranicznymi nie dochodzi </a:t>
            </a:r>
            <a:br>
              <a:rPr sz="1400"/>
            </a:br>
            <a:r>
              <a:rPr b="0" lang="pl-PL" sz="1400" spc="-1" strike="noStrike">
                <a:solidFill>
                  <a:srgbClr val="000000"/>
                </a:solidFill>
                <a:latin typeface="Arial"/>
              </a:rPr>
              <a:t>do współpracy) – podpisuje listy intencyjne z każdym z nich oddzielnie;</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ski projektodawca może złożyć </a:t>
            </a:r>
            <a:r>
              <a:rPr b="1" lang="pl-PL" sz="1400" spc="-1" strike="noStrike">
                <a:solidFill>
                  <a:srgbClr val="ff0000"/>
                </a:solidFill>
                <a:latin typeface="Arial"/>
              </a:rPr>
              <a:t>maksymalnie trzy kopie listów intencyjnych </a:t>
            </a:r>
            <a:r>
              <a:rPr b="0" lang="pl-PL" sz="1400" spc="-1" strike="noStrike">
                <a:solidFill>
                  <a:srgbClr val="000000"/>
                </a:solidFill>
                <a:latin typeface="Arial"/>
              </a:rPr>
              <a:t>w ramach jednego wniosku o dofinansowanie wniosku;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rzedkłada projekt w partnerstwie krajowym, wówczas jako lider </a:t>
            </a:r>
            <a:br>
              <a:rPr sz="1400"/>
            </a:br>
            <a:r>
              <a:rPr b="0" lang="pl-PL" sz="1400" spc="-1" strike="noStrike">
                <a:solidFill>
                  <a:srgbClr val="000000"/>
                </a:solidFill>
                <a:latin typeface="Arial"/>
              </a:rPr>
              <a:t>w imieniu partnerstwa krajowego, składa podpis pod listem intencyjny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VII/INN/10 </a:t>
            </a:r>
            <a:r>
              <a:rPr b="0" lang="pl-PL" sz="1400" spc="-1" strike="noStrike">
                <a:solidFill>
                  <a:srgbClr val="000000"/>
                </a:solidFill>
                <a:latin typeface="Arial"/>
              </a:rPr>
              <a:t>oraz</a:t>
            </a:r>
            <a:r>
              <a:rPr b="1" lang="pl-PL" sz="1400" spc="-1" strike="noStrike">
                <a:solidFill>
                  <a:srgbClr val="ff0000"/>
                </a:solidFill>
                <a:latin typeface="Arial"/>
              </a:rPr>
              <a:t> 1/VIII/INN/10 </a:t>
            </a:r>
            <a:r>
              <a:rPr b="1" lang="pl-PL" sz="1400" spc="-1" strike="noStrike" u="sng">
                <a:solidFill>
                  <a:srgbClr val="000000"/>
                </a:solidFill>
                <a:uFillTx/>
                <a:latin typeface="Arial"/>
              </a:rPr>
              <a:t> przewiduje się</a:t>
            </a:r>
            <a:r>
              <a:rPr b="0" lang="pl-PL" sz="1400" spc="-1" strike="noStrike">
                <a:solidFill>
                  <a:srgbClr val="000000"/>
                </a:solidFill>
                <a:latin typeface="Arial"/>
              </a:rPr>
              <a:t> możliwości realizacji projektów </a:t>
            </a:r>
            <a:r>
              <a:rPr b="1" lang="pl-PL" sz="1400" spc="-1" strike="noStrike">
                <a:solidFill>
                  <a:srgbClr val="ff0000"/>
                </a:solidFill>
                <a:latin typeface="Arial"/>
              </a:rPr>
              <a:t>z komponentem ponadnarodowym zaplanowanym do realizacji na etapie opracowania wniosku o dofinansowanie</a:t>
            </a:r>
            <a:r>
              <a:rPr b="0"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5"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1125000"/>
            <a:ext cx="8229600" cy="4929480"/>
          </a:xfrm>
          <a:prstGeom prst="rect">
            <a:avLst/>
          </a:prstGeom>
          <a:noFill/>
          <a:ln w="0">
            <a:noFill/>
          </a:ln>
        </p:spPr>
        <p:txBody>
          <a:bodyPr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12120" indent="-31212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12120" indent="-312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Wykaz stron internetowych, na których dostępne są przykłady projektów innowacyjnych:</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1"/>
              </a:rPr>
              <a:t>http://www.equal.org.pl/baza.php?M=3&amp;lan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2"/>
              </a:rPr>
              <a:t>http://leonardo.or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3"/>
              </a:rPr>
              <a:t>http://www.pracownik50plus.pl/o-projekcie/</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8" name="Rectangle 5"/>
          <p:cNvSpPr/>
          <p:nvPr/>
        </p:nvSpPr>
        <p:spPr>
          <a:xfrm>
            <a:off x="250920" y="1785960"/>
            <a:ext cx="8497800" cy="946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Brak możliwości finansowania projektu w ramach innych typów operacji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00"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3"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9"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10"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4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4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4"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kiw-pokl.org.pl/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equal.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leonardo.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434 197,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8 869 067,4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565 129,5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Ponadto, w przypadku realizacji projektów innowacyjnych z komponentem ponadnarodowym,</a:t>
            </a:r>
            <a:r>
              <a:rPr b="1" lang="pl-PL" sz="1400" spc="-1" strike="noStrike">
                <a:solidFill>
                  <a:srgbClr val="000000"/>
                </a:solidFill>
                <a:latin typeface="Arial"/>
              </a:rPr>
              <a:t> 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następujące błędy formalne </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opii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łumaczenia listu/ów intencyjnego/ych – w przypadku, gdy list intencyjny sporządzono </a:t>
            </a:r>
            <a:br>
              <a:rPr sz="1400"/>
            </a:br>
            <a:r>
              <a:rPr b="0" lang="pl-PL" sz="1400" spc="-1" strike="noStrike">
                <a:solidFill>
                  <a:srgbClr val="000000"/>
                </a:solidFill>
                <a:latin typeface="Arial"/>
                <a:ea typeface="Arial"/>
              </a:rPr>
              <a:t>w języku innym niż język polski;</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tłumaczenia listu/ów intencyjnego/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28760" y="1571760"/>
            <a:ext cx="8229600" cy="452592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Błędy formalne popełnione w zeszłorocznych konkursach innowacyj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ostał złożony w postaci wydruku z GWA-Edytor wersja 4.3.4 off-li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ie wskazany numer i nazwa działania w polu 1.2 (nie wskazano „wirtualnego” Działania 6.4 (przez co cały wzór wniosku był in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w polu 2.8 danych partnera ponadnarodowego w przypadku zaznaczenia w polu 1.12 „Projekt z komponentem ponadnarodowym” opcji TAK;</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alidacji wniosku (złożony wydruk próbny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nazw podzadań oraz jednostek miary i ilości w Szczegółowym budżecie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pełnienie pola </a:t>
            </a:r>
            <a:r>
              <a:rPr b="0" i="1" lang="pl-PL" sz="1400" spc="-1" strike="noStrike">
                <a:solidFill>
                  <a:srgbClr val="000000"/>
                </a:solidFill>
                <a:latin typeface="Arial"/>
                <a:ea typeface="Arial"/>
              </a:rPr>
              <a:t>liczba uczestników </a:t>
            </a:r>
            <a:r>
              <a:rPr b="0" lang="pl-PL" sz="1400" spc="-1" strike="noStrike">
                <a:solidFill>
                  <a:srgbClr val="000000"/>
                </a:solidFill>
                <a:latin typeface="Arial"/>
                <a:ea typeface="Arial"/>
              </a:rPr>
              <a:t> w harmonogramie realizacji projekt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złożenie listu intencyjnego (wymaganego w przypadku projektów innowacyjnych </a:t>
            </a:r>
            <a:br>
              <a:rPr sz="1400"/>
            </a:br>
            <a:r>
              <a:rPr b="0" lang="pl-PL" sz="1400" spc="-1" strike="noStrike">
                <a:solidFill>
                  <a:srgbClr val="000000"/>
                </a:solidFill>
                <a:latin typeface="Arial"/>
                <a:ea typeface="Arial"/>
              </a:rPr>
              <a:t>z komponentem ponadnarodowym, projektodawcę i partnera zagranicznego musi wiązać list intencyj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skazanie partnera w punkcie 2.8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araf na załączniku finans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0"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2"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3"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6"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143000"/>
            <a:ext cx="792972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ff0000"/>
                </a:solidFill>
                <a:latin typeface="Arial"/>
              </a:rPr>
              <a:t>1.  Poszukiwanie metod wczesnej interwencji socjalnej i przeciwdziałania wykluczeniu społecznemu dzieci i młodzież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2. Zwiększenie oferty istniejących, wykreowanie nowych instytucji działających </a:t>
            </a:r>
            <a:br>
              <a:rPr sz="1400"/>
            </a:br>
            <a:r>
              <a:rPr b="1" lang="pl-PL" sz="1400" spc="-1" strike="noStrike">
                <a:solidFill>
                  <a:srgbClr val="ff0000"/>
                </a:solidFill>
                <a:latin typeface="Arial"/>
              </a:rPr>
              <a:t>na rzecz integracji społecznej grup zmarginalizowanych, wykluczonych bądź zagrożonych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muszą być skierowane bezpośrednio do grup odbiorców, wpisujących się w zakres </a:t>
            </a:r>
            <a:br>
              <a:rPr sz="1400"/>
            </a:br>
            <a:r>
              <a:rPr b="0" lang="pl-PL" sz="1400" spc="-1" strike="noStrike">
                <a:solidFill>
                  <a:srgbClr val="000000"/>
                </a:solidFill>
                <a:latin typeface="Arial"/>
              </a:rPr>
              <a:t>i cele Priorytetu VII Promocja integracji społecznej, w ramach którego są wdraża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ryfikacji podlegać będzie fakt, czy objęcie danej grupy docelowej przyczynia się </a:t>
            </a:r>
            <a:br>
              <a:rPr sz="1400"/>
            </a:br>
            <a:r>
              <a:rPr b="0" lang="pl-PL" sz="1400" spc="-1" strike="noStrike">
                <a:solidFill>
                  <a:srgbClr val="000000"/>
                </a:solidFill>
                <a:latin typeface="Arial"/>
              </a:rPr>
              <a:t>do realizacji Priorytetu VI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5-28T10:44:35Z</dcterms:modified>
  <cp:revision>483</cp:revision>
  <dc:subject/>
  <dc:title>Slajd 1</dc:title>
</cp:coreProperties>
</file>