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6.xml.rels" ContentType="application/vnd.openxmlformats-package.relationships+xml"/>
  <Override PartName="/ppt/notesSlides/_rels/notesSlide64.xml.rels" ContentType="application/vnd.openxmlformats-package.relationships+xml"/>
  <Override PartName="/ppt/notesSlides/notesSlide64.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0B3F-6D40-4721-BA04-EDCC195BBC1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7ED8-5C45-49F7-9672-7CCE9BAB8B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397B-2F9D-4115-9350-20A5D79F95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hyperlink" Target="http://www.rownystatus.gov.pl/"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2/9.2/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9 listopad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400" y="1193760"/>
            <a:ext cx="8189640" cy="5664240"/>
          </a:xfrm>
          <a:prstGeom prst="rect">
            <a:avLst/>
          </a:prstGeom>
          <a:noFill/>
          <a:ln w="0">
            <a:noFill/>
          </a:ln>
        </p:spPr>
        <p:txBody>
          <a:bodyPr anchor="t">
            <a:normAutofit fontScale="84000"/>
          </a:bodyPr>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1 r.</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 W pkt. 1.8 należy więc wskazać właściwy okres realizacji projektu.</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200 tysięcy złotych.</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3.1 </a:t>
            </a:r>
            <a:r>
              <a:rPr b="0" i="1" lang="pl-PL" sz="1400" spc="-1" strike="noStrike">
                <a:solidFill>
                  <a:srgbClr val="000000"/>
                </a:solidFill>
                <a:latin typeface="Arial"/>
              </a:rPr>
              <a:t>koszty ogółem </a:t>
            </a:r>
            <a:r>
              <a:rPr b="0" lang="pl-PL" sz="1400" spc="-1" strike="noStrike">
                <a:solidFill>
                  <a:srgbClr val="000000"/>
                </a:solidFill>
                <a:latin typeface="Arial"/>
              </a:rPr>
              <a:t>w części IV</a:t>
            </a:r>
            <a:r>
              <a:rPr b="0" i="1" lang="pl-PL" sz="1400" spc="-1" strike="noStrike">
                <a:solidFill>
                  <a:srgbClr val="000000"/>
                </a:solidFill>
                <a:latin typeface="Arial"/>
              </a:rPr>
              <a:t> budżet projektu </a:t>
            </a:r>
            <a:r>
              <a:rPr b="0" lang="pl-PL" sz="1400" spc="-1" strike="noStrike">
                <a:solidFill>
                  <a:srgbClr val="000000"/>
                </a:solidFill>
                <a:latin typeface="Arial"/>
              </a:rPr>
              <a:t>musi znaleźć się kwota nie mniejsza niż </a:t>
            </a:r>
            <a:br>
              <a:rPr sz="1400"/>
            </a:br>
            <a:r>
              <a:rPr b="0" lang="pl-PL" sz="1400" spc="-1" strike="noStrike">
                <a:solidFill>
                  <a:srgbClr val="000000"/>
                </a:solidFill>
                <a:latin typeface="Arial"/>
              </a:rPr>
              <a:t>200 tysięcy zł.</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w projekcie stanowią osoby uczące się lub mające miejsce zamieszkania </a:t>
            </a:r>
            <a:br>
              <a:rPr sz="1400"/>
            </a:br>
            <a:r>
              <a:rPr b="0" lang="pl-PL" sz="1400" spc="-1" strike="noStrike">
                <a:solidFill>
                  <a:srgbClr val="000000"/>
                </a:solidFill>
                <a:latin typeface="Arial"/>
                <a:ea typeface="Arial"/>
              </a:rPr>
              <a:t>na terenie województwa zachodniopomorskiego w rozumieniu Kodeksu Cywilnego lub szkoły </a:t>
            </a:r>
            <a:br>
              <a:rPr sz="1400"/>
            </a:br>
            <a:r>
              <a:rPr b="0" lang="pl-PL" sz="1400" spc="-1" strike="noStrike">
                <a:solidFill>
                  <a:srgbClr val="000000"/>
                </a:solidFill>
                <a:latin typeface="Arial"/>
                <a:ea typeface="Arial"/>
              </a:rPr>
              <a:t>i placówki realizujące kształcenie zawodowe zlokalizowane na terenie województwa zachodniopomorskiego bądź partnerzy społeczno – gospodarczy i pracodawcy mający swoją siedzibę lub filię na terenie województwa zachodniopomorski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rPr>
              <a:t> </a:t>
            </a:r>
            <a:r>
              <a:rPr b="0" lang="pl-PL" sz="1400" spc="-1" strike="noStrike">
                <a:solidFill>
                  <a:srgbClr val="000000"/>
                </a:solidFill>
                <a:latin typeface="Arial"/>
              </a:rPr>
              <a:t>W punkcie 3.2 wniosku należy opisać grupę docelową stanowiącą osoby uczące się lub mające miejsce zamieszkania na terenie województwa zachodniopomorskiego w rozumieniu Kodeksu Cywilnego lub szkoły i placówki realizujące kształcenie zawodowe zlokalizowane na terenie województwa zachodniopomorskiego bądź partnerów społeczno – gospodarczych i pracodawców mający swoją siedzibę lub filię na terenie województwa zachodniopomorski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 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68360" y="571320"/>
            <a:ext cx="8190000" cy="6072120"/>
          </a:xfrm>
          <a:prstGeom prst="rect">
            <a:avLst/>
          </a:prstGeom>
          <a:noFill/>
          <a:ln w="0">
            <a:noFill/>
          </a:ln>
        </p:spPr>
        <p:txBody>
          <a:bodyPr anchor="t">
            <a:normAutofit fontScale="87000"/>
          </a:bodyPr>
          <a:p>
            <a:pPr marL="298440" indent="-29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a:t>
            </a:r>
            <a:r>
              <a:rPr b="0" lang="pl-PL" sz="1400" spc="-1" strike="noStrike">
                <a:solidFill>
                  <a:srgbClr val="000000"/>
                </a:solidFill>
                <a:latin typeface="Arial"/>
              </a:rPr>
              <a:t>	</a:t>
            </a:r>
            <a:r>
              <a:rPr b="0" lang="pl-PL" sz="1400" spc="-1" strike="noStrike">
                <a:solidFill>
                  <a:srgbClr val="000000"/>
                </a:solidFill>
                <a:latin typeface="Arial"/>
              </a:rPr>
              <a:t>Projektodawcą jest jeden z następujących podmiotów: </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ła, placówka oświatowa (instytucje, kadra) i ich organ prowadzący, realizujące kształcenie zawodowe (z wyłączeniem szkół dla dorosłych), </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a pozarządowa prowadząca działalność statutową w zakresie edukacji w partnerstwie z organem prowadzącym szkołę lub placówkę oświatową.</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szkoła, placówka oświatowa, w punkcie 2.1 wniosku, należy zapisać nazwę organu prowadzącego oraz nazwę projektodawcy np. Gmina Miasto Szczecin / Szkoła Podstawowa Nr 1 w Szczecinie; w punkcie 2.2 wniosku należy zapisać status prawny projektodawcy (placówki oświatowej, szkoły).</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organizacja pozarządowa prowadząca działalność statutową w zakresie edukacji w punkcie 2.1 i 2.2 należy zapisać  informacje dotyczące danej organizacji, natomiast w punkcie 2.8 należy podać dane partnera tzn. organu prowadzącego szkołę lub placówkę oświatową.</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a pozarządowa prowadząca działalność statutową w zakresie edukacji zobowiązana jest realizować projekt w partnerstwie z organem prowadzącym szkołę lub placówkę oświatową.</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ą jest organizacja pozarządowa to w punkcie 3.5 wniosku należy wskazać, </a:t>
            </a:r>
            <a:br>
              <a:rPr sz="1400"/>
            </a:br>
            <a:r>
              <a:rPr b="0" lang="pl-PL" sz="1400" spc="-1" strike="noStrike">
                <a:solidFill>
                  <a:srgbClr val="000000"/>
                </a:solidFill>
                <a:latin typeface="Arial"/>
              </a:rPr>
              <a:t>że prowadzi ona działalność statutową w zakresie edukacji.</a:t>
            </a: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organ prowadzący w punkcie 2.1 i 2.2 należy wpisać dane dotyczące danej jednostki.</a:t>
            </a:r>
            <a:endParaRPr b="0" lang="en-US" sz="1400" spc="-1" strike="noStrike">
              <a:solidFill>
                <a:srgbClr val="000000"/>
              </a:solidFill>
              <a:latin typeface="Tahoma"/>
            </a:endParaRPr>
          </a:p>
          <a:p>
            <a:pPr marL="298440" indent="-29844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571320"/>
            <a:ext cx="8190000" cy="6072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6.</a:t>
            </a:r>
            <a:r>
              <a:rPr b="0" lang="pl-PL" sz="1400" spc="-1" strike="noStrike">
                <a:solidFill>
                  <a:srgbClr val="000000"/>
                </a:solidFill>
                <a:latin typeface="Arial"/>
                <a:ea typeface="Arial"/>
              </a:rPr>
              <a:t>	</a:t>
            </a:r>
            <a:r>
              <a:rPr b="0" lang="pl-PL" sz="1400" spc="-1" strike="noStrike">
                <a:solidFill>
                  <a:srgbClr val="000000"/>
                </a:solidFill>
                <a:latin typeface="Arial"/>
              </a:rPr>
              <a:t>Projektodawca wnosi  wkład własny  w wysokości 12% wartości projektu w postaci środków pochodzących z budżetu jednostki samorządu terytoria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IV Budżet projektu w pkt 4.3 </a:t>
            </a:r>
            <a:r>
              <a:rPr b="0" i="1" lang="pl-PL" sz="1400" spc="-1" strike="noStrike">
                <a:solidFill>
                  <a:srgbClr val="000000"/>
                </a:solidFill>
                <a:latin typeface="Arial"/>
              </a:rPr>
              <a:t>wkład własny </a:t>
            </a:r>
            <a:r>
              <a:rPr b="0" lang="pl-PL" sz="1400" spc="-1" strike="noStrike">
                <a:solidFill>
                  <a:srgbClr val="000000"/>
                </a:solidFill>
                <a:latin typeface="Arial"/>
              </a:rPr>
              <a:t>należy wpisać kwotę odpowiadającą 12% kosztów</a:t>
            </a:r>
            <a:r>
              <a:rPr b="0" i="1" lang="pl-PL" sz="1400" spc="-1" strike="noStrike">
                <a:solidFill>
                  <a:srgbClr val="000000"/>
                </a:solidFill>
                <a:latin typeface="Arial"/>
              </a:rPr>
              <a:t> </a:t>
            </a:r>
            <a:r>
              <a:rPr b="0" lang="pl-PL" sz="1400" spc="-1" strike="noStrike">
                <a:solidFill>
                  <a:srgbClr val="000000"/>
                </a:solidFill>
                <a:latin typeface="Arial"/>
              </a:rPr>
              <a:t>ogół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wkład własny ma charakter niepieniężny należy go również wykazać w pkt 4.3.1</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budżecie projektu przy kosztach, które będą stanowiły wkład niepieniężny, </a:t>
            </a:r>
            <a:br>
              <a:rPr sz="1400"/>
            </a:br>
            <a:r>
              <a:rPr b="0" lang="pl-PL" sz="1400" spc="-1" strike="noStrike">
                <a:solidFill>
                  <a:srgbClr val="000000"/>
                </a:solidFill>
                <a:latin typeface="Arial"/>
              </a:rPr>
              <a:t>w polu </a:t>
            </a:r>
            <a:r>
              <a:rPr b="0" i="1" lang="pl-PL" sz="1400" spc="-1" strike="noStrike">
                <a:solidFill>
                  <a:srgbClr val="000000"/>
                </a:solidFill>
                <a:latin typeface="Arial"/>
              </a:rPr>
              <a:t>kategoria</a:t>
            </a:r>
            <a:r>
              <a:rPr b="0" lang="pl-PL" sz="1400" spc="-1" strike="noStrike">
                <a:solidFill>
                  <a:srgbClr val="000000"/>
                </a:solidFill>
                <a:latin typeface="Arial"/>
              </a:rPr>
              <a:t>, należy wpisać „wkład własny niepieniężn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214280"/>
            <a:ext cx="8229600" cy="4911840"/>
          </a:xfrm>
          <a:prstGeom prst="rect">
            <a:avLst/>
          </a:prstGeom>
          <a:noFill/>
          <a:ln w="0">
            <a:noFill/>
          </a:ln>
        </p:spPr>
        <p:txBody>
          <a:bodyPr anchor="t">
            <a:normAutofit fontScale="77000"/>
          </a:bodyPr>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 Projekt jest realizowany w szkołach lub placówkach prowadzących kształcenie zawodowe, </a:t>
            </a:r>
            <a:br>
              <a:rPr sz="1400"/>
            </a:br>
            <a:r>
              <a:rPr b="0" lang="pl-PL" sz="1400" spc="-1" strike="noStrike">
                <a:solidFill>
                  <a:srgbClr val="000000"/>
                </a:solidFill>
                <a:latin typeface="Arial"/>
              </a:rPr>
              <a:t>w których uczniowie osiągnęli średni wynik w ubiegłorocznych egzaminach zewnętrznych (maturalnych i/lub zawodowych), niższy od średniej wojewódzkiej.</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5</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1 i 3.2 wniosku należy zapisać, że projekt realizowany będzie w szkołach lub placówkach oświatowych, których średni wynik egzaminu zewnętrznego (maturalnego i/lub zawodowego) w roku szkolnym 2008-2009 był niższy niż średnia w województwie zachodniopomorskim z wyżej wymienionych egzaminów. </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Projekt łączy wsparcie w zakresie „modernizacja oferty kształcenia zawodowego i dostosowanie jej do potrzeb lokalnego i regionalnego rynku pracy (wprowadzanie nowych kierunków kształcenia, modyfikacja nowych kierunków kształcenia, modyfikacja programów nauczania </a:t>
            </a:r>
            <a:br>
              <a:rPr sz="1400"/>
            </a:br>
            <a:r>
              <a:rPr b="0" lang="pl-PL" sz="1400" spc="-1" strike="noStrike">
                <a:solidFill>
                  <a:srgbClr val="000000"/>
                </a:solidFill>
                <a:latin typeface="Arial"/>
              </a:rPr>
              <a:t>na kierunkach istniejących)” ze wsparciem „wyposażenie szkół i placówek prowadzących kształcenie zawodowe w nowoczesne materiały dydaktyczne.</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5</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a:t>
            </a:r>
            <a:r>
              <a:rPr b="0" i="1" lang="pl-PL" sz="1400" spc="-1" strike="noStrike" u="sng">
                <a:solidFill>
                  <a:srgbClr val="000000"/>
                </a:solidFill>
                <a:uFillTx/>
                <a:latin typeface="Arial"/>
                <a:ea typeface="Arial"/>
              </a:rPr>
              <a:t> jedynie </a:t>
            </a:r>
            <a:r>
              <a:rPr b="0" i="1" lang="pl-PL" sz="1400" spc="-1" strike="noStrike">
                <a:solidFill>
                  <a:srgbClr val="000000"/>
                </a:solidFill>
                <a:latin typeface="Arial"/>
                <a:ea typeface="Arial"/>
              </a:rPr>
              <a:t>do typu projektu nr 2</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400" spc="-1" strike="noStrike">
                <a:solidFill>
                  <a:srgbClr val="000000"/>
                </a:solidFill>
                <a:latin typeface="Arial"/>
              </a:rPr>
              <a:t>W części 3.3 wniosku projektodawca winien zapisać iż projekt zakłada realizację określonych w kryterium strategicznym form wsparcia. </a:t>
            </a:r>
            <a:endParaRPr b="0" lang="en-US" sz="1400" spc="-1" strike="noStrike">
              <a:solidFill>
                <a:srgbClr val="000000"/>
              </a:solidFill>
              <a:latin typeface="Tahoma"/>
            </a:endParaRPr>
          </a:p>
          <a:p>
            <a:pPr marL="263880" indent="-263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3880" indent="-263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214280"/>
            <a:ext cx="822960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rPr>
              <a:t>Projekt zakłada wykorzystanie specjalistycznych stanowisk do przeprowadzania zewnętrznych egzaminów zawodowych zakupionych ze środków Europejskiego Funduszu Społecznego </a:t>
            </a:r>
            <a:br>
              <a:rPr sz="1400"/>
            </a:br>
            <a:r>
              <a:rPr b="0" lang="pl-PL" sz="1400" spc="-1" strike="noStrike">
                <a:solidFill>
                  <a:srgbClr val="000000"/>
                </a:solidFill>
                <a:latin typeface="Arial"/>
              </a:rPr>
              <a:t>w latach 2004 – 2006.</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Jak spełnić?</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punkcie 3.5 wniosku Projektodawca powinien zapisać, iż w ramach projektu wykorzystane zastaną specjalistyczne stanowiska do przeprowadzania zewnętrznych egzaminów zawodowych zakupionych ze środków Europejskiego Funduszu Społecznego na lata 2004- 2006.</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Jak spełnić?</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e wniosku (np. pkt 3.1 i 3.5) należy zapisać z jaką inwestycją finansową ze źródeł wspólnotowych innych niż Europejski Fundusz Społeczny projekt jest komplementarny i w jakim zakresie (tytuł projektu i kto jest jego projektodawcą).</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y w ramach Działania 9.2 realizowane są zgodnie z ustawą o systemie oświaty </a:t>
            </a:r>
            <a:br>
              <a:rPr sz="1400"/>
            </a:br>
            <a:r>
              <a:rPr b="0" lang="pl-PL" sz="1400" spc="-1" strike="noStrike">
                <a:solidFill>
                  <a:srgbClr val="000000"/>
                </a:solidFill>
                <a:latin typeface="Arial"/>
              </a:rPr>
              <a:t>w związku z czym, co do zasady, nie przewidują występowania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odawca musi jednak zwrócić uwagę, że niedozwolone jest czerpanie korzyści ekonomicznych z realizacji projektu w szczególności poprzez odpłatny wynajem środków trwałych zakupionych w ramach projektu, pomieszczeń wyremontowanych w ramach projektu itd. Jeśli projektodawca zamierza czerpać powyższe korzyści projekt należy potraktować jako generujący dochó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Jeśli projektodawca nie uwzględni w takim projekcie dochodu, to przy stwierdzeniu czerpania </a:t>
            </a:r>
            <a:br>
              <a:rPr sz="1400"/>
            </a:br>
            <a:r>
              <a:rPr b="0" lang="pl-PL" sz="1400" spc="-1" strike="noStrike">
                <a:solidFill>
                  <a:srgbClr val="000000"/>
                </a:solidFill>
                <a:latin typeface="Arial"/>
              </a:rPr>
              <a:t>z jego tytułu korzyści ekonomicznych, zostanie uznane, ze udzielono mu niedozwolonej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0.09.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2/9.2/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6"/>
              </a:rPr>
              <a:t>http://www.rownystatus.gov.pl/</a:t>
            </a:r>
            <a:r>
              <a:rPr b="0" lang="pl-PL" sz="1100" spc="-1" strike="noStrike" u="sng">
                <a:solidFill>
                  <a:srgbClr val="000000"/>
                </a:solidFill>
                <a:uFillTx/>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sp>
        <p:nvSpPr>
          <p:cNvPr id="52" name="pole tekstowe 3"/>
          <p:cNvSpPr/>
          <p:nvPr/>
        </p:nvSpPr>
        <p:spPr>
          <a:xfrm>
            <a:off x="539640" y="6381720"/>
            <a:ext cx="468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tan na dzień 30.09. 2010 r.</a:t>
            </a:r>
            <a:endParaRPr b="0" lang="en-US" sz="1000" spc="-1" strike="noStrike">
              <a:solidFill>
                <a:srgbClr val="000000"/>
              </a:solidFill>
              <a:latin typeface="Arial"/>
            </a:endParaRPr>
          </a:p>
        </p:txBody>
      </p:sp>
      <p:pic>
        <p:nvPicPr>
          <p:cNvPr id="53" name="Wykres 5" descr=""/>
          <p:cNvPicPr/>
          <p:nvPr/>
        </p:nvPicPr>
        <p:blipFill>
          <a:blip r:embed="rId1"/>
          <a:stretch/>
        </p:blipFill>
        <p:spPr>
          <a:xfrm>
            <a:off x="244440" y="1547640"/>
            <a:ext cx="8655120" cy="469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6"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8"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1"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4"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5"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6"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9"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2"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5"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8"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2/9.2/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6"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30"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2/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9 października 2010 r. do dnia 30 grud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508968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3.1 Uzasadnienie potrzeby realizacji projektu:</a:t>
            </a:r>
            <a:endParaRPr b="0" lang="en-US" sz="16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rzetelnej diagnozy lub zbyt ogólnie uzasadnione potrzeby realizacji projektu;</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bieżnie opisano kwestie problemowe: </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brak powołania się na dane źródłowe oraz podania ich wartości; </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powoływanie się na nieaktualne dane, brak wskazania do sytuacji w okresie bieżącym;</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zbyt ogólny opis metodologii prowadzonych badań;</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brak podania źródeł pochodzenia danych;</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oprawnie sformułowane cele, zbyt ogólne, niezgodne z POKL oraz innymi dokumentami strategicznym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ele nie wynikają z diagnozy i opisu problemu.</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71320" y="1214280"/>
            <a:ext cx="8002440" cy="4911840"/>
          </a:xfrm>
          <a:prstGeom prst="rect">
            <a:avLst/>
          </a:prstGeom>
          <a:noFill/>
          <a:ln w="0">
            <a:noFill/>
          </a:ln>
        </p:spPr>
        <p:txBody>
          <a:bodyPr anchor="t">
            <a:normAutofit fontScale="94000"/>
          </a:bodyPr>
          <a:p>
            <a:pPr marL="250560" indent="-2505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0560" indent="-2505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2 Grupy docelowe projektu:</a:t>
            </a:r>
            <a:endParaRPr b="0" lang="en-US" sz="16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a niedostosowana do proponowanego wsparcia, niewynikająca z diagnozy;</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a przedstawiona w sposób ogólny, niewskazujący na charakter wnioskowanego wsparcia;</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informacji o uczestnikach, projektodawca w ogóle nie opisuje uczestników </a:t>
            </a:r>
            <a:br>
              <a:rPr sz="1400"/>
            </a:br>
            <a:r>
              <a:rPr b="0" lang="pl-PL" sz="1400" spc="-1" strike="noStrike">
                <a:solidFill>
                  <a:srgbClr val="000000"/>
                </a:solidFill>
                <a:latin typeface="Arial"/>
                <a:ea typeface="Arial"/>
              </a:rPr>
              <a:t>do kogo kierowany jest projekt, pomija przedział wiekowy, liczbę uczestników oraz proces rekrutacji);</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starczający opis rekrutacji – brak metod, kryteriów i sposobu przeprowadzenia rekrutacji;</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ekrutacja niespójna z celami projektów;</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brak uzasadnienia liczebności grupy;</a:t>
            </a: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uzasadnienie wyboru grupy docelowej oparte na zbyt ogólnych danych;</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uwzględnienie w projekcie trudności związanych z udziałem grupy docelowej, wynikających z ich miejsca zamieszkania;</a:t>
            </a:r>
            <a:endParaRPr b="0" lang="en-US" sz="1400" spc="-1" strike="noStrike">
              <a:solidFill>
                <a:srgbClr val="000000"/>
              </a:solidFill>
              <a:latin typeface="Tahoma"/>
            </a:endParaRPr>
          </a:p>
          <a:p>
            <a:pPr marL="250560" indent="-250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między liczbą uczestników a rezultatami twardymi.</a:t>
            </a:r>
            <a:endParaRPr b="0" lang="en-US" sz="1400" spc="-1" strike="noStrike">
              <a:solidFill>
                <a:srgbClr val="000000"/>
              </a:solidFill>
              <a:latin typeface="Tahoma"/>
            </a:endParaRPr>
          </a:p>
          <a:p>
            <a:pPr marL="250560" indent="-2505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560" indent="-250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50560" indent="-2505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999720"/>
            <a:ext cx="8002440" cy="510876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3 Działania:</a:t>
            </a:r>
            <a:endParaRPr b="0" lang="en-US" sz="16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proponowanych zajęć z profilem zawodowym uczestnika;</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dostosowania ilości godzin wsparcia do poziomu jego trudnośc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pisu działań promocyjno – informacyjnych;</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informacji o wymiarze etatów/ formy zatrudnienia/ czasu poświęconego </a:t>
            </a:r>
            <a:br>
              <a:rPr sz="1400"/>
            </a:br>
            <a:r>
              <a:rPr b="0" lang="pl-PL" sz="1400" spc="-1" strike="noStrike">
                <a:solidFill>
                  <a:srgbClr val="000000"/>
                </a:solidFill>
                <a:latin typeface="Arial"/>
                <a:ea typeface="Arial"/>
              </a:rPr>
              <a:t>na realizację poszczególnych zadań, osób biorących udział w realizacji projektów;</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skazania osób odpowiedzialnych za realizacje działań;</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informacji na temat miejsc, gdzie będą organizowane zadania.</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071720"/>
            <a:ext cx="8002440" cy="5037120"/>
          </a:xfrm>
          <a:prstGeom prst="rect">
            <a:avLst/>
          </a:prstGeom>
          <a:noFill/>
          <a:ln w="0">
            <a:noFill/>
          </a:ln>
        </p:spPr>
        <p:txBody>
          <a:bodyPr anchor="t">
            <a:normAutofit fontScale="93000"/>
          </a:bodyPr>
          <a:p>
            <a:pPr marL="248040" indent="-2480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48040" indent="-2480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4 Rezultaty projektu:</a:t>
            </a:r>
            <a:endParaRPr b="0" lang="en-US" sz="1600" spc="-1" strike="noStrike">
              <a:solidFill>
                <a:srgbClr val="000000"/>
              </a:solidFill>
              <a:latin typeface="Tahoma"/>
            </a:endParaRPr>
          </a:p>
          <a:p>
            <a:pPr marL="248040" indent="-2480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kazane rezultaty stanowią produkty określające jakie zadania będą realizowane w projekcie; </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rezultaty niemożliwe do spełnienia;</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rawidłowo zdefiniowane rezultaty projektu;</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trwałości rezultatów;</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spójność rezultatów z celami projektu;</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kwantyfikacji rezultatów;</a:t>
            </a: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doprecyzowany sposób monitorowania rezultatów;</a:t>
            </a: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pisu sposobu mierzenia rezultatów;</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lub niewłaściwy sposób określenia rezultatów twardych;</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minięcie wskaźników mierzenia rezultatów miękkich;</a:t>
            </a:r>
            <a:endParaRPr b="0" lang="en-US" sz="1400" spc="-1" strike="noStrike">
              <a:solidFill>
                <a:srgbClr val="000000"/>
              </a:solidFill>
              <a:latin typeface="Tahoma"/>
            </a:endParaRPr>
          </a:p>
          <a:p>
            <a:pPr marL="248040" indent="-24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8040" indent="-248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nikomy wpływ rezultatów na cele projektu.</a:t>
            </a:r>
            <a:endParaRPr b="0" lang="en-US" sz="1400" spc="-1" strike="noStrike">
              <a:solidFill>
                <a:srgbClr val="000000"/>
              </a:solidFill>
              <a:latin typeface="Tahoma"/>
            </a:endParaRPr>
          </a:p>
          <a:p>
            <a:pPr marL="248040" indent="-248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5 Potencjał wnioskodawcy i sposób zarządzania projektem:</a:t>
            </a:r>
            <a:endParaRPr b="0" lang="en-US" sz="16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uzasadnienie przy angażu pracowników;</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zaplecza technicznego, kadrowego, instytucjonalnego;</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pisu, bądź ogólny opis roli partnera. </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IV Wydatki projektu:</a:t>
            </a:r>
            <a:endParaRPr b="0" lang="en-US" sz="16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y rachunkowe;</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z opisanymi działaniam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zachowania relacji nakład/rezultat (zawyżone koszty jednostkowe, wysokie koszty zarządzania projektem);</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ne określanie cross – financingu;</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starczające uzasadnienie zakupów w ramach cross-financingu;</a:t>
            </a: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lub błędna metodologia wyliczenia kosztów pośrednich;</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uzasadnienia dla bardzo wysokich kosztów;</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uzasadnione wydatki;</a:t>
            </a: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1 500 000,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9 775 000,0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725 000,0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obre praktyki</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u="sng">
                <a:solidFill>
                  <a:srgbClr val="000000"/>
                </a:solidFill>
                <a:uFillTx/>
                <a:latin typeface="Arial"/>
              </a:rPr>
              <a:t>Priorytet IX </a:t>
            </a:r>
            <a:r>
              <a:rPr b="1" i="1" lang="pl-PL" sz="1800" spc="-1" strike="noStrike">
                <a:solidFill>
                  <a:srgbClr val="000000"/>
                </a:solidFill>
                <a:latin typeface="Arial"/>
              </a:rPr>
              <a:t>Rozwój wykształcenia i kompetencji w regionach</a:t>
            </a: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Numer i nazwa Poddziałania: </a:t>
            </a:r>
            <a:r>
              <a:rPr b="1" lang="pl-PL" sz="1800" spc="-1" strike="noStrike">
                <a:solidFill>
                  <a:srgbClr val="000000"/>
                </a:solidFill>
                <a:latin typeface="Arial"/>
              </a:rPr>
              <a:t>9.2 Podniesienie atrakcyjności i jakości szkolnictwa zawodowego </a:t>
            </a:r>
            <a:endParaRPr b="0" lang="en-US" sz="18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42960" y="1143000"/>
            <a:ext cx="7858080" cy="52862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t>
            </a:r>
            <a:r>
              <a:rPr b="1" lang="pl-PL" sz="1400" spc="-1" strike="noStrike">
                <a:solidFill>
                  <a:srgbClr val="000000"/>
                </a:solidFill>
                <a:latin typeface="Arial"/>
                <a:ea typeface="Arial"/>
              </a:rPr>
              <a:t>Kompetentna i świadoma dziewczyna – przedsiębiorcza na rynku prac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ea typeface="Arial"/>
              </a:rPr>
              <a:t>Zespół Szkół Ponadgimnazjalnych nr 2 Gryfin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ea typeface="Arial"/>
              </a:rPr>
              <a:t>01.09.2008 – 30.06.2009</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r>
              <a:rPr b="0" lang="pl-PL" sz="1400" spc="-1" strike="noStrike">
                <a:solidFill>
                  <a:srgbClr val="000000"/>
                </a:solidFill>
                <a:latin typeface="Arial"/>
                <a:ea typeface="Arial"/>
              </a:rPr>
              <a:t> podniesienie zdolności do przyszłego zatrudnienia lub samozatrudnienia dziewcząt ze środowisk wiejskich i małych miasteczek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ea typeface="Arial"/>
              </a:rPr>
              <a:t>wsparciem objętych zostanie 30 dziewcząt, które kształcą się zawodowo w Zespole Szkół Ponadgimnazjalnych nr 2 w Gryfinie </a:t>
            </a:r>
            <a:br>
              <a:rPr sz="1400"/>
            </a:br>
            <a:r>
              <a:rPr b="0" lang="pl-PL" sz="1400" spc="-1" strike="noStrike">
                <a:solidFill>
                  <a:srgbClr val="000000"/>
                </a:solidFill>
                <a:latin typeface="Arial"/>
                <a:ea typeface="Arial"/>
              </a:rPr>
              <a:t>na kierunka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echnikum Ekonomiczne – kierunek Ekonomicz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echnikum Zawodowe – kierunek Technik żywienia i gospodarstwa domow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rostokąt 2"/>
          <p:cNvSpPr/>
          <p:nvPr/>
        </p:nvSpPr>
        <p:spPr>
          <a:xfrm>
            <a:off x="642960" y="1143000"/>
            <a:ext cx="7929720" cy="478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ształtowanie świadomych i aktywnych postaw życiowych (zajęcia warsztatowe prowadzone przez psychologa i terapeutę mające na celu poznanie się dziewcząt, zaprezentowanie siebie </a:t>
            </a:r>
            <a:br>
              <a:rPr sz="1400"/>
            </a:br>
            <a:r>
              <a:rPr b="0" lang="pl-PL" sz="1400" spc="-1" strike="noStrike">
                <a:solidFill>
                  <a:srgbClr val="000000"/>
                </a:solidFill>
                <a:latin typeface="Arial"/>
              </a:rPr>
              <a:t>i stworzenie fundamentów dla dobrej atmosfery do efektywnej pracy przez cały okres trwani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wój kulturalny jako czynnik osobotwórczy (uczestnictwo w wystawie artystycznej, spotkanie </a:t>
            </a:r>
            <a:br>
              <a:rPr sz="1400"/>
            </a:br>
            <a:r>
              <a:rPr b="0" lang="pl-PL" sz="1400" spc="-1" strike="noStrike">
                <a:solidFill>
                  <a:srgbClr val="000000"/>
                </a:solidFill>
                <a:latin typeface="Arial"/>
              </a:rPr>
              <a:t>w herbaciarni, obejrzenie spektaklu teatralnego, filmu, opery itp. wybranego przez młodzież, lunch w restauracji, konkurs na wspomnienia z czasu trwania projektu mający na celu odzwierciedlenie w interesujący sposób oczekiwań beneficjentek wobec projektu, przeżyć w czasie jego trwania </a:t>
            </a:r>
            <a:br>
              <a:rPr sz="1400"/>
            </a:br>
            <a:r>
              <a:rPr b="0" lang="pl-PL" sz="1400" spc="-1" strike="noStrike">
                <a:solidFill>
                  <a:srgbClr val="000000"/>
                </a:solidFill>
                <a:latin typeface="Arial"/>
              </a:rPr>
              <a:t>i ocenę własnego rozwoj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skonalenie umiejętności posługiwania się komputerem i Internetem w zakresie wejścia </a:t>
            </a:r>
            <a:br>
              <a:rPr sz="1400"/>
            </a:br>
            <a:r>
              <a:rPr b="0" lang="pl-PL" sz="1400" spc="-1" strike="noStrike">
                <a:solidFill>
                  <a:srgbClr val="000000"/>
                </a:solidFill>
                <a:latin typeface="Arial"/>
              </a:rPr>
              <a:t>na rynek pracy jako pracownik bądź przedsiębiorca (poznanie adresów i poruszanie się </a:t>
            </a:r>
            <a:br>
              <a:rPr sz="1400"/>
            </a:br>
            <a:r>
              <a:rPr b="0" lang="pl-PL" sz="1400" spc="-1" strike="noStrike">
                <a:solidFill>
                  <a:srgbClr val="000000"/>
                </a:solidFill>
                <a:latin typeface="Arial"/>
              </a:rPr>
              <a:t>w portalach internetowych oferujących pracę, nabycie umiejętności pobierania dokumentacji aplikacyjnej, wypełnianie jej i przesłanie, zamieszczenie własnego ogłoszenia o poszukiwaniu pracy, uruchomienie Punktu Informacji Doradztwa Zawodoznawczego – komputery zostaną wyposażone w oprogramowanie z dziedziny poradnictwa zawodowego i informacji zawodow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rostokąt 2"/>
          <p:cNvSpPr/>
          <p:nvPr/>
        </p:nvSpPr>
        <p:spPr>
          <a:xfrm>
            <a:off x="642960" y="1143000"/>
            <a:ext cx="7929720" cy="350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własnego wizerunku (uczestniczki dowiedzą się jak przygotować się do rozmowy </a:t>
            </a:r>
            <a:br>
              <a:rPr sz="1400"/>
            </a:br>
            <a:r>
              <a:rPr b="0" lang="pl-PL" sz="1400" spc="-1" strike="noStrike">
                <a:solidFill>
                  <a:srgbClr val="000000"/>
                </a:solidFill>
                <a:latin typeface="Arial"/>
              </a:rPr>
              <a:t>z pracodawcą, na co zwrócić szczególną uwagę, jak przygotować dokumentację, jak stworzyć odpowiedni wizerunek, jak zachować się podczas rozmowy, autoprezentacja przed kamerą, indywidualna ścieżka kariery – rozmowa doradcza z doradcą zawodowym, wykład „zdrowe żywienie” – uzyskana wiedza pobudzi u uczennic refleksję nad sensem ekologicznego trybu życia oraz troskę o własne zdrow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wyższanie kwalifikacji zawodowych – ukończenie profesjonalnego kursu dla każdego kierunku szkoły (w zawodzie ekonomista znajomość dodatkowych programów księgowych, </a:t>
            </a:r>
            <a:br>
              <a:rPr sz="1400"/>
            </a:br>
            <a:r>
              <a:rPr b="0" lang="pl-PL" sz="1400" spc="-1" strike="noStrike">
                <a:solidFill>
                  <a:srgbClr val="000000"/>
                </a:solidFill>
                <a:latin typeface="Arial"/>
              </a:rPr>
              <a:t>w zawodzie gastronom kurs barmański, dodatkowo dla wszystkich dziewcząt kurs pierwszej pomocy).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8"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a:t>
            </a:r>
            <a:r>
              <a:rPr b="0" lang="pl-PL" sz="1600" spc="-1" strike="noStrike">
                <a:solidFill>
                  <a:srgbClr val="000000"/>
                </a:solidFill>
                <a:latin typeface="Arial"/>
              </a:rPr>
              <a:t>(</a:t>
            </a:r>
            <a:r>
              <a:rPr b="0" lang="en-GB" sz="1600" spc="-1" strike="noStrike">
                <a:solidFill>
                  <a:srgbClr val="000000"/>
                </a:solidFill>
                <a:latin typeface="Arial"/>
              </a:rPr>
              <a:t>91</a:t>
            </a:r>
            <a:r>
              <a:rPr b="0" lang="pl-PL" sz="1600" spc="-1" strike="noStrike">
                <a:solidFill>
                  <a:srgbClr val="000000"/>
                </a:solidFill>
                <a:latin typeface="Arial"/>
              </a:rPr>
              <a:t>)</a:t>
            </a:r>
            <a:r>
              <a:rPr b="0" lang="en-GB" sz="1600" spc="-1" strike="noStrike">
                <a:solidFill>
                  <a:srgbClr val="000000"/>
                </a:solidFill>
                <a:latin typeface="Arial"/>
              </a:rPr>
              <a:t>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a:t>
            </a:r>
            <a:r>
              <a:rPr b="0" lang="pl-PL" sz="1600" spc="-1" strike="noStrike">
                <a:solidFill>
                  <a:srgbClr val="000000"/>
                </a:solidFill>
                <a:latin typeface="Arial"/>
              </a:rPr>
              <a:t>(</a:t>
            </a:r>
            <a:r>
              <a:rPr b="0" lang="en-GB" sz="1600" spc="-1" strike="noStrike">
                <a:solidFill>
                  <a:srgbClr val="000000"/>
                </a:solidFill>
                <a:latin typeface="Arial"/>
              </a:rPr>
              <a:t>94</a:t>
            </a:r>
            <a:r>
              <a:rPr b="0" lang="pl-PL" sz="1600" spc="-1" strike="noStrike">
                <a:solidFill>
                  <a:srgbClr val="000000"/>
                </a:solidFill>
                <a:latin typeface="Arial"/>
              </a:rPr>
              <a:t>)</a:t>
            </a:r>
            <a:r>
              <a:rPr b="0" lang="en-GB" sz="1600" spc="-1" strike="noStrike">
                <a:solidFill>
                  <a:srgbClr val="000000"/>
                </a:solidFill>
                <a:latin typeface="Arial"/>
              </a:rPr>
              <a:t>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9"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2"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143000"/>
            <a:ext cx="8229600" cy="498312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iagnozowanie potrzeb edukacyjnych w obszarze szkolnictwa zawodowego zgodnie z potrzebami lokalnego i regionalnego rynku pracy. </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gramy rozwojowe szkół i placówek oświatowych prowadzących kształcenie zawodowe ukierunkowane na zmniejszanie dysproporcji w osiągnięciach uczniów w trakcie procesu kształcenia oraz podnoszenie jakości procesu kształcenia w szczególności obejmujące: </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datkowe zajęcia dydaktyczno-wyrównawcze oraz specjalistyczne służące wyrównywaniu dysproporcji edukacyjnych w trakcie procesu kształcenia, </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radztwo i opiekę pedagogiczno-psychologiczną dla uczniów wykazujących problemy w nauce lub z innych przyczyn zagrożonych przedwczesnym wypadnięciem z systemu szkolnictwa (np. wsparcie dla uczniów z obszarów wiejskich, wsparcie dla uczniów niepełnosprawnych, przeciwdziałanie uzależnieniom, programy prewencyjne, przeciwdziałanie patologiom społecznym), </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datkowe zajęcia (pozalekcyjne i pozaszkolne) dla uczniów ukierunkowane na rozwój kompetencji kluczowych, ze szczególnym uwzględnieniem ICT, języków obcych, przedsiębiorczości, nauk przyrodniczo-matematycznych, </a:t>
            </a:r>
            <a:endParaRPr b="0" lang="en-US" sz="1400" spc="-1" strike="noStrike">
              <a:solidFill>
                <a:srgbClr val="000000"/>
              </a:solidFill>
              <a:latin typeface="Tahoma"/>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endParaRPr b="0" lang="en-US" sz="1600" spc="-1" strike="noStrike">
              <a:solidFill>
                <a:srgbClr val="000000"/>
              </a:solidFill>
              <a:latin typeface="Tahoma"/>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28760" y="1213920"/>
            <a:ext cx="8229600" cy="488340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efektywne programy doradztwa edukacyjno-zawodowego,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odernizację oferty kształcenia zawodowego i dostosowanie jej do potrzeb lokalnego </a:t>
            </a:r>
            <a:br>
              <a:rPr sz="1400"/>
            </a:br>
            <a:r>
              <a:rPr b="0" lang="pl-PL" sz="1400" spc="-1" strike="noStrike">
                <a:solidFill>
                  <a:srgbClr val="000000"/>
                </a:solidFill>
                <a:latin typeface="Arial"/>
                <a:ea typeface="Arial"/>
              </a:rPr>
              <a:t>i regionalnego rynku pracy (wprowadzanie nowych kierunków kształcenia, modyfikacja programów nauczania na kierunkach istniejących),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ółpracę szkół i placówek prowadzących kształcenie zawodowe z pracodawcami i instytucjami rynku pracy służącą podnoszeniu kwalifikacji zawodowych uczniów jako przyszłych absolwentów </a:t>
            </a:r>
            <a:br>
              <a:rPr sz="1400"/>
            </a:br>
            <a:r>
              <a:rPr b="0" lang="pl-PL" sz="1400" spc="-1" strike="noStrike">
                <a:solidFill>
                  <a:srgbClr val="000000"/>
                </a:solidFill>
                <a:latin typeface="Arial"/>
                <a:ea typeface="Arial"/>
              </a:rPr>
              <a:t>i wzmacnianie ich zdolności do zatrudnienia (w tym zwłaszcza w zakresie praktycznych form nauczania – staże i praktyk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yposażenie szkół i placówek prowadzących kształcenie zawodowe w nowoczesne materiały dydaktyczne (w tym podręczniki szkolne) zapewniające wysoką jakość kształcenia,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drożenie nowych, innowacyjnych form nauczania i oceniania cechujących się wyższą skutecznością niż formy tradycyjne,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drażanie programów i narzędzi efektywnego zarządzania placówką oświatową przyczyniających się do poprawę jakości nauczan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uczniów i słuchaczy szkół i placówek oświatowych prowadzących kształcenie zawodowe </a:t>
            </a:r>
            <a:br>
              <a:rPr sz="1400"/>
            </a:br>
            <a:r>
              <a:rPr b="0" lang="pl-PL" sz="1400" spc="-1" strike="noStrike">
                <a:solidFill>
                  <a:srgbClr val="000000"/>
                </a:solidFill>
                <a:latin typeface="Arial"/>
                <a:ea typeface="Arial"/>
              </a:rPr>
              <a:t>(z wyłączeniem słuchaczy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ół i placówek (instytucji i kadry pedagogicznej) prowadzącej kształcenie zawodowe </a:t>
            </a:r>
            <a:br>
              <a:rPr sz="1400"/>
            </a:br>
            <a:r>
              <a:rPr b="0" lang="pl-PL" sz="1400" spc="-1" strike="noStrike">
                <a:solidFill>
                  <a:srgbClr val="000000"/>
                </a:solidFill>
                <a:latin typeface="Arial"/>
                <a:ea typeface="Arial"/>
              </a:rPr>
              <a:t>(z wyłączeniem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ół policealn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artnerów społeczno – gospodarcz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acodaw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0"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11-04T14:21:27Z</dcterms:modified>
  <cp:revision>463</cp:revision>
  <dc:subject/>
  <dc:title>Slajd 1</dc:title>
</cp:coreProperties>
</file>