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6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BB52-91F1-4556-BBE5-F50D5662CF7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0"/>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3A182D8-37BA-42D6-95CA-58230CA7A348}"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162" name="Text Box 1"/>
          <p:cNvSpPr/>
          <p:nvPr/>
        </p:nvSpPr>
        <p:spPr>
          <a:xfrm>
            <a:off x="917640" y="744480"/>
            <a:ext cx="496404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4920"/>
            <a:ext cx="5435640" cy="4465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59C3-C94D-4226-AEBE-D726F7D41A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2714-18E0-41D5-84FB-89672EACAB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konomiaspoleczna.pl/" TargetMode="External"/><Relationship Id="rId2" Type="http://schemas.openxmlformats.org/officeDocument/2006/relationships/hyperlink" Target="http://www.monitoring.rownystatus.gov.pl/" TargetMode="External"/><Relationship Id="rId3" Type="http://schemas.openxmlformats.org/officeDocument/2006/relationships/hyperlink" Target="http://www.stat.gov.pl/gus/45_3748_PLK_HTML.htm" TargetMode="External"/><Relationship Id="rId4" Type="http://schemas.openxmlformats.org/officeDocument/2006/relationships/hyperlink" Target="http://www.psz.praca.gov.pl/_files_/publikacje/raport_aktywnosc1.zip" TargetMode="External"/><Relationship Id="rId5" Type="http://schemas.openxmlformats.org/officeDocument/2006/relationships/hyperlink" Target="http://www.stat.gov.pl/cps/rde/xbcr/gus/PUBL_Kobiety_w_Polsce.pdf" TargetMode="External"/><Relationship Id="rId6" Type="http://schemas.openxmlformats.org/officeDocument/2006/relationships/hyperlink" Target="http://www.undp.org.pl/pl/index.php" TargetMode="External"/><Relationship Id="rId7" Type="http://schemas.openxmlformats.org/officeDocument/2006/relationships/hyperlink" Target="http://www.undp.org.pl/pl/index.php" TargetMode="External"/><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4/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0 sierp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10920" y="1142640"/>
            <a:ext cx="799308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ea typeface="Arial"/>
              </a:rPr>
              <a:t>Grupę docelową w projekcie stanowią osoby pracujące na terenie województwa zachodniopomorskiego lub osoby mieszkające na terenie województwa zachodniopomorskiego w rozumieniu przepisów Kodeksu Cywi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2 wniosku należy wyraźnie zapisać, że osoby uzyskujące wsparcie w ramach projektu będą mieszkańcami województwa zachodniopomorskiego / powiatu z terenu województwa / gminy z terenu województ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10920" y="1143000"/>
            <a:ext cx="799308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rojektodawca wnosi wkład własny w wysokości 15% wartości projektu w postaci środków pochodzących z budżetu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400" spc="-1" strike="noStrike">
                <a:solidFill>
                  <a:srgbClr val="000000"/>
                </a:solidFill>
                <a:latin typeface="Arial"/>
                <a:ea typeface="Arial"/>
              </a:rPr>
              <a:t>W polu IV Budżet projektu w pkt 4.3 </a:t>
            </a:r>
            <a:r>
              <a:rPr b="0" i="1" lang="pl-PL" sz="1400" spc="-1" strike="noStrike">
                <a:solidFill>
                  <a:srgbClr val="000000"/>
                </a:solidFill>
                <a:latin typeface="Arial"/>
                <a:ea typeface="Arial"/>
              </a:rPr>
              <a:t>wkład własny </a:t>
            </a:r>
            <a:r>
              <a:rPr b="0" lang="pl-PL" sz="1400" spc="-1" strike="noStrike">
                <a:solidFill>
                  <a:srgbClr val="000000"/>
                </a:solidFill>
                <a:latin typeface="Arial"/>
                <a:ea typeface="Arial"/>
              </a:rPr>
              <a:t>należy wpisać kwotę odpowiadającą 15% kosztów</a:t>
            </a:r>
            <a:r>
              <a:rPr b="0" i="1" lang="pl-PL" sz="1400" spc="-1" strike="noStrike">
                <a:solidFill>
                  <a:srgbClr val="000000"/>
                </a:solidFill>
                <a:latin typeface="Arial"/>
                <a:ea typeface="Arial"/>
              </a:rPr>
              <a:t> </a:t>
            </a:r>
            <a:r>
              <a:rPr b="0" lang="pl-PL" sz="1400" spc="-1" strike="noStrike">
                <a:solidFill>
                  <a:srgbClr val="000000"/>
                </a:solidFill>
                <a:latin typeface="Arial"/>
                <a:ea typeface="Arial"/>
              </a:rPr>
              <a:t>ogółe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wkład własny ma charakter niepieniężny należy go również wykazać w pkt 4.3.1.</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10920" y="1214280"/>
            <a:ext cx="7993080" cy="4911840"/>
          </a:xfrm>
          <a:prstGeom prst="rect">
            <a:avLst/>
          </a:prstGeom>
          <a:noFill/>
          <a:ln w="0">
            <a:noFill/>
          </a:ln>
        </p:spPr>
        <p:txBody>
          <a:bodyPr anchor="t">
            <a:normAutofit fontScale="78000"/>
          </a:bodyPr>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stanowią pracujący na obszarach wiejskich: nauczyciele i pracownicy dydaktyczni szkół i placówek oświatowych, instruktorzy praktycznej nauki zawodu, kadra administracyjna i zarządzająca oświatą w szkołach i placówkach oświatowych i ich organach prowadzących, w tym co najmniej 80% grupy docelowej muszą stanowić nauczyciel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5</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2 wniosku należy zapisać że grupę docelową w 100% stanowić będą nauczyciele </a:t>
            </a:r>
            <a:br>
              <a:rPr sz="1400"/>
            </a:br>
            <a:r>
              <a:rPr b="0" lang="pl-PL" sz="1400" spc="-1" strike="noStrike">
                <a:solidFill>
                  <a:srgbClr val="000000"/>
                </a:solidFill>
                <a:latin typeface="Arial"/>
                <a:ea typeface="Arial"/>
              </a:rPr>
              <a:t>i pracownicy dydaktyczni szkół i placówek oświatowych, instruktorzy praktycznej nauki zawodu, kadra administracyjna i zarządzająca oświatą w szkołach i placówkach oświatowych </a:t>
            </a:r>
            <a:br>
              <a:rPr sz="1400"/>
            </a:br>
            <a:r>
              <a:rPr b="0" lang="pl-PL" sz="1400" spc="-1" strike="noStrike">
                <a:solidFill>
                  <a:srgbClr val="000000"/>
                </a:solidFill>
                <a:latin typeface="Arial"/>
                <a:ea typeface="Arial"/>
              </a:rPr>
              <a:t>i ich organach prowadzących, pracujący na terenach wiejskich.</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onadto, należy zapisać, iż co najmniej 80% powyższej grupy stanowić będą nauczyciele.</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7480" indent="-267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67480" indent="-267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4360" y="1214280"/>
            <a:ext cx="7920000" cy="4911840"/>
          </a:xfrm>
          <a:prstGeom prst="rect">
            <a:avLst/>
          </a:prstGeom>
          <a:noFill/>
          <a:ln w="0">
            <a:noFill/>
          </a:ln>
        </p:spPr>
        <p:txBody>
          <a:bodyPr anchor="t">
            <a:normAutofit fontScale="71000"/>
          </a:bodyPr>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realizację krótkich form szkoleniowych (kursy, warsztaty, szkolenia) doskonalących nauczycieli oraz kadrę administracyjną i zarządzającą szkół.</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zapisać i scharakteryzować zadanie, które dotyczy realizacji krótkich form szkoleniowych (kursy, warsztaty, szkolenia) doskonalących nauczycieli oraz kadrę administracyjną i zarządzającą szkół.</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ształcenie nauczycieli w krótkich formach szkoleniowych czy też warsztatowych pozwoli </a:t>
            </a:r>
            <a:br>
              <a:rPr sz="1400"/>
            </a:br>
            <a:r>
              <a:rPr b="0" lang="pl-PL" sz="1400" spc="-1" strike="noStrike">
                <a:solidFill>
                  <a:srgbClr val="000000"/>
                </a:solidFill>
                <a:latin typeface="Arial"/>
                <a:ea typeface="Arial"/>
              </a:rPr>
              <a:t>na szybką interwencję w zakresie przygotowania nauczycieli do rozwiązywania problemów oraz udoskonalania warsztatu dydaktycznego.</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4360" y="1125000"/>
            <a:ext cx="7991280" cy="5000760"/>
          </a:xfrm>
          <a:prstGeom prst="rect">
            <a:avLst/>
          </a:prstGeom>
          <a:noFill/>
          <a:ln w="0">
            <a:noFill/>
          </a:ln>
        </p:spPr>
        <p:txBody>
          <a:bodyPr anchor="t">
            <a:normAutofit/>
          </a:bodyPr>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w co najmniej 40% stanowią osoby powyżej 45. roku  ży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W części 3.2 wniosku należy wyraźnie zapisać, że odbiorcami projektu będą osoby, które ukończyły 45. rok życia oraz wskazać, że stanowią one co  najmniej 40 procent uczestnik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mogą wziąć udział osoby, które najpóźniej w dniu przystąpienia do projektu ukończą 45. rok ży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11280" y="1125000"/>
            <a:ext cx="7921440" cy="5000760"/>
          </a:xfrm>
          <a:prstGeom prst="rect">
            <a:avLst/>
          </a:prstGeom>
          <a:noFill/>
          <a:ln w="0">
            <a:noFill/>
          </a:ln>
        </p:spPr>
        <p:txBody>
          <a:bodyPr anchor="t">
            <a:normAutofit/>
          </a:bodyPr>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lvl="3" marL="343080" indent="-343080">
              <a:lnSpc>
                <a:spcPct val="100000"/>
              </a:lnSpc>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400" spc="-1" strike="noStrike">
                <a:solidFill>
                  <a:srgbClr val="000000"/>
                </a:solidFill>
                <a:latin typeface="Arial"/>
                <a:ea typeface="Arial"/>
              </a:rPr>
              <a:t>We wniosku (np. w pkt. 3.1 i 3.5) należy zapisać z jaką inwestycją finansowaną ze źródeł wspólnotowych innych niż Europejski Fundusz Społeczny projekt jest komplementarny </a:t>
            </a:r>
            <a:br>
              <a:rPr sz="1400"/>
            </a:br>
            <a:r>
              <a:rPr b="0" lang="pl-PL" sz="1400" spc="-1" strike="noStrike">
                <a:solidFill>
                  <a:srgbClr val="000000"/>
                </a:solidFill>
                <a:latin typeface="Arial"/>
                <a:ea typeface="Arial"/>
              </a:rPr>
              <a:t>i w jakim zakresie (tytuł projektu i kto jest jego projektodawcą).</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Inwestycja z jaką projekt jest komplementarny nie musi być rezultatem projektu zrealizowanego przez wnioskodawcę.</a:t>
            </a:r>
            <a:endParaRPr b="0" lang="en-US" sz="1400" spc="-1" strike="noStrike">
              <a:solidFill>
                <a:srgbClr val="000000"/>
              </a:solidFill>
              <a:latin typeface="Tahoma"/>
            </a:endParaRPr>
          </a:p>
          <a:p>
            <a:pPr lvl="3"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343080" indent="-343080">
              <a:spcBef>
                <a:spcPts val="349"/>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4000" y="1125000"/>
            <a:ext cx="7848360" cy="4929480"/>
          </a:xfrm>
          <a:prstGeom prst="rect">
            <a:avLst/>
          </a:prstGeom>
          <a:noFill/>
          <a:ln w="0">
            <a:noFill/>
          </a:ln>
        </p:spPr>
        <p:txBody>
          <a:bodyPr anchor="t">
            <a:normAutofit/>
          </a:bodyPr>
          <a:p>
            <a:pPr lvl="3"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akłada kształcenie nauczycieli w zakresie potrzeb dzieci 6 letnich.</a:t>
            </a:r>
            <a:endParaRPr b="0" lang="en-US" sz="1400" spc="-1" strike="noStrike">
              <a:solidFill>
                <a:srgbClr val="000000"/>
              </a:solidFill>
              <a:latin typeface="Tahoma"/>
            </a:endParaRPr>
          </a:p>
          <a:p>
            <a:pPr lvl="3" marL="343080" indent="-343080">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ów nr 1, 2, 3, 4,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lvl="3"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części 3.3 wniosku należy zapisać i scharakteryzować zadanie, które dotyczy kształcenia nauczycieli w zakresie potrzeb dzieci 6 letnich.</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Działaniu 9.4 Wysoko wykwalifikowane kadry systemu oświaty</a:t>
            </a:r>
            <a:r>
              <a:rPr b="0" i="1" lang="pl-PL" sz="1400" spc="-1" strike="noStrike">
                <a:solidFill>
                  <a:srgbClr val="000000"/>
                </a:solidFill>
                <a:latin typeface="Tahoma"/>
              </a:rPr>
              <a:t>, </a:t>
            </a:r>
            <a:r>
              <a:rPr b="0" lang="pl-PL" sz="1400" spc="-1" strike="noStrike">
                <a:solidFill>
                  <a:srgbClr val="000000"/>
                </a:solidFill>
                <a:latin typeface="Tahoma"/>
              </a:rPr>
              <a:t>co do zasady pomoc publiczna nie występuj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428760" y="1928880"/>
            <a:ext cx="8229600" cy="356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3600"/>
            </a:br>
            <a:r>
              <a:rPr b="0" lang="en-GB" sz="3200" spc="-1" strike="noStrike">
                <a:solidFill>
                  <a:srgbClr val="000000"/>
                </a:solidFill>
                <a:latin typeface="Arial"/>
              </a:rPr>
              <a:t>Stan wdrażania </a:t>
            </a:r>
            <a:br>
              <a:rPr sz="3200"/>
            </a:br>
            <a:r>
              <a:rPr b="0" lang="en-GB" sz="3200" spc="-1" strike="noStrike">
                <a:solidFill>
                  <a:srgbClr val="000000"/>
                </a:solidFill>
                <a:latin typeface="Arial"/>
              </a:rPr>
              <a:t>Programu Operacyjnego Kapitał Ludzki</a:t>
            </a:r>
            <a:br>
              <a:rPr sz="3200"/>
            </a:br>
            <a:r>
              <a:rPr b="0" lang="en-GB" sz="3200" spc="-1" strike="noStrike">
                <a:solidFill>
                  <a:srgbClr val="000000"/>
                </a:solidFill>
                <a:latin typeface="Arial"/>
              </a:rPr>
              <a:t>w województwie zachodniopomorskim</a:t>
            </a:r>
            <a:br>
              <a:rPr sz="2400"/>
            </a:br>
            <a:br>
              <a:rPr sz="2400"/>
            </a:br>
            <a:br>
              <a:rPr sz="2400"/>
            </a:br>
            <a:br>
              <a:rPr sz="2400"/>
            </a:br>
            <a:r>
              <a:rPr b="0" i="1" lang="en-GB" sz="1800" spc="-1" strike="noStrike">
                <a:solidFill>
                  <a:srgbClr val="000000"/>
                </a:solidFill>
                <a:latin typeface="Arial"/>
              </a:rPr>
              <a:t>Stan na dzień 3</a:t>
            </a:r>
            <a:r>
              <a:rPr b="0" i="1" lang="pl-PL" sz="1800" spc="-1" strike="noStrike">
                <a:solidFill>
                  <a:srgbClr val="000000"/>
                </a:solidFill>
                <a:latin typeface="Arial"/>
              </a:rPr>
              <a:t>0</a:t>
            </a:r>
            <a:r>
              <a:rPr b="0" i="1" lang="en-GB" sz="1800" spc="-1" strike="noStrike">
                <a:solidFill>
                  <a:srgbClr val="000000"/>
                </a:solidFill>
                <a:latin typeface="Arial"/>
              </a:rPr>
              <a:t>.0</a:t>
            </a:r>
            <a:r>
              <a:rPr b="0" i="1" lang="pl-PL" sz="1800" spc="-1" strike="noStrike">
                <a:solidFill>
                  <a:srgbClr val="000000"/>
                </a:solidFill>
                <a:latin typeface="Arial"/>
              </a:rPr>
              <a:t>6</a:t>
            </a:r>
            <a:r>
              <a:rPr b="0" i="1" lang="en-GB" sz="1800" spc="-1" strike="noStrike">
                <a:solidFill>
                  <a:srgbClr val="000000"/>
                </a:solidFill>
                <a:latin typeface="Arial"/>
              </a:rPr>
              <a:t>.2010 r.</a:t>
            </a:r>
            <a:r>
              <a:rPr b="0" i="1"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9.4/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28760" y="1197000"/>
            <a:ext cx="8229600" cy="49687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676440" y="1547640"/>
            <a:ext cx="7754760" cy="465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4"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9"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4"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7"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4/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8"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4"/>
          <p:cNvSpPr/>
          <p:nvPr/>
        </p:nvSpPr>
        <p:spPr>
          <a:xfrm>
            <a:off x="571680" y="1214280"/>
            <a:ext cx="8001000" cy="5311800"/>
          </a:xfrm>
          <a:prstGeom prst="rect">
            <a:avLst/>
          </a:prstGeom>
          <a:noFill/>
          <a:ln w="0">
            <a:noFill/>
          </a:ln>
        </p:spPr>
        <p:style>
          <a:lnRef idx="0"/>
          <a:fillRef idx="0"/>
          <a:effectRef idx="0"/>
          <a:fontRef idx="minor"/>
        </p:style>
        <p:txBody>
          <a:bodyPr lIns="90000" rIns="90000" tIns="46800" bIns="46800" anchor="t">
            <a:noAutofit/>
          </a:bodyPr>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Źródła danych:</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ww.badania.ngo.pl oraz </a:t>
            </a:r>
            <a:r>
              <a:rPr b="0" lang="pl-PL" sz="1400" spc="-1" strike="noStrike" u="sng">
                <a:solidFill>
                  <a:srgbClr val="009999"/>
                </a:solidFill>
                <a:uFillTx/>
                <a:latin typeface="Arial"/>
                <a:ea typeface="Arial"/>
                <a:hlinkClick r:id="rId1"/>
              </a:rPr>
              <a:t>www.ekonomiaspoleczna.pl</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GUS  „Kobiety w Polsce” – 2008;</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Raport UNDP „Polityka równości płci – Polska 2007”  - 2007;</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rajowy System Monitorowania Równego Traktowania Kobiet i Mężczyzn</a:t>
            </a:r>
            <a:br>
              <a:rPr sz="1400"/>
            </a:br>
            <a:r>
              <a:rPr b="0" lang="pl-PL" sz="1400" spc="-1" strike="noStrike">
                <a:solidFill>
                  <a:srgbClr val="000000"/>
                </a:solidFill>
                <a:latin typeface="Arial"/>
                <a:ea typeface="Arial"/>
              </a:rPr>
              <a:t>-  </a:t>
            </a:r>
            <a:r>
              <a:rPr b="0" lang="pl-PL" sz="1400" spc="-1" strike="noStrike" u="sng">
                <a:solidFill>
                  <a:srgbClr val="009999"/>
                </a:solidFill>
                <a:uFillTx/>
                <a:latin typeface="Arial"/>
                <a:ea typeface="Arial"/>
                <a:hlinkClick r:id="rId2"/>
              </a:rPr>
              <a:t>www.monitoring.rownystatus.gov.pl</a:t>
            </a:r>
            <a:r>
              <a:rPr b="0" lang="pl-PL" sz="1400" spc="-1" strike="noStrike">
                <a:solidFill>
                  <a:srgbClr val="000000"/>
                </a:solidFill>
                <a:latin typeface="Arial"/>
                <a:ea typeface="Arial"/>
              </a:rPr>
              <a:t>;</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Obserwatoria Rynku Pracy;</a:t>
            </a:r>
            <a:endParaRPr b="0" lang="en-US" sz="1400" spc="-1" strike="noStrike">
              <a:solidFill>
                <a:srgbClr val="000000"/>
              </a:solidFill>
              <a:latin typeface="Arial"/>
            </a:endParaRPr>
          </a:p>
          <a:p>
            <a:pPr marL="360360" algn="jus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ystem Informacji Oświatowej.</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raporty:</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3"/>
              </a:rPr>
              <a:t>http://www.stat.gov.pl/gus/45_3748_PLK_HTML.htm</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4"/>
              </a:rPr>
              <a:t>http://www.psz.praca.gov.pl/_files_/publikacje/raport_aktywnosc1.zip</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5"/>
              </a:rPr>
              <a:t>http://www.stat.gov.pl/cps/rde/xbcr/gus/PUBL_Kobiety_w_Polsce.pdf</a:t>
            </a: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ff0000"/>
                </a:solidFill>
                <a:latin typeface="Arial"/>
                <a:ea typeface="Arial"/>
              </a:rPr>
              <a:t>Pomocne strony internetowe:</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6"/>
              </a:rPr>
              <a:t>http://www.cofund.org.pl</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9999"/>
                </a:solidFill>
                <a:uFillTx/>
                <a:latin typeface="Arial"/>
                <a:ea typeface="Arial"/>
                <a:hlinkClick r:id="rId7"/>
              </a:rPr>
              <a:t>http://www.undp.org.pl/pl/index.php</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bezuprzedzen.org/</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u="sng">
                <a:solidFill>
                  <a:srgbClr val="000000"/>
                </a:solidFill>
                <a:uFillTx/>
                <a:latin typeface="Arial"/>
                <a:ea typeface="Arial"/>
              </a:rPr>
              <a:t>http://www.rownystatus.gov.pl/ </a:t>
            </a: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360360" algn="just">
              <a:spcAft>
                <a:spcPts val="6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4/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3 sierpnia 2010 r. do dnia 16 wrześni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rak spełnienia kryteriów horyzontalnych:</a:t>
            </a:r>
            <a:endParaRPr b="0" lang="en-US" sz="18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jest niezgodny z zapisami SzOP PO KL, ponieważ obejmuje wsparciem pracowników uczelni wyższych, którzy nie podlegają pod Ustawę o systemie oświaty. Zgodnie ze Szczegółowym Opisem Priorytetów PO KL wsparciem mogą zostać objęte kadry systemu oświaty;</a:t>
            </a:r>
            <a:endParaRPr b="0" lang="en-US" sz="1600" spc="-1" strike="noStrike">
              <a:solidFill>
                <a:srgbClr val="000000"/>
              </a:solidFill>
              <a:latin typeface="Tahom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jest zgodny z zapisami SzOP PO KL. W przypadku objęcia wsparciem pracowników administracji i kadry zarządzającej jedynym możliwym do realizacji typem projektu są studia podyplomowe i kursy doskonalące dla nauczycieli </a:t>
            </a:r>
            <a:br>
              <a:rPr sz="1600"/>
            </a:br>
            <a:r>
              <a:rPr b="0" lang="pl-PL" sz="1600" spc="-1" strike="noStrike">
                <a:solidFill>
                  <a:srgbClr val="000000"/>
                </a:solidFill>
                <a:latin typeface="Arial"/>
              </a:rPr>
              <a:t>i pracowników administracji oświatowej w zakresie organizacji, zarządzania, finansowania oraz monitoringu działalności oświatowej, natomiast projekt zakłada kursy doskonalące w zakresie obsługi komputera i języków obcych, które nie wpisują się w przedmiotowy typ projektu.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onsultacji potrzeb ze środowiskiem nauczycielskim w regioni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1197000"/>
            <a:ext cx="8002440" cy="4911840"/>
          </a:xfrm>
          <a:prstGeom prst="rect">
            <a:avLst/>
          </a:prstGeom>
          <a:noFill/>
          <a:ln w="0">
            <a:noFill/>
          </a:ln>
        </p:spPr>
        <p:txBody>
          <a:bodyPr anchor="t">
            <a:normAutofit fontScale="90000"/>
          </a:bodyPr>
          <a:p>
            <a:pPr marL="239760" indent="-239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39760" indent="-239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niedostosowana do proponowanego wsparcia, niewynikająca z diagnozy;</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przedstawiona w sposób ogólny, niewskazujący na charakter wnioskowanego wsparcia;</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uczestnikach, projektodawca w ogóle nie opisuje uczestników </a:t>
            </a:r>
            <a:br>
              <a:rPr sz="1600"/>
            </a:br>
            <a:r>
              <a:rPr b="0" lang="pl-PL" sz="1600" spc="-1" strike="noStrike">
                <a:solidFill>
                  <a:srgbClr val="000000"/>
                </a:solidFill>
                <a:latin typeface="Arial"/>
                <a:ea typeface="Arial"/>
              </a:rPr>
              <a:t>do kogo kierowany jest projekt, pomija przedział wiekowy, liczbę uczestników oraz proces rekrutacji;</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wystarczający opis rekrutacji – brak metod, kryteriów i sposobu przeprowadzenia rekrutacji;</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rekrutacja niespójna z celami projektów;</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liczebności grupy;</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uwzględnienie w projekcie trudności związanych z udziałem grupy docelowej, wynikających z ich miejsca zamieszkania;</a:t>
            </a:r>
            <a:endParaRPr b="0" lang="en-US" sz="1600" spc="-1" strike="noStrike">
              <a:solidFill>
                <a:srgbClr val="000000"/>
              </a:solidFill>
              <a:latin typeface="Tahoma"/>
            </a:endParaRPr>
          </a:p>
          <a:p>
            <a:pPr marL="239760" indent="-23976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spójności między liczbą uczestników a rezultatami twardymi.</a:t>
            </a:r>
            <a:endParaRPr b="0" lang="en-US" sz="1600" spc="-1" strike="noStrike">
              <a:solidFill>
                <a:srgbClr val="000000"/>
              </a:solidFill>
              <a:latin typeface="Tahoma"/>
            </a:endParaRPr>
          </a:p>
          <a:p>
            <a:pPr marL="239760" indent="-239760" algn="just">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9760" indent="-239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9760" indent="-239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42600" y="1125000"/>
            <a:ext cx="8002440" cy="500076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dostosowania ilości godzin wsparcia do poziomu jego trudności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pisu działań promocyjno – informacyjnych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na temat miejsc, gdzie będą organizowane zadan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wskazania czy zaplanowane kursy szkoleniowe dla nauczycieli pozwolą </a:t>
            </a:r>
            <a:br>
              <a:rPr sz="1600"/>
            </a:br>
            <a:r>
              <a:rPr b="0" lang="pl-PL" sz="1600" spc="-1" strike="noStrike">
                <a:solidFill>
                  <a:srgbClr val="000000"/>
                </a:solidFill>
                <a:latin typeface="Arial"/>
                <a:ea typeface="Arial"/>
              </a:rPr>
              <a:t>na uzyskanie kwalifikacji do nauczania drugiego przedmio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 (w chwili obecnej należy opisać: produkty, rezultaty twarde, rezultaty miękk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wantyfikacj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świadczenia w realizacji podobnych przedsięwzię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metod zarządzania oraz kwalifikacji osób pełniących kluczowe role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3 5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2 975 000,0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525 000,0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4 Wysoko wykwalifikowane kadry systemu oświaty</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42960" y="1143000"/>
            <a:ext cx="7858080" cy="52862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a:t>
            </a:r>
            <a:r>
              <a:rPr b="1" lang="pl-PL" sz="1400" spc="-1" strike="noStrike">
                <a:solidFill>
                  <a:srgbClr val="000000"/>
                </a:solidFill>
                <a:latin typeface="Arial"/>
                <a:ea typeface="Arial"/>
              </a:rPr>
              <a:t>Przygoda z turystyką” – doskonalenie nauczycieli w zakresie edukacji środowiskowej jako czynnik kształtowania świadomości środowiskowej i tożsamości regionalnej </a:t>
            </a:r>
            <a:br>
              <a:rPr sz="1400"/>
            </a:br>
            <a:r>
              <a:rPr b="1" lang="pl-PL" sz="1400" spc="-1" strike="noStrike">
                <a:solidFill>
                  <a:srgbClr val="000000"/>
                </a:solidFill>
                <a:latin typeface="Arial"/>
                <a:ea typeface="Arial"/>
              </a:rPr>
              <a:t>w województwie zachodniopomorskim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Forum Turystyki Region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ea typeface="Arial"/>
              </a:rPr>
              <a:t>01.10.2008 – 31.12.2009</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podniesienie kompetencji nauczycieli w zakresie realizacji zajęć z edukacji środowiskowej a w efekcie wzrost świadomości terytorialnej i tożsamości regionalnej uczniów z terenu woj. zachodniopomorski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ea typeface="Arial"/>
              </a:rPr>
              <a:t>354 nauczyciel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rostokąt 2"/>
          <p:cNvSpPr/>
          <p:nvPr/>
        </p:nvSpPr>
        <p:spPr>
          <a:xfrm>
            <a:off x="642960" y="1143000"/>
            <a:ext cx="7929720" cy="435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nia z zakresu interaktywnych metod edukacji środowisk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ezentacja projektu podczas Szkolnej Giełdy Turystycznej „Przygoda” w Szczecinie (konferencja dla nauczycieli oraz prezentacja przykładów interaktywnych form edukacji środowisk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ykl szkoleń w zakresie terenowych form edukacji środowiskowej (zajęcia w sali oraz zajęcia terenowe – edycja wiosenna i jesien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ygotowanie i wydanie przewodnika i zeszytu metodycznego (przewodnik z opisem propozycji tras wycieczek edukacyjnych oraz zeszyt metodyczn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dakcja i druk opracowania diagnostycznego (wnioski zawarte w publikacji mogą być wykorzystywane w bieżącej pracy/działalności: Kuratorium Oświaty, ZCDN, CEN, uczelni wyższych i szkó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podyplomowe, kursy kwalifikacyjne i doskonalące oraz inne formy podwyższania kwalifikacji dla nauczycieli w zakresie zgodnym z lokalną i regionalną polityką edukacyjną (w tym przygotowanie do nauczania drugiego przedmiotu lub rodzaju prowadzonych zaję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podyplomowe, kursy i szkolenia oraz inne formy podwyższania kwalifikacji pracowników placówek kształcenia ustawicznego, praktycznego i doskonalenia zawodowego oraz instruktorów praktycznej nauki zawod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tudia wyższe oraz kursy kwalifikacyjne dla nauczycieli zainteresowanych podwyższeniem  lub uzupełnieniem posiadanego wykształc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udia podyplomowe i kursy doskonalące dla nauczycieli i pracowników administracji oświatowej w zakresie organizacji, zarządzania, finansowania oraz monitoringu działalności oświatow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gramy przekwalifikowania nauczycieli szkolnych w związku ze zmieniającą się sytuacją      demograficzną (niż szkolny) w kierunku kształcenia ustawicznego (osób dorosł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auczycieli i pracowników dydaktycznych szkół i placówek oświat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nstruktorów praktycznej nauki zawod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dry administracyjnej i zarządzającej oświatą w szkołach i  placówkach oświatowych i ich organach prowadząc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11280" y="1193400"/>
            <a:ext cx="7921440" cy="4971960"/>
          </a:xfrm>
          <a:prstGeom prst="rect">
            <a:avLst/>
          </a:prstGeom>
          <a:noFill/>
          <a:ln w="0">
            <a:noFill/>
          </a:ln>
        </p:spPr>
        <p:txBody>
          <a:bodyPr anchor="t">
            <a:normAutofit fontScale="74000"/>
          </a:bodyPr>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3 r.</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3 r. </a:t>
            </a:r>
            <a:br>
              <a:rPr sz="1400"/>
            </a:br>
            <a:r>
              <a:rPr b="0" lang="pl-PL" sz="1400" spc="-1" strike="noStrike">
                <a:solidFill>
                  <a:srgbClr val="000000"/>
                </a:solidFill>
                <a:latin typeface="Arial"/>
              </a:rPr>
              <a:t>W pkt 1.8 należy więc wskazać właściwy okres realizacji projektu.</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200 tysięcy złotych.</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200 tysięcy zł.</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8-04T12:17:49Z</dcterms:modified>
  <cp:revision>473</cp:revision>
  <dc:subject/>
  <dc:title>Slajd 1</dc:title>
</cp:coreProperties>
</file>