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7.xml" ContentType="application/vnd.openxmlformats-officedocument.presentationml.notesSlide+xml"/>
  <Override PartName="/ppt/notesSlides/_rels/notesSlide89.xml.rels" ContentType="application/vnd.openxmlformats-package.relationships+xml"/>
  <Override PartName="/ppt/notesSlides/_rels/notesSlide87.xml.rels" ContentType="application/vnd.openxmlformats-package.relationships+xml"/>
  <Override PartName="/ppt/notesSlides/notesSlide8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C744-11ED-46A6-8AD7-615344CB814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B741-52FD-4A4B-AC94-D1DFC166F7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1CB4-BE92-4BC7-86A5-27EA1622D0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9.1.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9.3/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7 kwietni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w punkcie 2.5 wniosku), to jest to wystarczające dla spełnienia kryterium.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fontScale="82000"/>
          </a:bodyPr>
          <a:p>
            <a:pPr marL="281160" indent="-28116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odawca będący jednostką samorządu terytorialnego wniósł wkład własny  </a:t>
            </a:r>
            <a:br>
              <a:rPr sz="1400"/>
            </a:br>
            <a:r>
              <a:rPr b="0" lang="pl-PL" sz="1400" spc="-1" strike="noStrike">
                <a:solidFill>
                  <a:srgbClr val="000000"/>
                </a:solidFill>
                <a:latin typeface="Arial"/>
                <a:ea typeface="Arial"/>
              </a:rPr>
              <a:t>w wysokości 10% wartości projektu.</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olu IV Budżet projektu w pkt 4.3 </a:t>
            </a:r>
            <a:r>
              <a:rPr b="0" i="1" lang="pl-PL" sz="1400" spc="-1" strike="noStrike">
                <a:solidFill>
                  <a:srgbClr val="000000"/>
                </a:solidFill>
                <a:latin typeface="Arial"/>
                <a:ea typeface="Arial"/>
              </a:rPr>
              <a:t>wkład własny </a:t>
            </a:r>
            <a:r>
              <a:rPr b="0" lang="pl-PL" sz="1400" spc="-1" strike="noStrike">
                <a:solidFill>
                  <a:srgbClr val="000000"/>
                </a:solidFill>
                <a:latin typeface="Arial"/>
                <a:ea typeface="Arial"/>
              </a:rPr>
              <a:t>należy wpisać kwotę odpowiadającą co najmniej 10%</a:t>
            </a:r>
            <a:r>
              <a:rPr b="0" i="1" lang="pl-PL" sz="1400" spc="-1" strike="noStrike">
                <a:solidFill>
                  <a:srgbClr val="000000"/>
                </a:solidFill>
                <a:latin typeface="Arial"/>
                <a:ea typeface="Arial"/>
              </a:rPr>
              <a:t> </a:t>
            </a:r>
            <a:r>
              <a:rPr b="0" lang="pl-PL" sz="1400" spc="-1" strike="noStrike">
                <a:solidFill>
                  <a:srgbClr val="000000"/>
                </a:solidFill>
                <a:latin typeface="Arial"/>
                <a:ea typeface="Arial"/>
              </a:rPr>
              <a:t>kosztów ogółem.</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odawca niebędący jednostką samorządu terytorialnego zawarł partnerstwo </a:t>
            </a:r>
            <a:br>
              <a:rPr sz="1400"/>
            </a:br>
            <a:r>
              <a:rPr b="0" lang="pl-PL" sz="1400" spc="-1" strike="noStrike">
                <a:solidFill>
                  <a:srgbClr val="000000"/>
                </a:solidFill>
                <a:latin typeface="Arial"/>
                <a:ea typeface="Arial"/>
              </a:rPr>
              <a:t>z  gminą, na terenie której realizowany będzie projekt i która wniesie wkład własny </a:t>
            </a:r>
            <a:br>
              <a:rPr sz="1400"/>
            </a:br>
            <a:r>
              <a:rPr b="0" lang="pl-PL" sz="1400" spc="-1" strike="noStrike">
                <a:solidFill>
                  <a:srgbClr val="000000"/>
                </a:solidFill>
                <a:latin typeface="Arial"/>
                <a:ea typeface="Arial"/>
              </a:rPr>
              <a:t>w wysokości 10 % wartości projektu.</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281160" indent="-2811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W polu IV Budżet projektu w pkt 4.3 </a:t>
            </a:r>
            <a:r>
              <a:rPr b="0" i="1" lang="pl-PL" sz="1400" spc="-1" strike="noStrike">
                <a:solidFill>
                  <a:srgbClr val="000000"/>
                </a:solidFill>
                <a:latin typeface="Tahoma"/>
              </a:rPr>
              <a:t>wkład własny </a:t>
            </a:r>
            <a:r>
              <a:rPr b="0" lang="pl-PL" sz="1400" spc="-1" strike="noStrike">
                <a:solidFill>
                  <a:srgbClr val="000000"/>
                </a:solidFill>
                <a:latin typeface="Tahoma"/>
              </a:rPr>
              <a:t>należy wpisać kwotę odpowiadającą co najmniej 10%</a:t>
            </a:r>
            <a:r>
              <a:rPr b="0" i="1" lang="pl-PL" sz="1400" spc="-1" strike="noStrike">
                <a:solidFill>
                  <a:srgbClr val="000000"/>
                </a:solidFill>
                <a:latin typeface="Tahoma"/>
              </a:rPr>
              <a:t> </a:t>
            </a:r>
            <a:r>
              <a:rPr b="0" lang="pl-PL" sz="1400" spc="-1" strike="noStrike">
                <a:solidFill>
                  <a:srgbClr val="000000"/>
                </a:solidFill>
                <a:latin typeface="Tahoma"/>
              </a:rPr>
              <a:t>kosztów ogółem.</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81160" indent="-28116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realizowany na terenie, gmin, w których udział dzieci w wieku 3-5 lat objętych wychowaniem przedszkolnym lub innymi formami wychowania przedszkolnego jest niższy niż 30%.</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Arial"/>
                <a:ea typeface="Arial"/>
              </a:rPr>
              <a:t>Gminy, w których udział dzieci w wieku 3-5 lat objętych wychowaniem przedszkolnym lub innymi formami wychowania przedszkolnego jest niższy niż 30%.</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Aby spełnić kryterium projekt musi być realizowany na terenie gmin (gminy) wskazanych (wskazanej) w załączniku nr 5.6 do niniejszej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142640"/>
            <a:ext cx="8229600" cy="5357880"/>
          </a:xfrm>
          <a:prstGeom prst="rect">
            <a:avLst/>
          </a:prstGeom>
          <a:noFill/>
          <a:ln w="0">
            <a:noFill/>
          </a:ln>
        </p:spPr>
        <p:txBody>
          <a:bodyPr anchor="t">
            <a:normAutofit fontScale="69000"/>
          </a:bodyPr>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przewiduje:</a:t>
            </a:r>
            <a:endParaRPr b="0" lang="en-US" sz="1400" spc="-1" strike="noStrike">
              <a:solidFill>
                <a:srgbClr val="000000"/>
              </a:solidFill>
              <a:latin typeface="Tahoma"/>
            </a:endParaRPr>
          </a:p>
          <a:p>
            <a:pPr marL="236520" indent="-236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ktywny udział rodziców; </a:t>
            </a: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lub </a:t>
            </a:r>
            <a:endParaRPr b="0" lang="en-US" sz="1400" spc="-1" strike="noStrike">
              <a:solidFill>
                <a:srgbClr val="000000"/>
              </a:solidFill>
              <a:latin typeface="Tahoma"/>
            </a:endParaRPr>
          </a:p>
          <a:p>
            <a:pPr marL="236520" indent="-236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realizację projektu przez organizację pozarządową realizującą zadania na rzecz upowszechnienia edukacji, działającą lokalnie;</a:t>
            </a: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lub </a:t>
            </a:r>
            <a:endParaRPr b="0" lang="en-US" sz="1400" spc="-1" strike="noStrike">
              <a:solidFill>
                <a:srgbClr val="000000"/>
              </a:solidFill>
              <a:latin typeface="Tahoma"/>
            </a:endParaRPr>
          </a:p>
          <a:p>
            <a:pPr marL="236520" indent="-236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artnerstwo z organizacją pozarządową realizującą zadania na rzecz upowszechnienia edukacji, działającą lokalnie; </a:t>
            </a:r>
            <a:endParaRPr b="0" lang="en-US" sz="1400" spc="-1" strike="noStrike">
              <a:solidFill>
                <a:srgbClr val="000000"/>
              </a:solidFill>
              <a:latin typeface="Tahoma"/>
            </a:endParaRPr>
          </a:p>
          <a:p>
            <a:pPr marL="236520" indent="-236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tworzeniu i organizacji przedszkola.</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25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e wniosku (np. pkt 3.3 i 3.5) projektodawca musi zapisać na czym będzie polegał aktywny udział rodziców i w jakich zadaniach wystąpi;</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zypadku zawarcia partnerstwa z organizacją pozarządową we wniosku (np. pkt 3.3 i 3.5) projektodawca musi zapisać na czym będzie polegał udział partnera i w jakich zadaniach wystąpi;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zypadku realizacji projektu przez organizację pozarządową we wniosku (np. pkt. 3.3 i 3.5) projektodawca musi zapisać jakich działań podejmie się organizacja pozarządowa i w jakich zadaniach wystąpi. Ponadto, realizacja zadań na rzecz upowszechnienia edukacji przez organizację pozarządową musi wynikać z dokumentu regulującego działalność tejże organizacji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6520" indent="-236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36520" indent="-236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213920"/>
            <a:ext cx="8229600" cy="5286600"/>
          </a:xfrm>
          <a:prstGeom prst="rect">
            <a:avLst/>
          </a:prstGeom>
          <a:noFill/>
          <a:ln w="0">
            <a:noFill/>
          </a:ln>
        </p:spPr>
        <p:txBody>
          <a:bodyPr anchor="t">
            <a:normAutofit fontScale="72000"/>
          </a:bodyPr>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realizowany   na   obszarze   gmin   lub   skierowany  do   mieszkańców   gmin wymienionych  w   załączniku   nr  6  do  Regionalnego   Programu   Operacyjnego   Województwa Zachodniopomorskiego tj. gmin w szczególnie niekorzystnej sytuacji społeczno-ekonomicznej.</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0</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Kryterium zapewnia komplementarność działań przewidzianych w priorytecie finansowanych ze środków EFS z działaniami współfinansowanymi ze środków EFRR w ramach RPO WZ; jako priorytet traktuje się wyrównywanie dysproporcji w regionie.</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śli projekt będzie realizowany na obszarze przedmiotowych gmin, to należy  je wskazać </a:t>
            </a:r>
            <a:br>
              <a:rPr sz="1400"/>
            </a:br>
            <a:r>
              <a:rPr b="0" lang="pl-PL" sz="1400" spc="-1" strike="noStrike">
                <a:solidFill>
                  <a:srgbClr val="000000"/>
                </a:solidFill>
                <a:latin typeface="Arial"/>
                <a:ea typeface="Arial"/>
              </a:rPr>
              <a:t>w punkcie 1.9 wniosku.</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śli projekt będzie skierowany do mieszkańców gmin, to informację o tym należy zapisać </a:t>
            </a:r>
            <a:br>
              <a:rPr sz="1400"/>
            </a:br>
            <a:r>
              <a:rPr b="0" lang="pl-PL" sz="1400" spc="-1" strike="noStrike">
                <a:solidFill>
                  <a:srgbClr val="000000"/>
                </a:solidFill>
                <a:latin typeface="Arial"/>
                <a:ea typeface="Arial"/>
              </a:rPr>
              <a:t>w punkcie 3.2 wniosku, gdzie trzeba wymienić gminy, w których mieszkają uczestnicy.</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Kryterium strategiczne spełnią wyłącznie Ci projektodawcy, których projekty realizowane są w 100% na obszarze gmin lub skierowane do mieszkańców gmin wymienionych w załączniku nr 6 do RPO WZ; oznacza to, że Projektodawca nie otrzyma premii punktowej, jeśli projekt skierowany będzie zarówno do gmin/mieszkańców gmin nie wymienionych w w/w  załączniku jak i do wymienionych.</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6960" indent="-246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46960" indent="-246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213920"/>
            <a:ext cx="8229600" cy="5286600"/>
          </a:xfrm>
          <a:prstGeom prst="rect">
            <a:avLst/>
          </a:prstGeom>
          <a:noFill/>
          <a:ln w="0">
            <a:noFill/>
          </a:ln>
        </p:spPr>
        <p:txBody>
          <a:bodyPr anchor="t">
            <a:normAutofit fontScale="87000"/>
          </a:bodyPr>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e wniosku (np. w pkt. 3.1 i 3.5) należy zapisać z jaką inwestycją finansowaną ze źródeł wspólnotowych innych niż Europejski Fundusz Społeczny projekt jest komplementarny i w jakim zakresie (tytuł projektu i kto jest jego projektodawcą).</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t>
            </a:r>
            <a:r>
              <a:rPr b="0" lang="pl-PL" sz="1400" spc="-1" strike="noStrike">
                <a:solidFill>
                  <a:srgbClr val="000000"/>
                </a:solidFill>
                <a:latin typeface="Tahoma"/>
              </a:rPr>
              <a:t>	</a:t>
            </a:r>
            <a:r>
              <a:rPr b="0" lang="pl-PL" sz="1400" spc="-1" strike="noStrike">
                <a:solidFill>
                  <a:srgbClr val="000000"/>
                </a:solidFill>
                <a:latin typeface="Tahoma"/>
              </a:rPr>
              <a:t>Inwestycja z jaką projekt jest komplementarny nie musi być rezultatem projektu zrealizowanego przez wnioskodawcę.</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Za planowane do realizacji uznaje się te projekty, które zostały rekomendowane </a:t>
            </a:r>
            <a:br>
              <a:rPr sz="1400"/>
            </a:br>
            <a:r>
              <a:rPr b="0" lang="pl-PL" sz="1400" spc="-1" strike="noStrike">
                <a:solidFill>
                  <a:srgbClr val="000000"/>
                </a:solidFill>
                <a:latin typeface="Tahoma"/>
              </a:rPr>
              <a:t>do dofinansowania lub znajdują się na liście projektów kluczowych.</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Poddziałaniu 9.1.1 </a:t>
            </a:r>
            <a:r>
              <a:rPr b="0" i="1" lang="pl-PL" sz="1400" spc="-1" strike="noStrike">
                <a:solidFill>
                  <a:srgbClr val="000000"/>
                </a:solidFill>
                <a:latin typeface="Arial"/>
                <a:ea typeface="Arial"/>
              </a:rPr>
              <a:t>Zmniejszenie nierówności w stopniu upowszechnienia edukacji przedszkolnej</a:t>
            </a:r>
            <a:r>
              <a:rPr b="0" lang="pl-PL" sz="1400" spc="-1" strike="noStrike">
                <a:solidFill>
                  <a:srgbClr val="000000"/>
                </a:solidFill>
                <a:latin typeface="Arial"/>
                <a:ea typeface="Arial"/>
              </a:rPr>
              <a:t>, </a:t>
            </a:r>
            <a:r>
              <a:rPr b="0" lang="pl-PL" sz="1400" spc="-1" strike="noStrike" u="sng">
                <a:solidFill>
                  <a:srgbClr val="000000"/>
                </a:solidFill>
                <a:uFillTx/>
                <a:latin typeface="Arial"/>
                <a:ea typeface="Arial"/>
              </a:rPr>
              <a:t>co do zasady pomoc publiczna nie występuje</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odawca musi jednak zwrócić uwagę, że niedozwolone jest czerpanie korzyści ekonomicznych z realizacji projektu w szczególności poprzez odpłatny wynajem środków trwałych zakupionych w ramach projektu, pomieszczeń wyremontowanych w ramach projektu it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9.3/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3/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o Wojewódzkiego Urzędu Pracy</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Od dnia 21 kwietnia 2010 r., do dnia 25 maja 2010 r.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Tahoma"/>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Koszalin – pokój 25</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8 000 000,00 zł</a:t>
            </a:r>
            <a:endParaRPr b="0" lang="en-US" sz="1600" spc="-1" strike="noStrike">
              <a:solidFill>
                <a:srgbClr val="000000"/>
              </a:solidFill>
              <a:latin typeface="Tahoma"/>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ea typeface="Arial"/>
              </a:rPr>
              <a:t>6 800 000,00 zł</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 </a:t>
            </a:r>
            <a:r>
              <a:rPr b="1" lang="pl-PL" sz="1600" spc="-1" strike="noStrike">
                <a:solidFill>
                  <a:srgbClr val="ff0000"/>
                </a:solidFill>
                <a:latin typeface="Arial"/>
                <a:ea typeface="Arial"/>
              </a:rPr>
              <a:t>1 200 000,00 zł</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3.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71320" y="1143000"/>
            <a:ext cx="8001000" cy="4983120"/>
          </a:xfrm>
          <a:prstGeom prst="rect">
            <a:avLst/>
          </a:prstGeom>
          <a:noFill/>
          <a:ln w="0">
            <a:noFill/>
          </a:ln>
        </p:spPr>
        <p:txBody>
          <a:bodyPr anchor="t">
            <a:normAutofit fontScale="95000"/>
          </a:bodyPr>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Kampanie informacyjne w zakresie formalnego kształcenia ustawicznego, w tym w kontekście potrzeb regionalnego lub lokalnego rynku prac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Kształcenie w formach szkolnych osób dorosłych z własnej inicjatywy zainteresowanych uzupełnieniem lub podwyższeniem swojego wykształcenia i kwalifikacji ogólnych i zawodowych.</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Programy formalnego potwierdzania kwalifikacji ogólnych i zawodowych zdobytych w sposób pozaformalny i nieformalny (wsparcie dla osób, które z własnej inicjatywy deklarują chęć przystąpienia do egzaminu zewnętrznego i potwierdzenia posiadanych kwalifikacji).</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Usługi doradcze dla osób dorosłych z własnej inicjatywy zainteresowanych kształceniem formalnym </a:t>
            </a:r>
            <a:br>
              <a:rPr sz="1300"/>
            </a:br>
            <a:r>
              <a:rPr b="0" lang="pl-PL" sz="1300" spc="-1" strike="noStrike">
                <a:solidFill>
                  <a:srgbClr val="000000"/>
                </a:solidFill>
                <a:latin typeface="Arial"/>
                <a:ea typeface="Arial"/>
              </a:rPr>
              <a:t>w zakresie wyboru kierunku i formy kształcenia formalnego w kontekście potrzeb regionalnego lub lokalnego rynku prac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5. </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Wsparcie dla szkół dla dorosłych, placówek kształcenia ustawicznego, praktycznego i doskonalenia zawodowego w zakresie kształcenia formalnego ukierunkowane na:</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 </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monitorowanie potrzeb oraz rozszerzanie lub dostosowywanie oferty edukacyjnej do potrzeb regionalnego i lokalnego rynku prac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 </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podwyższanie jakości oferty edukacyjnej w tym również w przypadku form pozaszkolnych ubieganie się o akredytację kuratora oświaty;</a:t>
            </a:r>
            <a:endParaRPr b="0" lang="en-US" sz="1300" spc="-1" strike="noStrike">
              <a:solidFill>
                <a:srgbClr val="000000"/>
              </a:solidFill>
              <a:latin typeface="Tahoma"/>
            </a:endParaRPr>
          </a:p>
          <a:p>
            <a:pPr marL="325800" indent="-325800"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ea typeface="Arial"/>
              </a:rPr>
              <a:t>-</a:t>
            </a:r>
            <a:r>
              <a:rPr b="0" lang="pl-PL" sz="1300" spc="-1" strike="noStrike">
                <a:solidFill>
                  <a:srgbClr val="000000"/>
                </a:solidFill>
                <a:latin typeface="Arial"/>
                <a:ea typeface="Arial"/>
              </a:rPr>
              <a:t>	</a:t>
            </a:r>
            <a:r>
              <a:rPr b="0" lang="pl-PL" sz="1300" spc="-1" strike="noStrike">
                <a:solidFill>
                  <a:srgbClr val="000000"/>
                </a:solidFill>
                <a:latin typeface="Arial"/>
                <a:ea typeface="Arial"/>
              </a:rPr>
              <a:t>rozwój innowacyjnych form kształcenia ustawicznego, w tym również w formie e – learningu.</a:t>
            </a:r>
            <a:endParaRPr b="0" lang="en-US" sz="13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42600" y="1052280"/>
            <a:ext cx="7929720" cy="5019480"/>
          </a:xfrm>
          <a:prstGeom prst="rect">
            <a:avLst/>
          </a:prstGeom>
          <a:noFill/>
          <a:ln w="0">
            <a:noFill/>
          </a:ln>
        </p:spPr>
        <p:txBody>
          <a:bodyPr anchor="t">
            <a:normAutofit fontScale="96000"/>
          </a:bodyPr>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sób w wieku 25 – 64 lat (oraz osób nie uczących się w wieku 18 – 24 lat) zgłaszających </a:t>
            </a:r>
            <a:br>
              <a:rPr sz="1400"/>
            </a:br>
            <a:r>
              <a:rPr b="0" lang="pl-PL" sz="1400" spc="-1" strike="noStrike">
                <a:solidFill>
                  <a:srgbClr val="000000"/>
                </a:solidFill>
                <a:latin typeface="Arial"/>
                <a:ea typeface="Arial"/>
              </a:rPr>
              <a:t>z własnej inicjatywy chęć kształcenia ustawicznego w formach szkolnych;</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ół dla dorosłych, placówek kształcenia ustawicznego, praktycznego i doskonalenia zawodowego prowadzących formalne kształcenia ustawiczne;</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artnerów społeczno – gospodarczych;</a:t>
            </a: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acodawców.</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72"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1142640"/>
            <a:ext cx="8229600" cy="4954680"/>
          </a:xfrm>
          <a:prstGeom prst="rect">
            <a:avLst/>
          </a:prstGeom>
          <a:noFill/>
          <a:ln w="0">
            <a:noFill/>
          </a:ln>
        </p:spPr>
        <p:txBody>
          <a:bodyPr anchor="t">
            <a:normAutofit fontScale="87000"/>
          </a:bodyPr>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3 r.  </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u projektu nr 2</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wynosi od dnia złożenia wniosku do 31 grudnia 2013 roku, </a:t>
            </a:r>
            <a:br>
              <a:rPr sz="1400"/>
            </a:br>
            <a:r>
              <a:rPr b="0" lang="pl-PL" sz="1400" spc="-1" strike="noStrike">
                <a:solidFill>
                  <a:srgbClr val="000000"/>
                </a:solidFill>
                <a:latin typeface="Arial"/>
                <a:ea typeface="Arial"/>
              </a:rPr>
              <a:t>w punkcie. 1.8 wniosku należy więc wskazać właściwy okres realizacji.</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1 r.</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u nr 1, 3, 4 i 5.</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wynosi od dnia złożenia wniosku do 31 grudnia 2011 roku, </a:t>
            </a:r>
            <a:br>
              <a:rPr sz="1400"/>
            </a:br>
            <a:r>
              <a:rPr b="0" lang="pl-PL" sz="1400" spc="-1" strike="noStrike">
                <a:solidFill>
                  <a:srgbClr val="000000"/>
                </a:solidFill>
                <a:latin typeface="Arial"/>
                <a:ea typeface="Arial"/>
              </a:rPr>
              <a:t>w punkcie. 1.8 wniosku należy więc wskazać właściwy okres realizacji.</a:t>
            </a: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inimalna wartość projektu wynosi 200 tysięcy zł.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typów projektu nr 1, 2, 3, 4 i 5.</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W części IV wniosku o dofinansowanie całkowita kwota wydatków projektu (w tym wkład własny) nie może być niższa niż 200 tysięcy zł.</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w punkcie 2.5 wniosku), to jest to wystarczające dla spełnienia kryterium.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fontScale="83000"/>
          </a:bodyPr>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5.</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ę docelową w projekcie stanowią osoby mające miejsce zamieszkania na terenie województwa zachodniopomorskiego w rozumieniu Kodeksu Cywilnego oraz szkoły dla dorosłych, placówki kształcenia ustawicznego, praktycznego i doskonalenia zawodowego prowadzące formalne kształcenia ustawiczne z terenu województwa zachodniopomorskiego.  </a:t>
            </a:r>
            <a:endParaRPr b="0" lang="en-US" sz="1400" spc="-1" strike="noStrike">
              <a:solidFill>
                <a:srgbClr val="000000"/>
              </a:solidFill>
              <a:latin typeface="Tahoma"/>
            </a:endParaRPr>
          </a:p>
          <a:p>
            <a:pPr marL="284400" indent="-284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Tahoma"/>
              </a:rPr>
              <a:t>Kryterium dotyczy typów projektu nr 1, 2, 3, 4 i 5.</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kt. 3.2 wniosku należy opisać grupę docelową stanowiącą osoby mające miejsce zamieszkania na terenie województwa zachodniopomorskiego zgodnie z zapisami Kodeksu Cywilnego oraz placówki będące CKU, CKP, szkoły dla dorosłych i ośrodki doskonalenia zawodowego z terenu województwa zachodniopomorskiego zgodnie ze statutem danej jednostki. Projektodawca nie jest zobowiązany do objęcia wsparciem wszystkich z wymienionych grup odbiorców w ramach jednego projektu.</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84400" indent="-2844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84400" indent="-2844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42640"/>
            <a:ext cx="8229600" cy="5357880"/>
          </a:xfrm>
          <a:prstGeom prst="rect">
            <a:avLst/>
          </a:prstGeom>
          <a:noFill/>
          <a:ln w="0">
            <a:noFill/>
          </a:ln>
        </p:spPr>
        <p:txBody>
          <a:bodyPr anchor="t">
            <a:normAutofit fontScale="64000"/>
          </a:bodyPr>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zakłada wykorzystanie specjalistycznych stanowisk do przeprowadzania zewnętrznych egzaminów  zawodowych zakupionych ze środków Europejskiego Funduszu Społecznego </a:t>
            </a:r>
            <a:br>
              <a:rPr sz="1400"/>
            </a:br>
            <a:r>
              <a:rPr b="0" lang="pl-PL" sz="1400" spc="-1" strike="noStrike">
                <a:solidFill>
                  <a:srgbClr val="000000"/>
                </a:solidFill>
                <a:latin typeface="Arial"/>
                <a:ea typeface="Arial"/>
              </a:rPr>
              <a:t>w latach 2004 – 2006 oraz wykorzystanie wyposażenia Centrów Kształcenia Zawodowego </a:t>
            </a:r>
            <a:br>
              <a:rPr sz="1400"/>
            </a:br>
            <a:r>
              <a:rPr b="0" lang="pl-PL" sz="1400" spc="-1" strike="noStrike">
                <a:solidFill>
                  <a:srgbClr val="000000"/>
                </a:solidFill>
                <a:latin typeface="Arial"/>
                <a:ea typeface="Arial"/>
              </a:rPr>
              <a:t>i Praktycznego zakupionych ze środków EFS w latach 2004 – 2006.</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unkcie 3.5 wniosku Projektodawca powinien zapisać, iż w ramach projektu wykorzystane zostaną specjalistyczne stanowiska do przeprowadzania zewnętrznych egzaminów zawodowych zakupione ze środków Europejskiego Funduszu Społecznego na lata 2004 – 2006 oraz wykorzystanie wyposażenia zakupionego w Centrach Kształcenia Zawodowego i Praktycznego.</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ę docelową projektu w 60 % stanowią osoby powyżej 45. roku  życia.</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20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W części 3.2 wniosku należy wyraźnie zapisać, że odbiorcami projektu będą osoby, które ukończyły 45. rok życia oraz wskazać, że stanowią one 60 procent uczestników.</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W projekcie mogą wziąć udział osoby, które najpóźniej w dniu przystąpienia do projektu ukończą 45. rok życia.</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19240" indent="-2192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19240" indent="-219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213920"/>
            <a:ext cx="8229600" cy="5286600"/>
          </a:xfrm>
          <a:prstGeom prst="rect">
            <a:avLst/>
          </a:prstGeom>
          <a:noFill/>
          <a:ln w="0">
            <a:noFill/>
          </a:ln>
        </p:spPr>
        <p:txBody>
          <a:bodyPr anchor="t">
            <a:normAutofit fontScale="68000"/>
          </a:bodyPr>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e wniosku (np. w pkt. 3.1 i 3.5) należy zapisać z jaką inwestycją finansowaną ze źródeł wspólnotowych innych niż Europejski Fundusz Społeczny projekt jest komplementarny i w jakim zakresie (tytuł projektu i kto jest jego projektodawcą);</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Inwestycja z jaką projekt jest komplementarny nie musi być rezultatem projektu zrealizowanego przez wnioskodawcę;</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projektu w 60% stanowią osoby zamieszkujące obszary wiejskie.</a:t>
            </a:r>
            <a:endParaRPr b="0" lang="en-US" sz="1400" spc="-1" strike="noStrike">
              <a:solidFill>
                <a:srgbClr val="000000"/>
              </a:solidFill>
              <a:latin typeface="Tahoma"/>
            </a:endParaRPr>
          </a:p>
          <a:p>
            <a:pPr marL="233280" indent="-233280" algn="just">
              <a:spcBef>
                <a:spcPts val="349"/>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0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33280" indent="-233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Arial"/>
                <a:ea typeface="Arial"/>
              </a:rPr>
              <a:t>W części 3.2 wniosku należy wyraźnie zapisać, że odbiorcami projektu będą osoby zamieszkujące obszary wiejskie oraz wskazać, że stanowią one 60 procent uczestników.</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Spełnienie kryterium spowoduje, iż oferta edukacyjna będzie ukierunkowana na osoby zamieszkujące obszary wiejskie.</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33280" indent="-233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33280" indent="-233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571320" y="1143000"/>
            <a:ext cx="8001000" cy="4859280"/>
          </a:xfrm>
          <a:prstGeom prst="rect">
            <a:avLst/>
          </a:prstGeom>
          <a:noFill/>
          <a:ln w="0">
            <a:noFill/>
          </a:ln>
        </p:spPr>
        <p:txBody>
          <a:bodyPr anchor="t">
            <a:normAutofit fontScale="88000"/>
          </a:bodyPr>
          <a:p>
            <a:pPr marL="301680" indent="-3016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ea typeface="Arial"/>
              </a:rPr>
              <a:t>	</a:t>
            </a:r>
            <a:r>
              <a:rPr b="0" lang="pl-PL" sz="1400" spc="-1" strike="noStrike">
                <a:solidFill>
                  <a:srgbClr val="000000"/>
                </a:solidFill>
                <a:latin typeface="Arial"/>
                <a:ea typeface="Arial"/>
              </a:rPr>
              <a:t>W ramach Działania 9.3 może występować </a:t>
            </a:r>
            <a:r>
              <a:rPr b="1" lang="pl-PL" sz="1400" spc="-1" strike="noStrike">
                <a:solidFill>
                  <a:srgbClr val="000000"/>
                </a:solidFill>
                <a:latin typeface="Arial"/>
                <a:ea typeface="Arial"/>
              </a:rPr>
              <a:t>pomoc de minimis na wsparcie niepublicznych placówek kształcenia ustawicznego, praktycznego i doskonalenia zawodowego </a:t>
            </a:r>
            <a:br>
              <a:rPr sz="1400"/>
            </a:br>
            <a:r>
              <a:rPr b="1" lang="pl-PL" sz="1400" spc="-1" strike="noStrike">
                <a:solidFill>
                  <a:srgbClr val="000000"/>
                </a:solidFill>
                <a:latin typeface="Arial"/>
                <a:ea typeface="Arial"/>
              </a:rPr>
              <a:t>w zakresie kształcenia formalnego </a:t>
            </a:r>
            <a:r>
              <a:rPr b="0" lang="pl-PL" sz="1400" spc="-1" strike="noStrike">
                <a:solidFill>
                  <a:srgbClr val="000000"/>
                </a:solidFill>
                <a:latin typeface="Arial"/>
                <a:ea typeface="Arial"/>
              </a:rPr>
              <a:t>udzielana na podstawie rozporządzenia Ministra Rozwoju Regionalnego z</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dnia 6 maja 2008 r. w sprawie udzielania pomocy publicznej w ramach Programu Operacyjnego</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Kapitał Ludzki (Dz. U. Nr 90, poz. 557, z późn. zm.).</a:t>
            </a: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r>
              <a:rPr b="0" lang="pl-PL" sz="1400" spc="-1" strike="noStrike">
                <a:solidFill>
                  <a:srgbClr val="000000"/>
                </a:solidFill>
                <a:latin typeface="Arial"/>
                <a:ea typeface="Arial"/>
              </a:rPr>
              <a:t>Pomoc de minimis może występować w sytuacji, gdy nie można rozdzielić organizacyjnie </a:t>
            </a:r>
            <a:br>
              <a:rPr sz="1400"/>
            </a:br>
            <a:r>
              <a:rPr b="0" lang="pl-PL" sz="1400" spc="-1" strike="noStrike">
                <a:solidFill>
                  <a:srgbClr val="000000"/>
                </a:solidFill>
                <a:latin typeface="Arial"/>
                <a:ea typeface="Arial"/>
              </a:rPr>
              <a:t>i</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finansowo działalności prowadzonej komercyjnie i nieodpłatnie przez placówki kształcenia</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ustawicznego, placówki kształcenia praktycznego, ośrodki dokształcania i doskonalenia</a:t>
            </a:r>
            <a:r>
              <a:rPr b="1" lang="pl-PL" sz="1400" spc="-1" strike="noStrike">
                <a:solidFill>
                  <a:srgbClr val="000000"/>
                </a:solidFill>
                <a:latin typeface="Arial"/>
                <a:ea typeface="Arial"/>
              </a:rPr>
              <a:t> </a:t>
            </a:r>
            <a:r>
              <a:rPr b="0" lang="pl-PL" sz="1400" spc="-1" strike="noStrike">
                <a:solidFill>
                  <a:srgbClr val="000000"/>
                </a:solidFill>
                <a:latin typeface="Arial"/>
                <a:ea typeface="Arial"/>
              </a:rPr>
              <a:t>zawodowego.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Pomoc publiczna będzie występowała, gdy np.:</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zeszkoleni w ramach projektu pracownicy placówki będą prowadzili zajęcia zarówno nieodpłatnie, jak i odpłatnie,</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lacówka dostanie wsparcie na rozwój (akredytację, rozwój innowacyjnych form kształcenia itp.),</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lacówka dostanie wsparcie na program formalnego kształcenia ustawicznego dla osób dorosłych zainteresowanych podwyższeniem swojego wykształcenia, którego elementy lub którego realizacja będą generowały korzyści dla takiej placówki (np. zakupiony zostanie sprzęt, który będzie wykorzystywany zarówno na zajęciach prowadzonych nieodpłatnie, jak </a:t>
            </a:r>
            <a:br>
              <a:rPr sz="1400"/>
            </a:br>
            <a:r>
              <a:rPr b="0" lang="pl-PL" sz="1400" spc="-1" strike="noStrike">
                <a:solidFill>
                  <a:srgbClr val="000000"/>
                </a:solidFill>
                <a:latin typeface="Arial"/>
                <a:ea typeface="Arial"/>
              </a:rPr>
              <a:t>i odpłatnie).</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82"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9.1.1/10 oraz 1/9.3/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9.1.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94"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7"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99"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1"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2"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104"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5"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7"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8"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09"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2"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5"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1.1/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o Wojewódzkiego Urzędu Pracy</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Od dnia 20 kwietnia 2010 r., do dnia 7 czerwca 2010 r.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Tahoma"/>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Koszalin – pokój 25</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8"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1"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4"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7"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0"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3"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6"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9"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43"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ea typeface="Arial"/>
              </a:rPr>
              <a:t>6 262 149,00 zł</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rPr>
              <a:t>5 322 826,65 zł</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 </a:t>
            </a:r>
            <a:r>
              <a:rPr b="1" lang="pl-PL" sz="1600" spc="-1" strike="noStrike">
                <a:solidFill>
                  <a:srgbClr val="ff0000"/>
                </a:solidFill>
                <a:latin typeface="Arial"/>
                <a:ea typeface="Arial"/>
              </a:rPr>
              <a:t>939 322,35 zł</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5"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47"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51"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52"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53"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 </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Arial"/>
              </a:rPr>
              <a:t>Poddziałanie 9.1.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1 Uzasadnienie potrzeby realizacji projektu:</a:t>
            </a: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cele,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e kwestie problemowe; </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recyzyjnie opisane cele szczegółowe projektu, nie korespondujące  z  celem głównym;</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analizy/diagnozy pod kątem równości szans.</a:t>
            </a:r>
            <a:endParaRPr b="0" lang="en-US" sz="16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e </a:t>
            </a:r>
            <a:r>
              <a:rPr b="0" lang="pl-PL" sz="1600" spc="-1" strike="noStrike" u="sng">
                <a:solidFill>
                  <a:srgbClr val="000000"/>
                </a:solidFill>
                <a:uFillTx/>
                <a:latin typeface="Arial"/>
              </a:rPr>
              <a:t>uzasadnienie wyboru grupy docelowej;</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 </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liczebności grup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przeczność grupy docelowej w opisie i  w tabeli 3.2.1.</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stosowania ilości godzin wsparcia do poziomu jego trudn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opisanych działań np.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informacji o zlecaniu zadań wraz z zakresem zlecanych zad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harmonogramie brak informacji o wymiarze etatów/ilości godzin zaangażowanego personel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ziałania nie odpowiadają na nierówności w sytuacji kobiet i mężczyz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4000" y="1197000"/>
            <a:ext cx="8002440" cy="551808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rezultatów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kreślenia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opis sposobu monitorowania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niewystarczający opis, w jaki sposób rezultaty wpłyną na realizację założonych celów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ezultatów w podziale na płeć.</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1. Tworzenie przedszkoli (w tym również uruchamianie innych form wychowania przedszkolnego) na obszarach i w środowiskach o niskim stopniu upowszechnienia edukacji przedszkolnej (w szczególności na obszarach wiejski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4000" y="1196640"/>
            <a:ext cx="8102520" cy="530388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kładnego opisu doświadczenia w realizacji podobnych przedsięwzięć wnioskodawcy;</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struktury zarządzania projektem i zakresu obowiązków osób     zaangażowanych w realizację projektu;</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anych dotyczących zaplecza technicznego z planowanymi wydatkami w projekcie;</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roli partnera;</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nie przewiduje równościowego sposobu zarządzania projektem.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rostokąt 1"/>
          <p:cNvSpPr/>
          <p:nvPr/>
        </p:nvSpPr>
        <p:spPr>
          <a:xfrm>
            <a:off x="642960" y="1714680"/>
            <a:ext cx="8177040" cy="453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600" spc="-1" strike="noStrike">
                <a:solidFill>
                  <a:srgbClr val="000000"/>
                </a:solidFill>
                <a:latin typeface="Arial"/>
              </a:rPr>
              <a:t>występujące błędy rachunkow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spójności wydatków z opisanymi działaniam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poprawna relacja nakład/rezultat</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łędne określanie cross – financingu;</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wystarczające uzasadnienie zakupów w ramach cross-financingu;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uzasadnione wydatk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jednostki miary ujęte w budżecie nie odzwierciedlają wydatków.</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rostokąt 3"/>
          <p:cNvSpPr/>
          <p:nvPr/>
        </p:nvSpPr>
        <p:spPr>
          <a:xfrm>
            <a:off x="1785960" y="1062000"/>
            <a:ext cx="4970520" cy="642600"/>
          </a:xfrm>
          <a:prstGeom prst="rect">
            <a:avLst/>
          </a:prstGeom>
          <a:noFill/>
          <a:ln w="0">
            <a:noFill/>
          </a:ln>
        </p:spPr>
        <p:style>
          <a:lnRef idx="0"/>
          <a:fillRef idx="0"/>
          <a:effectRef idx="0"/>
          <a:fontRef idx="minor"/>
        </p:style>
        <p:txBody>
          <a:bodyPr lIns="90000" rIns="90000" tIns="46800" bIns="46800" anchor="t">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Budżet projek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 </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Arial"/>
              </a:rPr>
              <a:t>Działanie 9.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ryteria horyzontalne:</a:t>
            </a:r>
            <a:r>
              <a:rPr b="1" lang="pl-PL" sz="1600" spc="-1" strike="noStrike">
                <a:solidFill>
                  <a:srgbClr val="000000"/>
                </a:solidFill>
                <a:latin typeface="Arial"/>
              </a:rPr>
              <a:t> </a:t>
            </a:r>
            <a:endParaRPr b="0" lang="en-US" sz="1600" spc="-1" strike="noStrike">
              <a:solidFill>
                <a:srgbClr val="000000"/>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nioski niespełniające standardu minimum; </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nioski sprzeczne z zapisami Szczegółowego Opisu Priorytetów – brak realizacji kształcenia w formach szkolnych;</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ponowane wsparcie zgodne z typem projektu realizowanym w ramach Priorytetu VIII – Poddziałanie 8.1.1 (np. kursy zawodowe), natomiast niezgodne z Działaniem 9.3;</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rawidłowe skierowanie wsparcia do jednostek - nie będących szkołami dla dorosłych, placówkami kształcenia ustawicznego, praktycznego i doskonalenia zawodowego w zakresie ustawicznego kształcenia formalnego;</a:t>
            </a:r>
            <a:endParaRPr b="0" lang="en-US" sz="16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1 Uzasadnienie potrzeby realizacji projektu:</a:t>
            </a: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cele,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e kwestie problemowe; </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recyzyjnie opisane cele szczegółowe projektu, nie korespondujące  z  celem głównym;</a:t>
            </a: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analizy/diagnozy pod kątem równości szans.</a:t>
            </a:r>
            <a:endParaRPr b="0" lang="en-US" sz="16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e </a:t>
            </a:r>
            <a:r>
              <a:rPr b="0" lang="pl-PL" sz="1600" spc="-1" strike="noStrike" u="sng">
                <a:solidFill>
                  <a:srgbClr val="000000"/>
                </a:solidFill>
                <a:uFillTx/>
                <a:latin typeface="Arial"/>
              </a:rPr>
              <a:t>uzasadnienie wyboru grupy docelowej;</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 </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liczebności grup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przeczność grupy docelowej w opisie i  w tabeli 3.2.1.</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stosowania ilości godzin wsparcia do poziomu jego trudn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opisanych działań np.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informacji o zlecaniu zadań wraz z zakresem zlecanych zad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harmonogramie brak informacji o wymiarze etatów/ilości godzin zaangażowanego personel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ziałania nie odpowiadają na nierówności w sytuacji kobiet i mężczyz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84000" y="1197000"/>
            <a:ext cx="8002440" cy="551808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rezultatów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kreślenia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opis sposobu monitorowania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niewystarczający opis, w jaki sposób rezultaty wpłyną na realizację założonych celów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ezultatów w podziale na płeć.</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84000" y="1196640"/>
            <a:ext cx="8102520" cy="530388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kładnego opisu doświadczenia w realizacji podobnych przedsięwzięć wnioskodawcy;</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struktury zarządzania projektem i zakresu obowiązków osób     zaangażowanych w realizację projektu;</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anych dotyczących zaplecza technicznego z planowanymi wydatkami w projekcie;</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roli partnera;</a:t>
            </a:r>
            <a:endParaRPr b="0" lang="en-US" sz="1600" spc="-1" strike="noStrike">
              <a:solidFill>
                <a:srgbClr val="000000"/>
              </a:solidFill>
              <a:latin typeface="Tahoma"/>
            </a:endParaRPr>
          </a:p>
          <a:p>
            <a:pPr lvl="1"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nie przewiduje równościowego sposobu zarządzania projektem.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rostokąt 1"/>
          <p:cNvSpPr/>
          <p:nvPr/>
        </p:nvSpPr>
        <p:spPr>
          <a:xfrm>
            <a:off x="642960" y="1714680"/>
            <a:ext cx="8177040" cy="453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600" spc="-1" strike="noStrike">
                <a:solidFill>
                  <a:srgbClr val="000000"/>
                </a:solidFill>
                <a:latin typeface="Arial"/>
              </a:rPr>
              <a:t>występujące błędy rachunkow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spójności wydatków z opisanymi działaniam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poprawna relacja nakład/rezultat</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łędne określanie cross – financingu;</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wystarczające uzasadnienie zakupów w ramach cross-financingu;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nieuzasadnione wydatki;</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jednostki miary ujęte w budżecie nie odzwierciedlają wydatków.</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rostokąt 3"/>
          <p:cNvSpPr/>
          <p:nvPr/>
        </p:nvSpPr>
        <p:spPr>
          <a:xfrm>
            <a:off x="1785960" y="1062000"/>
            <a:ext cx="4970520" cy="642600"/>
          </a:xfrm>
          <a:prstGeom prst="rect">
            <a:avLst/>
          </a:prstGeom>
          <a:noFill/>
          <a:ln w="0">
            <a:noFill/>
          </a:ln>
        </p:spPr>
        <p:style>
          <a:lnRef idx="0"/>
          <a:fillRef idx="0"/>
          <a:effectRef idx="0"/>
          <a:fontRef idx="minor"/>
        </p:style>
        <p:txBody>
          <a:bodyPr lIns="90000" rIns="90000" tIns="46800" bIns="46800" anchor="t">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Budżet projek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eci w wieku przedszkolnym (3-5 l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rodzice dzieci w wieku przedszkolnym (3-5 l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IX                                                                                                </a:t>
            </a:r>
            <a:r>
              <a:rPr b="1" i="1" lang="pl-PL" sz="2000" spc="-1" strike="noStrike">
                <a:solidFill>
                  <a:srgbClr val="000000"/>
                </a:solidFill>
                <a:latin typeface="Arial"/>
              </a:rPr>
              <a:t>Rozwój wykształcenia i kompetencji w regionach</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ziałanie 9.1.1 </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Arial"/>
              </a:rPr>
              <a:t>Zmniejszanie nierówności w stopniu upowszechnienia edukacji przedszkolnej</a:t>
            </a:r>
            <a:endParaRPr b="0" lang="en-US" sz="20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ahoma"/>
              </a:rPr>
              <a:t> </a:t>
            </a:r>
            <a:endParaRPr b="0" lang="en-US" sz="16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7" dur="500"/>
                                        <p:tgtEl>
                                          <p:spTgt spid="17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74">
                                            <p:txEl>
                                              <p:pRg st="3" end="3"/>
                                            </p:txEl>
                                          </p:spTgt>
                                        </p:tgtEl>
                                        <p:attrNameLst>
                                          <p:attrName>style.visibility</p:attrName>
                                        </p:attrNameLst>
                                      </p:cBhvr>
                                      <p:to>
                                        <p:strVal val="visible"/>
                                      </p:to>
                                    </p:set>
                                    <p:animEffect filter="box(in)" transition="in">
                                      <p:cBhvr additive="repl">
                                        <p:cTn id="12" dur="500"/>
                                        <p:tgtEl>
                                          <p:spTgt spid="174">
                                            <p:txEl>
                                              <p:pRg st="3" end="3"/>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174">
                                            <p:txEl>
                                              <p:pRg st="6" end="6"/>
                                            </p:txEl>
                                          </p:spTgt>
                                        </p:tgtEl>
                                        <p:attrNameLst>
                                          <p:attrName>style.visibility</p:attrName>
                                        </p:attrNameLst>
                                      </p:cBhvr>
                                      <p:to>
                                        <p:strVal val="visible"/>
                                      </p:to>
                                    </p:set>
                                    <p:animEffect filter="box(in)" transition="in">
                                      <p:cBhvr additive="repl">
                                        <p:cTn id="15" dur="500"/>
                                        <p:tgtEl>
                                          <p:spTgt spid="174">
                                            <p:txEl>
                                              <p:pRg st="6" end="6"/>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174">
                                            <p:txEl>
                                              <p:pRg st="8" end="8"/>
                                            </p:txEl>
                                          </p:spTgt>
                                        </p:tgtEl>
                                        <p:attrNameLst>
                                          <p:attrName>style.visibility</p:attrName>
                                        </p:attrNameLst>
                                      </p:cBhvr>
                                      <p:to>
                                        <p:strVal val="visible"/>
                                      </p:to>
                                    </p:set>
                                    <p:animEffect filter="box(in)" transition="in">
                                      <p:cBhvr additive="repl">
                                        <p:cTn id="18" dur="5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rostokąt 3"/>
          <p:cNvSpPr/>
          <p:nvPr/>
        </p:nvSpPr>
        <p:spPr>
          <a:xfrm>
            <a:off x="1000080" y="1357200"/>
            <a:ext cx="7572600" cy="5679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r>
              <a:rPr b="0" lang="pl-PL" sz="1400" spc="-1" strike="noStrike">
                <a:solidFill>
                  <a:srgbClr val="000000"/>
                </a:solidFill>
                <a:latin typeface="Arial"/>
              </a:rPr>
              <a:t>Ośrodek przedszkolny w gminie Dobra szansą na zmniejszenie nierówności w upowszechnianiu edukacj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Urząd Miejski w Dobrej</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01.08.2008 – 31.12.200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ększenie dostępu do edukacji przedszkolnej i wyrównanie szans edukacyjnych poprzez utworzenie ośrodka przedszkolnego w Gminie Dobr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GRUPA DOCELOWA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6 dzieci z rodzin dysfunkcyjnych (rodzin dotkniętych alkoholizmem, ubóstwem, bezrobociem)</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1">
                                  <p:stCondLst>
                                    <p:cond delay="0"/>
                                  </p:stCondLst>
                                  <p:childTnLst>
                                    <p:set>
                                      <p:cBhvr>
                                        <p:cTn id="24" dur="1" fill="hold">
                                          <p:stCondLst>
                                            <p:cond delay="0"/>
                                          </p:stCondLst>
                                        </p:cTn>
                                        <p:tgtEl>
                                          <p:spTgt spid="175">
                                            <p:txEl>
                                              <p:pRg st="3" end="3"/>
                                            </p:txEl>
                                          </p:spTgt>
                                        </p:tgtEl>
                                        <p:attrNameLst>
                                          <p:attrName>style.visibility</p:attrName>
                                        </p:attrNameLst>
                                      </p:cBhvr>
                                      <p:to>
                                        <p:strVal val="visible"/>
                                      </p:to>
                                    </p:set>
                                    <p:anim calcmode="lin" valueType="num">
                                      <p:cBhvr additive="base">
                                        <p:cTn id="25"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7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5">
                                            <p:txEl>
                                              <p:pRg st="5" end="5"/>
                                            </p:txEl>
                                          </p:spTgt>
                                        </p:tgtEl>
                                        <p:attrNameLst>
                                          <p:attrName>style.visibility</p:attrName>
                                        </p:attrNameLst>
                                      </p:cBhvr>
                                      <p:to>
                                        <p:strVal val="visible"/>
                                      </p:to>
                                    </p:set>
                                    <p:anim calcmode="lin" valueType="num">
                                      <p:cBhvr additive="base">
                                        <p:cTn id="31"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5">
                                            <p:txEl>
                                              <p:pRg st="7" end="7"/>
                                            </p:txEl>
                                          </p:spTgt>
                                        </p:tgtEl>
                                        <p:attrNameLst>
                                          <p:attrName>style.visibility</p:attrName>
                                        </p:attrNameLst>
                                      </p:cBhvr>
                                      <p:to>
                                        <p:strVal val="visible"/>
                                      </p:to>
                                    </p:set>
                                    <p:anim calcmode="lin" valueType="num">
                                      <p:cBhvr additive="base">
                                        <p:cTn id="37"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7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rostokąt 3"/>
          <p:cNvSpPr/>
          <p:nvPr/>
        </p:nvSpPr>
        <p:spPr>
          <a:xfrm>
            <a:off x="214200" y="1357200"/>
            <a:ext cx="8358480" cy="73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ajęcia dydaktyczne realizowane według podstawy programowej, której celem jest wspomaganie i ukierunkowywanie rozwoju dziecka zgodnie z jego wrodzonym potencjałem </a:t>
            </a:r>
            <a:br>
              <a:rPr sz="1400"/>
            </a:br>
            <a:r>
              <a:rPr b="0" lang="pl-PL" sz="1400" spc="-1" strike="noStrike">
                <a:solidFill>
                  <a:srgbClr val="000000"/>
                </a:solidFill>
                <a:latin typeface="Arial"/>
              </a:rPr>
              <a:t>i możliwościami rozwojowymi w relacjach ze środowiskiem, społeczno – kulturowym </a:t>
            </a:r>
            <a:br>
              <a:rPr sz="1400"/>
            </a:br>
            <a:r>
              <a:rPr b="0" lang="pl-PL" sz="1400" spc="-1" strike="noStrike">
                <a:solidFill>
                  <a:srgbClr val="000000"/>
                </a:solidFill>
                <a:latin typeface="Arial"/>
              </a:rPr>
              <a:t>i przyrodniczym (poznawanie i rozumienie siebie i świata, nabywanie umiejętności poprzez działania, odnajdywanie swojego miejsca w grupie rówieśniczej, wspólnocie, budowanie systemu wartości).</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Gry i zabawy ruchowe (zarówno w ośrodku przedszkolnym jak i na świeżym powietrzu) – poprzez zabawy wyrabiamy właściwą koordynację ruchową, zapewniamy właściwy rozwój fizyczny, rozwijamy siłę, szybkość, wytrzymałość, zwinność, zręczność i gibkość.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5" dur="500"/>
                                        <p:tgtEl>
                                          <p:spTgt spid="176">
                                            <p:txEl>
                                              <p:pRg st="1" end="1"/>
                                            </p:txEl>
                                          </p:spTgt>
                                        </p:tgtEl>
                                      </p:cBhvr>
                                    </p:animEffect>
                                  </p:childTnLst>
                                </p:cTn>
                              </p:par>
                              <p:par>
                                <p:cTn id="46" nodeType="withEffect" fill="hold" presetClass="entr" presetID="4" presetSubtype="16">
                                  <p:stCondLst>
                                    <p:cond delay="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par>
                                <p:cTn id="49" nodeType="withEffect" fill="hold" presetClass="entr" presetID="4" presetSubtype="16">
                                  <p:stCondLst>
                                    <p:cond delay="0"/>
                                  </p:stCondLst>
                                  <p:childTnLst>
                                    <p:set>
                                      <p:cBhvr>
                                        <p:cTn id="50" dur="1" fill="hold">
                                          <p:stCondLst>
                                            <p:cond delay="0"/>
                                          </p:stCondLst>
                                        </p:cTn>
                                        <p:tgtEl>
                                          <p:spTgt spid="176">
                                            <p:txEl>
                                              <p:pRg st="5" end="5"/>
                                            </p:txEl>
                                          </p:spTgt>
                                        </p:tgtEl>
                                        <p:attrNameLst>
                                          <p:attrName>style.visibility</p:attrName>
                                        </p:attrNameLst>
                                      </p:cBhvr>
                                      <p:to>
                                        <p:strVal val="visible"/>
                                      </p:to>
                                    </p:set>
                                    <p:animEffect filter="box(in)" transition="in">
                                      <p:cBhvr additive="repl">
                                        <p:cTn id="51"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rostokąt 3"/>
          <p:cNvSpPr/>
          <p:nvPr/>
        </p:nvSpPr>
        <p:spPr>
          <a:xfrm>
            <a:off x="571680" y="1143000"/>
            <a:ext cx="8001000" cy="82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jęcia dodatkow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rytmika, która jest metodą umuzykalnienia, ma wszechstronne cele wychowawcze, kształci intensywność i podzielność uwagi, sprawne spostrzeganie i pamięć;</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zajęcia z logopedą, których celem jest czuwanie nad prawidłowym rozwojem wymowy, stymulowanie procesów kompetencji i sprawności warunkujących prawidłowy przebieg komunikacji językowej, zapobieganie dysharmoniom rozwojowym, prowadzenie ćwiczeń kształtujących prawidłową mowę;</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nauka języka angielskiego, prowadzi do podwyższenia inteligencji dzieck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gimnastyka profilaktyczno korekcyjna, której celem jest profilaktyka wad postawy oraz likwidowanie wad już istniejących lub zahamowanie ich dalszego rozwoju. Jest niezbędna w wieku przedszkolnym, kiedy kształtuje się sylwetka dzieck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warsztaty plastyczne i mały teatrzyk są doskonałą szansą rozwoju wrażliwości artystycznej, odnalezienia własnych talentów, pobudzenia inwencji i ekspresji twórczej oraz rozwoju wyobraźni </a:t>
            </a:r>
            <a:br>
              <a:rPr sz="1400"/>
            </a:br>
            <a:r>
              <a:rPr b="0" lang="pl-PL" sz="1400" spc="-1" strike="noStrike">
                <a:solidFill>
                  <a:srgbClr val="000000"/>
                </a:solidFill>
                <a:latin typeface="Arial"/>
              </a:rPr>
              <a:t>i kreatywnego myślen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77">
                                            <p:txEl>
                                              <p:pRg st="1" end="1"/>
                                            </p:txEl>
                                          </p:spTgt>
                                        </p:tgtEl>
                                        <p:attrNameLst>
                                          <p:attrName>style.visibility</p:attrName>
                                        </p:attrNameLst>
                                      </p:cBhvr>
                                      <p:to>
                                        <p:strVal val="visible"/>
                                      </p:to>
                                    </p:set>
                                    <p:animEffect filter="box(in)" transition="in">
                                      <p:cBhvr additive="repl">
                                        <p:cTn id="58" dur="500"/>
                                        <p:tgtEl>
                                          <p:spTgt spid="177">
                                            <p:txEl>
                                              <p:pRg st="1" end="1"/>
                                            </p:txEl>
                                          </p:spTgt>
                                        </p:tgtEl>
                                      </p:cBhvr>
                                    </p:animEffect>
                                  </p:childTnLst>
                                </p:cTn>
                              </p:par>
                              <p:par>
                                <p:cTn id="59" nodeType="withEffect" fill="hold" presetClass="entr" presetID="4" presetSubtype="16">
                                  <p:stCondLst>
                                    <p:cond delay="0"/>
                                  </p:stCondLst>
                                  <p:childTnLst>
                                    <p:set>
                                      <p:cBhvr>
                                        <p:cTn id="60" dur="1" fill="hold">
                                          <p:stCondLst>
                                            <p:cond delay="0"/>
                                          </p:stCondLst>
                                        </p:cTn>
                                        <p:tgtEl>
                                          <p:spTgt spid="177">
                                            <p:txEl>
                                              <p:pRg st="3" end="3"/>
                                            </p:txEl>
                                          </p:spTgt>
                                        </p:tgtEl>
                                        <p:attrNameLst>
                                          <p:attrName>style.visibility</p:attrName>
                                        </p:attrNameLst>
                                      </p:cBhvr>
                                      <p:to>
                                        <p:strVal val="visible"/>
                                      </p:to>
                                    </p:set>
                                    <p:animEffect filter="box(in)" transition="in">
                                      <p:cBhvr additive="repl">
                                        <p:cTn id="61" dur="500"/>
                                        <p:tgtEl>
                                          <p:spTgt spid="177">
                                            <p:txEl>
                                              <p:pRg st="3" end="3"/>
                                            </p:txEl>
                                          </p:spTgt>
                                        </p:tgtEl>
                                      </p:cBhvr>
                                    </p:animEffect>
                                  </p:childTnLst>
                                </p:cTn>
                              </p:par>
                              <p:par>
                                <p:cTn id="62" nodeType="withEffect" fill="hold" presetClass="entr" presetID="4" presetSubtype="16">
                                  <p:stCondLst>
                                    <p:cond delay="0"/>
                                  </p:stCondLst>
                                  <p:childTnLst>
                                    <p:set>
                                      <p:cBhvr>
                                        <p:cTn id="63" dur="1" fill="hold">
                                          <p:stCondLst>
                                            <p:cond delay="0"/>
                                          </p:stCondLst>
                                        </p:cTn>
                                        <p:tgtEl>
                                          <p:spTgt spid="177">
                                            <p:txEl>
                                              <p:pRg st="4" end="4"/>
                                            </p:txEl>
                                          </p:spTgt>
                                        </p:tgtEl>
                                        <p:attrNameLst>
                                          <p:attrName>style.visibility</p:attrName>
                                        </p:attrNameLst>
                                      </p:cBhvr>
                                      <p:to>
                                        <p:strVal val="visible"/>
                                      </p:to>
                                    </p:set>
                                    <p:animEffect filter="box(in)" transition="in">
                                      <p:cBhvr additive="repl">
                                        <p:cTn id="64" dur="500"/>
                                        <p:tgtEl>
                                          <p:spTgt spid="177">
                                            <p:txEl>
                                              <p:pRg st="4" end="4"/>
                                            </p:txEl>
                                          </p:spTgt>
                                        </p:tgtEl>
                                      </p:cBhvr>
                                    </p:animEffect>
                                  </p:childTnLst>
                                </p:cTn>
                              </p:par>
                              <p:par>
                                <p:cTn id="65" nodeType="withEffect" fill="hold" presetClass="entr" presetID="4" presetSubtype="16">
                                  <p:stCondLst>
                                    <p:cond delay="0"/>
                                  </p:stCondLst>
                                  <p:childTnLst>
                                    <p:set>
                                      <p:cBhvr>
                                        <p:cTn id="66" dur="1" fill="hold">
                                          <p:stCondLst>
                                            <p:cond delay="0"/>
                                          </p:stCondLst>
                                        </p:cTn>
                                        <p:tgtEl>
                                          <p:spTgt spid="177">
                                            <p:txEl>
                                              <p:pRg st="5" end="5"/>
                                            </p:txEl>
                                          </p:spTgt>
                                        </p:tgtEl>
                                        <p:attrNameLst>
                                          <p:attrName>style.visibility</p:attrName>
                                        </p:attrNameLst>
                                      </p:cBhvr>
                                      <p:to>
                                        <p:strVal val="visible"/>
                                      </p:to>
                                    </p:set>
                                    <p:animEffect filter="box(in)" transition="in">
                                      <p:cBhvr additive="repl">
                                        <p:cTn id="67" dur="500"/>
                                        <p:tgtEl>
                                          <p:spTgt spid="177">
                                            <p:txEl>
                                              <p:pRg st="5" end="5"/>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177">
                                            <p:txEl>
                                              <p:pRg st="6" end="6"/>
                                            </p:txEl>
                                          </p:spTgt>
                                        </p:tgtEl>
                                        <p:attrNameLst>
                                          <p:attrName>style.visibility</p:attrName>
                                        </p:attrNameLst>
                                      </p:cBhvr>
                                      <p:to>
                                        <p:strVal val="visible"/>
                                      </p:to>
                                    </p:set>
                                    <p:animEffect filter="box(in)" transition="in">
                                      <p:cBhvr additive="repl">
                                        <p:cTn id="70" dur="500"/>
                                        <p:tgtEl>
                                          <p:spTgt spid="177">
                                            <p:txEl>
                                              <p:pRg st="6" end="6"/>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177">
                                            <p:txEl>
                                              <p:pRg st="7" end="7"/>
                                            </p:txEl>
                                          </p:spTgt>
                                        </p:tgtEl>
                                        <p:attrNameLst>
                                          <p:attrName>style.visibility</p:attrName>
                                        </p:attrNameLst>
                                      </p:cBhvr>
                                      <p:to>
                                        <p:strVal val="visible"/>
                                      </p:to>
                                    </p:set>
                                    <p:animEffect filter="box(in)" transition="in">
                                      <p:cBhvr additive="repl">
                                        <p:cTn id="73" dur="500"/>
                                        <p:tgtEl>
                                          <p:spTgt spid="177">
                                            <p:txEl>
                                              <p:pRg st="7" end="7"/>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77">
                                            <p:txEl>
                                              <p:pRg st="8" end="8"/>
                                            </p:txEl>
                                          </p:spTgt>
                                        </p:tgtEl>
                                        <p:attrNameLst>
                                          <p:attrName>style.visibility</p:attrName>
                                        </p:attrNameLst>
                                      </p:cBhvr>
                                      <p:to>
                                        <p:strVal val="visible"/>
                                      </p:to>
                                    </p:set>
                                    <p:animEffect filter="box(in)" transition="in">
                                      <p:cBhvr additive="repl">
                                        <p:cTn id="76" dur="500"/>
                                        <p:tgtEl>
                                          <p:spTgt spid="1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IX                                                                                                </a:t>
            </a:r>
            <a:r>
              <a:rPr b="1" i="1" lang="pl-PL" sz="2000" spc="-1" strike="noStrike">
                <a:solidFill>
                  <a:srgbClr val="000000"/>
                </a:solidFill>
                <a:latin typeface="Arial"/>
              </a:rPr>
              <a:t>Rozwój wykształcenia i kompetencji w regionach</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ziałanie 9.3 </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Arial"/>
              </a:rPr>
              <a:t>Upowszechnienie formalnego kształcenia ustawicznego </a:t>
            </a:r>
            <a:br>
              <a:rPr sz="2000"/>
            </a:br>
            <a:r>
              <a:rPr b="1" i="1" lang="pl-PL" sz="2000" spc="-1" strike="noStrike">
                <a:solidFill>
                  <a:srgbClr val="000000"/>
                </a:solidFill>
                <a:latin typeface="Arial"/>
              </a:rPr>
              <a:t>w formach szkolnych</a:t>
            </a:r>
            <a:endParaRPr b="0" lang="en-US" sz="20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ahoma"/>
              </a:rPr>
              <a:t> </a:t>
            </a:r>
            <a:endParaRPr b="0" lang="en-US" sz="16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83" dur="500"/>
                                        <p:tgtEl>
                                          <p:spTgt spid="17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78">
                                            <p:txEl>
                                              <p:pRg st="3" end="3"/>
                                            </p:txEl>
                                          </p:spTgt>
                                        </p:tgtEl>
                                        <p:attrNameLst>
                                          <p:attrName>style.visibility</p:attrName>
                                        </p:attrNameLst>
                                      </p:cBhvr>
                                      <p:to>
                                        <p:strVal val="visible"/>
                                      </p:to>
                                    </p:set>
                                    <p:animEffect filter="box(in)" transition="in">
                                      <p:cBhvr additive="repl">
                                        <p:cTn id="88" dur="500"/>
                                        <p:tgtEl>
                                          <p:spTgt spid="178">
                                            <p:txEl>
                                              <p:pRg st="3" end="3"/>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78">
                                            <p:txEl>
                                              <p:pRg st="6" end="6"/>
                                            </p:txEl>
                                          </p:spTgt>
                                        </p:tgtEl>
                                        <p:attrNameLst>
                                          <p:attrName>style.visibility</p:attrName>
                                        </p:attrNameLst>
                                      </p:cBhvr>
                                      <p:to>
                                        <p:strVal val="visible"/>
                                      </p:to>
                                    </p:set>
                                    <p:animEffect filter="box(in)" transition="in">
                                      <p:cBhvr additive="repl">
                                        <p:cTn id="91" dur="500"/>
                                        <p:tgtEl>
                                          <p:spTgt spid="178">
                                            <p:txEl>
                                              <p:pRg st="6" end="6"/>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78">
                                            <p:txEl>
                                              <p:pRg st="8" end="8"/>
                                            </p:txEl>
                                          </p:spTgt>
                                        </p:tgtEl>
                                        <p:attrNameLst>
                                          <p:attrName>style.visibility</p:attrName>
                                        </p:attrNameLst>
                                      </p:cBhvr>
                                      <p:to>
                                        <p:strVal val="visible"/>
                                      </p:to>
                                    </p:set>
                                    <p:animEffect filter="box(in)" transition="in">
                                      <p:cBhvr additive="repl">
                                        <p:cTn id="94" dur="500"/>
                                        <p:tgtEl>
                                          <p:spTgt spid="1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285920"/>
            <a:ext cx="8229600" cy="2790720"/>
          </a:xfrm>
          <a:prstGeom prst="rect">
            <a:avLst/>
          </a:prstGeom>
          <a:noFill/>
          <a:ln w="0">
            <a:noFill/>
          </a:ln>
        </p:spPr>
        <p:txBody>
          <a:bodyPr anchor="t">
            <a:normAutofit fontScale="74000"/>
          </a:bodyPr>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skazanie, jakie projekty mogą być realizowane w ramach Działania 9.3:</a:t>
            </a:r>
            <a:endParaRPr b="0" lang="en-US" sz="1400" spc="-1" strike="noStrike">
              <a:solidFill>
                <a:srgbClr val="000000"/>
              </a:solidFill>
              <a:latin typeface="Tahoma"/>
            </a:endParaRPr>
          </a:p>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egzaminy eksternistyczne</a:t>
            </a:r>
            <a:r>
              <a:rPr b="0" lang="pl-PL" sz="1400" spc="-1" strike="noStrike">
                <a:solidFill>
                  <a:srgbClr val="000000"/>
                </a:solidFill>
                <a:latin typeface="Arial"/>
                <a:ea typeface="Arial"/>
              </a:rPr>
              <a:t> (sprawdzian po szkole podstawowej, egzamin po gimnazjum, egzamin maturalny);</a:t>
            </a:r>
            <a:endParaRPr b="0" lang="en-US" sz="1400" spc="-1" strike="noStrike">
              <a:solidFill>
                <a:srgbClr val="000000"/>
              </a:solidFill>
              <a:latin typeface="Tahoma"/>
            </a:endParaRPr>
          </a:p>
          <a:p>
            <a:pPr marL="253800" indent="-2538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egzaminy kwalifikacyjne</a:t>
            </a:r>
            <a:r>
              <a:rPr b="0" lang="pl-PL" sz="1400" spc="-1" strike="noStrike">
                <a:solidFill>
                  <a:srgbClr val="000000"/>
                </a:solidFill>
                <a:latin typeface="Arial"/>
                <a:ea typeface="Arial"/>
              </a:rPr>
              <a:t> na tytuł zawodowy lub egzaminy kwalifikacyjne na tytuł mistrza;</a:t>
            </a:r>
            <a:endParaRPr b="0" lang="en-US" sz="1400" spc="-1" strike="noStrike">
              <a:solidFill>
                <a:srgbClr val="000000"/>
              </a:solidFill>
              <a:latin typeface="Tahoma"/>
            </a:endParaRPr>
          </a:p>
          <a:p>
            <a:pPr marL="253800" indent="-2538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kampanie informacyjne </a:t>
            </a:r>
            <a:r>
              <a:rPr b="0" lang="pl-PL" sz="1400" spc="-1" strike="noStrike">
                <a:solidFill>
                  <a:srgbClr val="000000"/>
                </a:solidFill>
                <a:latin typeface="Arial"/>
                <a:ea typeface="Arial"/>
              </a:rPr>
              <a:t>w zakresie formalnego kształcenia ustawicznego połączone z usługami doradczymi dla osób dorosłych w zakresie wyboru kierunku i formy kształcenia formalnego w nawiązaniu do potrzeb lokalnego rynku pracy;</a:t>
            </a:r>
            <a:endParaRPr b="0" lang="en-US" sz="1400" spc="-1" strike="noStrike">
              <a:solidFill>
                <a:srgbClr val="000000"/>
              </a:solidFill>
              <a:latin typeface="Tahoma"/>
            </a:endParaRPr>
          </a:p>
          <a:p>
            <a:pPr marL="253800" indent="-2538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zakładające kształcenie </a:t>
            </a:r>
            <a:r>
              <a:rPr b="0" lang="pl-PL" sz="1400" spc="-1" strike="noStrike">
                <a:solidFill>
                  <a:srgbClr val="000000"/>
                </a:solidFill>
                <a:latin typeface="Arial"/>
                <a:ea typeface="Arial"/>
              </a:rPr>
              <a:t>w formach szkolnych osób dorosłych.</a:t>
            </a:r>
            <a:endParaRPr b="0" lang="en-US" sz="1400" spc="-1" strike="noStrike">
              <a:solidFill>
                <a:srgbClr val="000000"/>
              </a:solidFill>
              <a:latin typeface="Tahoma"/>
            </a:endParaRPr>
          </a:p>
          <a:p>
            <a:pPr marL="253800" indent="-253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81"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83"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84"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87"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Maksymalny okres realizacji projektu: </a:t>
            </a:r>
            <a:r>
              <a:rPr b="0" lang="pl-PL" sz="1400" spc="-1" strike="noStrike">
                <a:solidFill>
                  <a:srgbClr val="000000"/>
                </a:solidFill>
                <a:latin typeface="Arial"/>
                <a:ea typeface="Arial"/>
              </a:rPr>
              <a:t>do 31 grudnia 2011 r.</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1 roku, </a:t>
            </a:r>
            <a:br>
              <a:rPr sz="1400"/>
            </a:br>
            <a:r>
              <a:rPr b="0" lang="pl-PL" sz="1400" spc="-1" strike="noStrike">
                <a:solidFill>
                  <a:srgbClr val="000000"/>
                </a:solidFill>
                <a:latin typeface="Arial"/>
              </a:rPr>
              <a:t>w punkcie. 1.8 wniosku należy więc wskazać właściwy okres realizacji.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ea typeface="Arial"/>
              </a:rPr>
              <a:t>Maksymalna kwota przeznaczona na jedną nowopowstałą placówkę: 300 tys. zł.</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Spełnienie kryterium pozwoli na powstanie większej liczby ośrodków wychowania przedszkolnego.</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4-22T08:05:20Z</dcterms:modified>
  <cp:revision>547</cp:revision>
  <dc:subject/>
  <dc:title>Slajd 1</dc:title>
</cp:coreProperties>
</file>