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8.xml.rels" ContentType="application/vnd.openxmlformats-package.relationships+xml"/>
  <Override PartName="/ppt/notesSlides/_rels/notesSlide66.xml.rels" ContentType="application/vnd.openxmlformats-package.relationships+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23EE9-D23D-448E-8B8A-B90A5125516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D32FA-B824-4E0B-88F0-C74EB6657C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1D19A-1F48-4291-9CC1-36B2F48003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hyperlink" Target="http://www.undp.org.pl/pl/index.php" TargetMode="External"/><Relationship Id="rId5" Type="http://schemas.openxmlformats.org/officeDocument/2006/relationships/hyperlink" Target="http://bezuprzedzen.org/" TargetMode="Externa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39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9.2/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21 maja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8400" y="1193760"/>
            <a:ext cx="8189640" cy="5664240"/>
          </a:xfrm>
          <a:prstGeom prst="rect">
            <a:avLst/>
          </a:prstGeom>
          <a:noFill/>
          <a:ln w="0">
            <a:noFill/>
          </a:ln>
        </p:spPr>
        <p:txBody>
          <a:bodyPr anchor="t">
            <a:normAutofit fontScale="84000"/>
          </a:bodyPr>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do 31 grudnia 2011 r.</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wynosi od dnia złożenia wniosku do  31 grudnia 2011 r. W pkt 1.8 należy więc wskazać właściwy okres realizacji projektu.</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a wartość projektu wynosi 200 tysięcy złotych.</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olu 3.1 </a:t>
            </a:r>
            <a:r>
              <a:rPr b="0" i="1" lang="pl-PL" sz="1400" spc="-1" strike="noStrike">
                <a:solidFill>
                  <a:srgbClr val="000000"/>
                </a:solidFill>
                <a:latin typeface="Arial"/>
              </a:rPr>
              <a:t>koszty ogółem </a:t>
            </a:r>
            <a:r>
              <a:rPr b="0" lang="pl-PL" sz="1400" spc="-1" strike="noStrike">
                <a:solidFill>
                  <a:srgbClr val="000000"/>
                </a:solidFill>
                <a:latin typeface="Arial"/>
              </a:rPr>
              <a:t>w części IV</a:t>
            </a:r>
            <a:r>
              <a:rPr b="0" i="1" lang="pl-PL" sz="1400" spc="-1" strike="noStrike">
                <a:solidFill>
                  <a:srgbClr val="000000"/>
                </a:solidFill>
                <a:latin typeface="Arial"/>
              </a:rPr>
              <a:t> budżet projektu </a:t>
            </a:r>
            <a:r>
              <a:rPr b="0" lang="pl-PL" sz="1400" spc="-1" strike="noStrike">
                <a:solidFill>
                  <a:srgbClr val="000000"/>
                </a:solidFill>
                <a:latin typeface="Arial"/>
              </a:rPr>
              <a:t>musi znaleźć się kwota nie mniejsza niż </a:t>
            </a:r>
            <a:br>
              <a:rPr sz="1400"/>
            </a:br>
            <a:r>
              <a:rPr b="0" lang="pl-PL" sz="1400" spc="-1" strike="noStrike">
                <a:solidFill>
                  <a:srgbClr val="000000"/>
                </a:solidFill>
                <a:latin typeface="Arial"/>
              </a:rPr>
              <a:t>200 tysięcy zł.</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a:t>
            </a:r>
            <a:r>
              <a:rPr b="0" lang="pl-PL" sz="1400" spc="-1" strike="noStrike">
                <a:solidFill>
                  <a:srgbClr val="000000"/>
                </a:solidFill>
                <a:latin typeface="Arial"/>
              </a:rPr>
              <a:t>	</a:t>
            </a:r>
            <a:r>
              <a:rPr b="0" lang="pl-PL" sz="1400" spc="-1" strike="noStrike">
                <a:solidFill>
                  <a:srgbClr val="000000"/>
                </a:solidFill>
                <a:latin typeface="Arial"/>
              </a:rPr>
              <a:t>Grupę docelową w projekcie stanowią osoby uczące się lub mające miejsce zamieszkania </a:t>
            </a:r>
            <a:br>
              <a:rPr sz="1400"/>
            </a:br>
            <a:r>
              <a:rPr b="0" lang="pl-PL" sz="1400" spc="-1" strike="noStrike">
                <a:solidFill>
                  <a:srgbClr val="000000"/>
                </a:solidFill>
                <a:latin typeface="Arial"/>
              </a:rPr>
              <a:t>na terenie województwa zachodniopomorskiego w rozumieniu Kodeksu Cywilnego lub szkoły </a:t>
            </a:r>
            <a:br>
              <a:rPr sz="1400"/>
            </a:br>
            <a:r>
              <a:rPr b="0" lang="pl-PL" sz="1400" spc="-1" strike="noStrike">
                <a:solidFill>
                  <a:srgbClr val="000000"/>
                </a:solidFill>
                <a:latin typeface="Arial"/>
              </a:rPr>
              <a:t>i placówki realizujące kształcenie zawodowe zlokalizowane na terenie województwa zachodniopomorskiego bądź partnerzy społeczno – gospodarczy i pracodawcy mający swoją siedzibę lub filię na terenie województwa zachodniopomorski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r>
              <a:rPr b="0" lang="pl-PL" sz="1400" spc="-1" strike="noStrike">
                <a:solidFill>
                  <a:srgbClr val="000000"/>
                </a:solidFill>
                <a:latin typeface="Arial"/>
              </a:rPr>
              <a:t> </a:t>
            </a:r>
            <a:r>
              <a:rPr b="0" lang="pl-PL" sz="1400" spc="-1" strike="noStrike">
                <a:solidFill>
                  <a:srgbClr val="000000"/>
                </a:solidFill>
                <a:latin typeface="Arial"/>
              </a:rPr>
              <a:t>W punkcie 3.2 wniosku należy opisać grupę docelową stanowiącą osoby uczące się lub mające miejsce zamieszkania na terenie województwa zachodniopomorskiego w rozumieniu Kodeksu Cywilnego lub szkoły i placówki realizujące kształcenie zawodowe zlokalizowane na terenie województwa zachodniopomorskiego bądź partnerów społeczno – gospodarczych i pracodawców mający swoją siedzibę lub filię na terenie województwa zachodniopomorski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a:t>
            </a:r>
            <a:r>
              <a:rPr b="0" lang="pl-PL" sz="1400" spc="-1" strike="noStrike">
                <a:solidFill>
                  <a:srgbClr val="000000"/>
                </a:solidFill>
                <a:latin typeface="Arial"/>
              </a:rPr>
              <a:t>	</a:t>
            </a: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3.5 wniosku projektodawca musi jasno zadeklarować, że w okresie realizacji projektu           będzie prowadził biuro na terenie województwa zachodniopomorskiego, w którym będzie dostępna pełna dokumentacja projektu (również po jego zakończeniu) oraz gdzie będzie pracował kluczowy personel realizujący projek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osiada siedzibę na terenie województwa zachodniopomorskiego (wskazaną </a:t>
            </a:r>
            <a:br>
              <a:rPr sz="1400"/>
            </a:br>
            <a:r>
              <a:rPr b="0" lang="pl-PL" sz="1400" spc="-1" strike="noStrike">
                <a:solidFill>
                  <a:srgbClr val="000000"/>
                </a:solidFill>
                <a:latin typeface="Arial"/>
              </a:rPr>
              <a:t> w punkcie 2.5 wniosku) to jest to wystarczające dla spełnienia kryterium.</a:t>
            </a:r>
            <a:endParaRPr b="0" lang="en-US" sz="1400" spc="-1" strike="noStrike">
              <a:solidFill>
                <a:srgbClr val="000000"/>
              </a:solidFill>
              <a:latin typeface="Tahom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68360" y="571320"/>
            <a:ext cx="8190000" cy="6072120"/>
          </a:xfrm>
          <a:prstGeom prst="rect">
            <a:avLst/>
          </a:prstGeom>
          <a:noFill/>
          <a:ln w="0">
            <a:noFill/>
          </a:ln>
        </p:spPr>
        <p:txBody>
          <a:bodyPr anchor="t">
            <a:normAutofit fontScale="87000"/>
          </a:bodyPr>
          <a:p>
            <a:pPr marL="298440" indent="-298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8440" indent="-298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5. </a:t>
            </a:r>
            <a:r>
              <a:rPr b="0" lang="pl-PL" sz="1400" spc="-1" strike="noStrike">
                <a:solidFill>
                  <a:srgbClr val="000000"/>
                </a:solidFill>
                <a:latin typeface="Arial"/>
              </a:rPr>
              <a:t>	</a:t>
            </a:r>
            <a:r>
              <a:rPr b="0" lang="pl-PL" sz="1400" spc="-1" strike="noStrike">
                <a:solidFill>
                  <a:srgbClr val="000000"/>
                </a:solidFill>
                <a:latin typeface="Arial"/>
              </a:rPr>
              <a:t>Projektodawcą jest jeden z następujących podmiotów: </a:t>
            </a: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zkoła, placówka oświatowa (instytucje, kadra) i ich organ prowadzący, realizujące kształcenie zawodowe (z wyłączeniem szkół dla dorosłych), </a:t>
            </a: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rganizacja pozarządowa prowadząca działalność statutową w zakresie edukacji w partnerstwie z organem prowadzącym szkołę lub placówkę oświatową.</a:t>
            </a: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projektodawcą jest szkoła, placówka oświatowa, w punkcie 2.1 wniosku, należy zapisać nazwę organu prowadzącego oraz nazwę projektodawcy np. Gmina Miasto Szczecin / Szkoła Podstawowa Nr 1 w Szczecinie; w punkcie 2.2 wniosku należy zapisać status prawny projektodawcy (placówki oświatowej, szkoły).</a:t>
            </a: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projektodawcą jest organizacja pozarządowa prowadząca działalność statutową w zakresie edukacji w punkcie 2.1 i 2.2 należy zapisać  informacje dotyczące danej organizacji, natomiast w punkcie 2.8 należy podać dane partnera tzn. organu prowadzącego szkołę lub placówkę oświatową.</a:t>
            </a: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rganizacja pozarządowa prowadząca działalność statutową w zakresie edukacji zobowiązana jest realizować projekt w partnerstwie z organem prowadzącym szkołę lub placówkę oświatową.</a:t>
            </a: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ą jest organizacja pozarządowa to w punkcie 3.5 wniosku należy wskazać, że prowadzi ona działalność statutową w zakresie edukacji.</a:t>
            </a: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projektodawcą jest organ prowadzący w punkcie 2.1 i 2.2 należy wpisać dane dotyczące danej jednostki.</a:t>
            </a:r>
            <a:endParaRPr b="0" lang="en-US" sz="1400" spc="-1" strike="noStrike">
              <a:solidFill>
                <a:srgbClr val="000000"/>
              </a:solidFill>
              <a:latin typeface="Tahoma"/>
            </a:endParaRPr>
          </a:p>
          <a:p>
            <a:pPr marL="298440" indent="-29844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68360" y="571320"/>
            <a:ext cx="8190000" cy="6072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6.</a:t>
            </a:r>
            <a:r>
              <a:rPr b="0" lang="pl-PL" sz="1400" spc="-1" strike="noStrike">
                <a:solidFill>
                  <a:srgbClr val="000000"/>
                </a:solidFill>
                <a:latin typeface="Arial"/>
                <a:ea typeface="Arial"/>
              </a:rPr>
              <a:t>	</a:t>
            </a:r>
            <a:r>
              <a:rPr b="0" lang="pl-PL" sz="1400" spc="-1" strike="noStrike">
                <a:solidFill>
                  <a:srgbClr val="000000"/>
                </a:solidFill>
                <a:latin typeface="Arial"/>
              </a:rPr>
              <a:t>Projektodawca wnosi  wkład własny  w wysokości 12% wartości projektu w postaci środków pochodzących z budżetu jednostki samorządu terytorialn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olu IV Budżet projektu w pkt 4.3 </a:t>
            </a:r>
            <a:r>
              <a:rPr b="0" i="1" lang="pl-PL" sz="1400" spc="-1" strike="noStrike">
                <a:solidFill>
                  <a:srgbClr val="000000"/>
                </a:solidFill>
                <a:latin typeface="Arial"/>
              </a:rPr>
              <a:t>wkład własny </a:t>
            </a:r>
            <a:r>
              <a:rPr b="0" lang="pl-PL" sz="1400" spc="-1" strike="noStrike">
                <a:solidFill>
                  <a:srgbClr val="000000"/>
                </a:solidFill>
                <a:latin typeface="Arial"/>
              </a:rPr>
              <a:t>należy wpisać kwotę odpowiadającą 12% kosztów</a:t>
            </a:r>
            <a:r>
              <a:rPr b="0" i="1" lang="pl-PL" sz="1400" spc="-1" strike="noStrike">
                <a:solidFill>
                  <a:srgbClr val="000000"/>
                </a:solidFill>
                <a:latin typeface="Arial"/>
              </a:rPr>
              <a:t> </a:t>
            </a:r>
            <a:r>
              <a:rPr b="0" lang="pl-PL" sz="1400" spc="-1" strike="noStrike">
                <a:solidFill>
                  <a:srgbClr val="000000"/>
                </a:solidFill>
                <a:latin typeface="Arial"/>
              </a:rPr>
              <a:t>ogół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wkład własny ma charakter niepieniężny należy go również wykazać w pkt 4.3.1</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budżecie projektu przy kosztach, które będą stanowiły wkład niepieniężny, </a:t>
            </a:r>
            <a:br>
              <a:rPr sz="1400"/>
            </a:br>
            <a:r>
              <a:rPr b="0" lang="pl-PL" sz="1400" spc="-1" strike="noStrike">
                <a:solidFill>
                  <a:srgbClr val="000000"/>
                </a:solidFill>
                <a:latin typeface="Arial"/>
              </a:rPr>
              <a:t>w polu </a:t>
            </a:r>
            <a:r>
              <a:rPr b="0" i="1" lang="pl-PL" sz="1400" spc="-1" strike="noStrike">
                <a:solidFill>
                  <a:srgbClr val="000000"/>
                </a:solidFill>
                <a:latin typeface="Arial"/>
              </a:rPr>
              <a:t>kategoria</a:t>
            </a:r>
            <a:r>
              <a:rPr b="0" lang="pl-PL" sz="1400" spc="-1" strike="noStrike">
                <a:solidFill>
                  <a:srgbClr val="000000"/>
                </a:solidFill>
                <a:latin typeface="Arial"/>
              </a:rPr>
              <a:t>, należy wpisać „wkład własny niepieniężn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214280"/>
            <a:ext cx="8229600" cy="4911840"/>
          </a:xfrm>
          <a:prstGeom prst="rect">
            <a:avLst/>
          </a:prstGeom>
          <a:noFill/>
          <a:ln w="0">
            <a:noFill/>
          </a:ln>
        </p:spPr>
        <p:txBody>
          <a:bodyPr anchor="t">
            <a:normAutofit fontScale="77000"/>
          </a:bodyPr>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Projekt jest realizowany w szkołach lub placówkach prowadzących kształcenie zawodowe, </a:t>
            </a:r>
            <a:br>
              <a:rPr sz="1400"/>
            </a:br>
            <a:r>
              <a:rPr b="0" lang="pl-PL" sz="1400" spc="-1" strike="noStrike">
                <a:solidFill>
                  <a:srgbClr val="000000"/>
                </a:solidFill>
                <a:latin typeface="Arial"/>
              </a:rPr>
              <a:t>w których uczniowie osiągnęli średni wynik w ubiegłorocznych egzaminach zewnętrznych (maturalnych i/lub zawodowych), niższy od średniej wojewódzkiej.</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15</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części 3.1 i 3.2 wniosku należy zapisać, że projekt realizowany będzie w szkołach lub placówkach oświatowych, których średni wynik egzaminu zewnętrznego (maturalnego i/lub zawodowego) w roku szkolnym 2008-2009 był niższy niż średnia w województwie zachodniopomorskim z wyżej wymienionych egzaminów. </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rPr>
              <a:t>Projekt łączy wsparcie w zakresie „modernizacja oferty kształcenia zawodowego i dostosowanie jej do potrzeb lokalnego i regionalnego rynku pracy (wprowadzanie nowych kierunków kształcenia, modyfikacja nowych kierunków kształcenia, modyfikacja programów nauczania </a:t>
            </a:r>
            <a:br>
              <a:rPr sz="1400"/>
            </a:br>
            <a:r>
              <a:rPr b="0" lang="pl-PL" sz="1400" spc="-1" strike="noStrike">
                <a:solidFill>
                  <a:srgbClr val="000000"/>
                </a:solidFill>
                <a:latin typeface="Arial"/>
              </a:rPr>
              <a:t>na kierunkach istniejących)” ze wsparciem „wyposażenie szkół i placówek prowadzących kształcenie zawodowe w nowoczesne materiały dydaktyczne.</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15</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Stosuje się</a:t>
            </a:r>
            <a:r>
              <a:rPr b="0" i="1" lang="pl-PL" sz="1400" spc="-1" strike="noStrike" u="sng">
                <a:solidFill>
                  <a:srgbClr val="000000"/>
                </a:solidFill>
                <a:uFillTx/>
                <a:latin typeface="Arial"/>
                <a:ea typeface="Arial"/>
              </a:rPr>
              <a:t> jedynie </a:t>
            </a:r>
            <a:r>
              <a:rPr b="0" i="1" lang="pl-PL" sz="1400" spc="-1" strike="noStrike">
                <a:solidFill>
                  <a:srgbClr val="000000"/>
                </a:solidFill>
                <a:latin typeface="Arial"/>
                <a:ea typeface="Arial"/>
              </a:rPr>
              <a:t>do typu projektu nr 2</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400" spc="-1" strike="noStrike">
                <a:solidFill>
                  <a:srgbClr val="000000"/>
                </a:solidFill>
                <a:latin typeface="Arial"/>
              </a:rPr>
              <a:t>W części 3.3 wniosku projektodawca winien zapisać iż projekt zakłada realizację określonych </a:t>
            </a:r>
            <a:br>
              <a:rPr sz="1400"/>
            </a:br>
            <a:r>
              <a:rPr b="0" lang="pl-PL" sz="1400" spc="-1" strike="noStrike">
                <a:solidFill>
                  <a:srgbClr val="000000"/>
                </a:solidFill>
                <a:latin typeface="Arial"/>
              </a:rPr>
              <a:t>w kryterium strategicznym form wsparcia. </a:t>
            </a:r>
            <a:endParaRPr b="0" lang="en-US" sz="1400" spc="-1" strike="noStrike">
              <a:solidFill>
                <a:srgbClr val="000000"/>
              </a:solidFill>
              <a:latin typeface="Tahoma"/>
            </a:endParaRPr>
          </a:p>
          <a:p>
            <a:pPr marL="263880" indent="-263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3880" indent="-263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3880" indent="-263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1214280"/>
            <a:ext cx="8229600" cy="4911840"/>
          </a:xfrm>
          <a:prstGeom prst="rect">
            <a:avLst/>
          </a:prstGeom>
          <a:noFill/>
          <a:ln w="0">
            <a:noFill/>
          </a:ln>
        </p:spPr>
        <p:txBody>
          <a:bodyPr anchor="t">
            <a:normAutofit fontScale="78000"/>
          </a:bodyPr>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a:t>
            </a:r>
            <a:r>
              <a:rPr b="0" lang="pl-PL" sz="1400" spc="-1" strike="noStrike">
                <a:solidFill>
                  <a:srgbClr val="000000"/>
                </a:solidFill>
                <a:latin typeface="Arial"/>
                <a:ea typeface="Arial"/>
              </a:rPr>
              <a:t>	</a:t>
            </a:r>
            <a:r>
              <a:rPr b="0" lang="pl-PL" sz="1400" spc="-1" strike="noStrike">
                <a:solidFill>
                  <a:srgbClr val="000000"/>
                </a:solidFill>
                <a:latin typeface="Arial"/>
              </a:rPr>
              <a:t>Projekt zakłada wykorzystanie specjalistycznych stanowisk do przeprowadzania zewnętrznych egzaminów zawodowych zakupionych ze środków Europejskiego Funduszu Społecznego </a:t>
            </a:r>
            <a:br>
              <a:rPr sz="1400"/>
            </a:br>
            <a:r>
              <a:rPr b="0" lang="pl-PL" sz="1400" spc="-1" strike="noStrike">
                <a:solidFill>
                  <a:srgbClr val="000000"/>
                </a:solidFill>
                <a:latin typeface="Arial"/>
              </a:rPr>
              <a:t>w latach 2004 – 2006.</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5</a:t>
            </a: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Tahoma"/>
              </a:rPr>
              <a:t>Jak spełnić?</a:t>
            </a: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rPr>
              <a:t>W punkcie 3.5 wniosku Projektodawca powinien zapisać, iż w ramach projektu wykorzystane zastaną specjalistyczne stanowiska do przeprowadzania zewnętrznych egzaminów zawodowych zakupionych ze środków Europejskiego Funduszu Społecznego na lata 2004- 2006.</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a:t>
            </a:r>
            <a:r>
              <a:rPr b="0" lang="pl-PL" sz="1400" spc="-1" strike="noStrike">
                <a:solidFill>
                  <a:srgbClr val="000000"/>
                </a:solidFill>
                <a:latin typeface="Arial"/>
                <a:ea typeface="Arial"/>
              </a:rPr>
              <a:t>	</a:t>
            </a:r>
            <a:r>
              <a:rPr b="0" lang="pl-PL" sz="1400" spc="-1" strike="noStrike">
                <a:solidFill>
                  <a:srgbClr val="000000"/>
                </a:solidFill>
                <a:latin typeface="Arial"/>
              </a:rPr>
              <a:t>Projekt jest komplementarny z inwestycjami zrealizowanymi bądź planowanymi do realizacji finansowanymi ze źródeł wspólnotowych innych niż Europejski Fundusz Społeczny.</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5</a:t>
            </a: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Tahoma"/>
              </a:rPr>
              <a:t>Jak spełnić?</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e wniosku (np. pkt 3.1 i 3.5) należy zapisać z jaką inwestycją finansową ze źródeł wspólnotowych innych niż Europejski Fundusz Społeczny projekt jest komplementarny i w jakim zakresie (tytuł projektu i kto jest jego projektodawcą).</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Pomoc publiczna</a:t>
            </a:r>
            <a:endParaRPr b="0" lang="en-US" sz="20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jekty w ramach Działania 9.2 realizowane są zgodnie z ustawą o systemie oświaty </a:t>
            </a:r>
            <a:br>
              <a:rPr sz="1400"/>
            </a:br>
            <a:r>
              <a:rPr b="0" lang="pl-PL" sz="1400" spc="-1" strike="noStrike">
                <a:solidFill>
                  <a:srgbClr val="000000"/>
                </a:solidFill>
                <a:latin typeface="Arial"/>
              </a:rPr>
              <a:t>w związku z czym, co do zasady, nie przewidują występowania pomocy publiczn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jektodawca musi jednak zwrócić uwagę, że niedozwolone jest czerpanie korzyści ekonomicznych z realizacji projektu w szczególności poprzez odpłatny wynajem środków trwałych zakupionych w ramach projektu, pomieszczeń wyremontowanych w ramach projektu itd. Jeśli projektodawca zamierza czerpać powyższe korzyści projekt należy potraktować jako generujący dochód.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Jeśli projektodawca nie uwzględni w takim projekcie dochodu, to przy stwierdzeniu czerpania </a:t>
            </a:r>
            <a:br>
              <a:rPr sz="1400"/>
            </a:br>
            <a:r>
              <a:rPr b="0" lang="pl-PL" sz="1400" spc="-1" strike="noStrike">
                <a:solidFill>
                  <a:srgbClr val="000000"/>
                </a:solidFill>
                <a:latin typeface="Arial"/>
              </a:rPr>
              <a:t>z jego tytułu korzyści ekonomicznych, zostanie uznane, ze udzielono mu niedozwolonej pomocy publiczn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wniosk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357200"/>
            <a:ext cx="8229600" cy="1285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Arial"/>
              </a:rPr>
              <a:t>Nowa wersja instrukcji dotyczącej wniosku o dofinansowanie w ramach Programu Operacyjnego Kapitał Ludzki</a:t>
            </a:r>
            <a:endParaRPr b="0" lang="en-US" sz="2000" spc="-1" strike="noStrike">
              <a:solidFill>
                <a:srgbClr val="000000"/>
              </a:solidFill>
              <a:latin typeface="Arial"/>
            </a:endParaRPr>
          </a:p>
        </p:txBody>
      </p:sp>
      <p:sp>
        <p:nvSpPr>
          <p:cNvPr id="70" name=""/>
          <p:cNvSpPr txBox="1"/>
          <p:nvPr/>
        </p:nvSpPr>
        <p:spPr>
          <a:xfrm>
            <a:off x="571680" y="2428920"/>
            <a:ext cx="8229600" cy="2697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miany w stosunku do dotychczasowej wersji dokumentu udostępnionej na początku stycznia mają charakter techniczny i obejmują wprowadzenie nowych zrzutów ekranowych oraz doprecyzowanie niektórych zapisów w związku z procesem dostosowywania Generatora Wniosków Aplikacyjnych PO KL do obsługi przez:</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niedowidzące oraz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idome korzystające ze standardowych narzędzi udźwiękowiających.</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1.03.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u </a:t>
            </a:r>
            <a:r>
              <a:rPr b="1" lang="pl-PL" sz="1400" spc="-1" strike="noStrike">
                <a:solidFill>
                  <a:srgbClr val="ff0000"/>
                </a:solidFill>
                <a:latin typeface="Arial"/>
              </a:rPr>
              <a:t>1/9.2/10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1" lang="pl-PL" sz="1400" spc="-1" strike="noStrike">
                <a:solidFill>
                  <a:srgbClr val="ff0000"/>
                </a:solidFill>
                <a:latin typeface="Arial"/>
              </a:rPr>
              <a:t>projektów innowacyjnych;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współpracy ponadnarodowej</a:t>
            </a:r>
            <a:r>
              <a:rPr b="0" lang="pl-PL" sz="1400" spc="-1" strike="noStrike">
                <a:solidFill>
                  <a:srgbClr val="ff0000"/>
                </a:solidFill>
                <a:latin typeface="Arial"/>
              </a:rPr>
              <a:t> oraz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projektów z komponentem ponadnarodowym zaplanowanym do realizacji na etapie opracowania wniosku o dofinansowani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4" descr=""/>
          <p:cNvPicPr/>
          <p:nvPr/>
        </p:nvPicPr>
        <p:blipFill>
          <a:blip r:embed="rId1"/>
          <a:stretch/>
        </p:blipFill>
        <p:spPr>
          <a:xfrm>
            <a:off x="781200" y="1494000"/>
            <a:ext cx="7753320" cy="4651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82"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4"/>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5"/>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rownystatus.gov.p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5"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87"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9"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0"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92"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3"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5"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6"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97"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0"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3"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6"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9.2/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9"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2"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5"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8"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1"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4"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7"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131"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3"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3"/>
          <p:cNvSpPr/>
          <p:nvPr/>
        </p:nvSpPr>
        <p:spPr>
          <a:xfrm>
            <a:off x="857160" y="928800"/>
            <a:ext cx="721512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000" spc="-1" strike="noStrike">
                <a:solidFill>
                  <a:srgbClr val="ff0000"/>
                </a:solidFill>
                <a:latin typeface="Arial"/>
                <a:ea typeface="Arial"/>
              </a:rPr>
              <a:t>Źródła danych</a:t>
            </a:r>
            <a:endParaRPr b="0" lang="en-US" sz="2000" spc="-1" strike="noStrike">
              <a:solidFill>
                <a:srgbClr val="000000"/>
              </a:solidFill>
              <a:latin typeface="Arial"/>
            </a:endParaRPr>
          </a:p>
        </p:txBody>
      </p:sp>
      <p:sp>
        <p:nvSpPr>
          <p:cNvPr id="135"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a:t>
            </a:r>
            <a:br>
              <a:rPr sz="1400"/>
            </a:br>
            <a:r>
              <a:rPr b="0" lang="pl-PL" sz="1400" spc="-1" strike="noStrike">
                <a:solidFill>
                  <a:srgbClr val="000000"/>
                </a:solidFill>
                <a:latin typeface="Arial"/>
              </a:rPr>
              <a:t>-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9.2/10 jest </a:t>
            </a:r>
            <a:r>
              <a:rPr b="1" lang="pl-PL" sz="1400" spc="-1" strike="noStrike" u="sng">
                <a:solidFill>
                  <a:srgbClr val="ff0000"/>
                </a:solidFill>
                <a:uFillTx/>
                <a:latin typeface="Arial"/>
              </a:rPr>
              <a:t>konkursem zamknię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konkursie zamkniętym określa się z góry jeden określony termin naboru wnios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Od 18 maja 2010 r. do dnia 30 lipca 2010 r.</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ecyduje data wpływu wniosku 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7"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39"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40"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41"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4000" y="1197000"/>
            <a:ext cx="8002440" cy="508968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3.1 Uzasadnienie potrzeby realizacji projektu:</a:t>
            </a:r>
            <a:endParaRPr b="0" lang="en-US" sz="16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rzetelnej diagnozy lub zbyt ogólnie uzasadnione potrzeby realizacji projektu;</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obieżnie opisano kwestie problemowe: </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brak powołania się na dane źródłowe oraz podania ich wartości; </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powoływanie się na nieaktualne dane, brak wskazania do sytuacji w okresie bieżącym;</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zbyt ogólny opis metodologii prowadzonych badań;</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brak podania źródeł pochodzenia danych;</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poprawnie sformułowane cele, zbyt ogólne, niezgodne z POKL oraz innymi dokumentami strategicznymi;</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ele nie wynikają z diagnozy i opisu problemu.</a:t>
            </a:r>
            <a:endParaRPr b="0" lang="en-US" sz="14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571320" y="1214280"/>
            <a:ext cx="8002440" cy="4911840"/>
          </a:xfrm>
          <a:prstGeom prst="rect">
            <a:avLst/>
          </a:prstGeom>
          <a:noFill/>
          <a:ln w="0">
            <a:noFill/>
          </a:ln>
        </p:spPr>
        <p:txBody>
          <a:bodyPr anchor="t">
            <a:normAutofit fontScale="94000"/>
          </a:bodyPr>
          <a:p>
            <a:pPr marL="250560" indent="-2505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0560" indent="-2505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3.2 Grupy docelowe projektu:</a:t>
            </a:r>
            <a:endParaRPr b="0" lang="en-US" sz="16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grupa niedostosowana do proponowanego wsparcia, niewynikająca z diagnozy;</a:t>
            </a:r>
            <a:endParaRPr b="0" lang="en-US" sz="14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grupa przedstawiona w sposób ogólny, niewskazujący na charakter wnioskowanego wsparcia;</a:t>
            </a:r>
            <a:endParaRPr b="0" lang="en-US" sz="14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informacji o uczestnikach, projektodawca w ogóle nie opisuje uczestników </a:t>
            </a:r>
            <a:br>
              <a:rPr sz="1400"/>
            </a:br>
            <a:r>
              <a:rPr b="0" lang="pl-PL" sz="1400" spc="-1" strike="noStrike">
                <a:solidFill>
                  <a:srgbClr val="000000"/>
                </a:solidFill>
                <a:latin typeface="Arial"/>
                <a:ea typeface="Arial"/>
              </a:rPr>
              <a:t>do kogo kierowany jest projekt, pomija przedział wiekowy, liczbę uczestników oraz proces rekrutacji);</a:t>
            </a:r>
            <a:endParaRPr b="0" lang="en-US" sz="14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wystarczający opis rekrutacji – brak metod, kryteriów i sposobu przeprowadzenia rekrutacji;</a:t>
            </a:r>
            <a:endParaRPr b="0" lang="en-US" sz="14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rekrutacja niespójna z celami projektów;</a:t>
            </a:r>
            <a:endParaRPr b="0" lang="en-US" sz="14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brak uzasadnienia liczebności grupy;</a:t>
            </a: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uzasadnienie wyboru grupy docelowej oparte na zbyt ogólnych danych;</a:t>
            </a:r>
            <a:endParaRPr b="0" lang="en-US" sz="14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uwzględnienie w projekcie trudności związanych z udziałem grupy docelowej, wynikających z ich miejsca zamieszkania;</a:t>
            </a:r>
            <a:endParaRPr b="0" lang="en-US" sz="14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spójności między liczbą uczestników a rezultatami twardymi.</a:t>
            </a: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50560" indent="-2505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4000" y="999720"/>
            <a:ext cx="8002440" cy="510876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3.3 Działania:</a:t>
            </a:r>
            <a:endParaRPr b="0" lang="en-US" sz="16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gólny opis działań, bez wskazania terminów realizacji, czy merytorycznego zakresu wsparcia;</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spójności proponowanych zajęć z profilem zawodowym uczestnika;</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dostosowania ilości godzin wsparcia do poziomu jego trudności;</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opisu działań promocyjno – informacyjnych;</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informacji o wymiarze etatów/ formy zatrudnienia/ czasu poświęconego </a:t>
            </a:r>
            <a:br>
              <a:rPr sz="1400"/>
            </a:br>
            <a:r>
              <a:rPr b="0" lang="pl-PL" sz="1400" spc="-1" strike="noStrike">
                <a:solidFill>
                  <a:srgbClr val="000000"/>
                </a:solidFill>
                <a:latin typeface="Arial"/>
                <a:ea typeface="Arial"/>
              </a:rPr>
              <a:t>na realizację poszczególnych zadań, osób biorących udział w realizacji projektów;</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wskazania osób odpowiedzialnych za realizacje działań;</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informacji na temat miejsc, gdzie będą organizowane zadania.</a:t>
            </a:r>
            <a:endParaRPr b="0" lang="en-US" sz="14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684000" y="1071720"/>
            <a:ext cx="8002440" cy="5037120"/>
          </a:xfrm>
          <a:prstGeom prst="rect">
            <a:avLst/>
          </a:prstGeom>
          <a:noFill/>
          <a:ln w="0">
            <a:noFill/>
          </a:ln>
        </p:spPr>
        <p:txBody>
          <a:bodyPr anchor="t">
            <a:normAutofit fontScale="93000"/>
          </a:bodyPr>
          <a:p>
            <a:pPr marL="248040" indent="-2480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48040" indent="-2480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3.4 Rezultaty projektu:</a:t>
            </a:r>
            <a:endParaRPr b="0" lang="en-US" sz="1600" spc="-1" strike="noStrike">
              <a:solidFill>
                <a:srgbClr val="000000"/>
              </a:solidFill>
              <a:latin typeface="Tahoma"/>
            </a:endParaRPr>
          </a:p>
          <a:p>
            <a:pPr marL="248040" indent="-2480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kazane rezultaty stanowią produkty określające jakie zadania będą realizowane w projekcie; </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rezultaty niemożliwe do spełnienia;</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prawidłowo zdefiniowane rezultaty projektu;</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trwałości rezultatów;</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spójność rezultatów z celami projektu;</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kwantyfikacji rezultatów;</a:t>
            </a: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doprecyzowany sposób monitorowania rezultatów;</a:t>
            </a: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opisu sposobu mierzenia rezultatów;</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lub niewłaściwy sposób określenia rezultatów twardych;</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ominięcie wskaźników mierzenia rezultatów miękkich;</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nikomy wpływ rezultatów na cele projektu.</a:t>
            </a:r>
            <a:endParaRPr b="0" lang="en-US" sz="1400" spc="-1" strike="noStrike">
              <a:solidFill>
                <a:srgbClr val="000000"/>
              </a:solidFill>
              <a:latin typeface="Tahoma"/>
            </a:endParaRPr>
          </a:p>
          <a:p>
            <a:pPr marL="248040" indent="-248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3.5 Potencjał wnioskodawcy i sposób zarządzania projektem:</a:t>
            </a:r>
            <a:endParaRPr b="0" lang="en-US" sz="1600" spc="-1" strike="noStrike">
              <a:solidFill>
                <a:srgbClr val="000000"/>
              </a:solidFill>
              <a:latin typeface="Tahoma"/>
            </a:endParaRPr>
          </a:p>
          <a:p>
            <a:pPr marL="266760" indent="-2667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uzasadnienie przy angażu pracowników;</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zaplecza technicznego, kadrowego, instytucjonalnego;</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jasny podział obowiązków i struktury zespołu projektowego;</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opisu, bądź ogólny opis roli partnera. </a:t>
            </a:r>
            <a:endParaRPr b="0" lang="en-US" sz="14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15 000 000,00 zł</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EFS:  </a:t>
            </a:r>
            <a:r>
              <a:rPr b="1" lang="pl-PL" sz="1400" spc="-1" strike="noStrike">
                <a:solidFill>
                  <a:srgbClr val="ff0000"/>
                </a:solidFill>
                <a:latin typeface="Arial"/>
              </a:rPr>
              <a:t>12 750 000,00 zł</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krajowe: </a:t>
            </a:r>
            <a:r>
              <a:rPr b="1" lang="pl-PL" sz="1400" spc="-1" strike="noStrike">
                <a:solidFill>
                  <a:srgbClr val="ff0000"/>
                </a:solidFill>
                <a:latin typeface="Arial"/>
              </a:rPr>
              <a:t>2 250 000,00 zł</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IV Wydatki projektu:</a:t>
            </a:r>
            <a:endParaRPr b="0" lang="en-US" sz="16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łędy rachunkowe;</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spójności z opisanymi działaniami;</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zachowania relacji nakład/rezultat (zawyżone koszty jednostkowe, wysokie koszty zarządzania projektem);</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łędne określanie cross – financingu;</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wystarczające uzasadnienie zakupów w ramach cross-financingu;</a:t>
            </a: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lub błędna metodologia wyliczenia kosztów pośrednich;</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uzasadnienia dla bardzo wysokich kosztów;</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uzasadnione wydatki;</a:t>
            </a: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28760" y="1571400"/>
            <a:ext cx="8229600" cy="44290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Dobre praktyki</a:t>
            </a:r>
            <a:endParaRPr b="0" lang="en-US" sz="1800" spc="-1" strike="noStrike">
              <a:solidFill>
                <a:srgbClr val="000000"/>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u="sng">
                <a:solidFill>
                  <a:srgbClr val="000000"/>
                </a:solidFill>
                <a:uFillTx/>
                <a:latin typeface="Arial"/>
              </a:rPr>
              <a:t>Priorytet IX </a:t>
            </a:r>
            <a:r>
              <a:rPr b="1" i="1" lang="pl-PL" sz="1800" spc="-1" strike="noStrike">
                <a:solidFill>
                  <a:srgbClr val="000000"/>
                </a:solidFill>
                <a:latin typeface="Arial"/>
              </a:rPr>
              <a:t>Rozwój wykształcenia i kompetencji w regionach</a:t>
            </a: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Numer i nazwa Poddziałania: </a:t>
            </a:r>
            <a:r>
              <a:rPr b="1" lang="pl-PL" sz="1800" spc="-1" strike="noStrike">
                <a:solidFill>
                  <a:srgbClr val="000000"/>
                </a:solidFill>
                <a:latin typeface="Arial"/>
              </a:rPr>
              <a:t>9.2 Podniesienie atrakcyjności i jakości szkolnictwa zawodowego </a:t>
            </a:r>
            <a:endParaRPr b="0" lang="en-US" sz="18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642960" y="1143000"/>
            <a:ext cx="7858080" cy="528624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a:t>
            </a:r>
            <a:r>
              <a:rPr b="1" lang="pl-PL" sz="1400" spc="-1" strike="noStrike">
                <a:solidFill>
                  <a:srgbClr val="000000"/>
                </a:solidFill>
                <a:latin typeface="Arial"/>
                <a:ea typeface="Arial"/>
              </a:rPr>
              <a:t>Kompetentna i świadoma dziewczyna – przedsiębiorcza na rynku prac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a:t>
            </a:r>
            <a:r>
              <a:rPr b="0" lang="pl-PL" sz="1400" spc="-1" strike="noStrike">
                <a:solidFill>
                  <a:srgbClr val="000000"/>
                </a:solidFill>
                <a:latin typeface="Arial"/>
                <a:ea typeface="Arial"/>
              </a:rPr>
              <a:t>Zespół Szkół Ponadgimnazjalnych nr 2 Gryfino</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 </a:t>
            </a:r>
            <a:r>
              <a:rPr b="0" lang="pl-PL" sz="1400" spc="-1" strike="noStrike">
                <a:solidFill>
                  <a:srgbClr val="000000"/>
                </a:solidFill>
                <a:latin typeface="Arial"/>
                <a:ea typeface="Arial"/>
              </a:rPr>
              <a:t>01.09.2008 – 30.06.2009</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a:t>
            </a:r>
            <a:r>
              <a:rPr b="0" lang="pl-PL" sz="1400" spc="-1" strike="noStrike">
                <a:solidFill>
                  <a:srgbClr val="000000"/>
                </a:solidFill>
                <a:latin typeface="Arial"/>
                <a:ea typeface="Arial"/>
              </a:rPr>
              <a:t> podniesienie zdolności do przyszłego zatrudnienia lub samozatrudnienia dziewcząt ze środowisk wiejskich i małych miasteczek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DBIORCY PROJEKTU (GRUPA DOCELOWA): </a:t>
            </a:r>
            <a:r>
              <a:rPr b="0" lang="pl-PL" sz="1400" spc="-1" strike="noStrike">
                <a:solidFill>
                  <a:srgbClr val="000000"/>
                </a:solidFill>
                <a:latin typeface="Arial"/>
                <a:ea typeface="Arial"/>
              </a:rPr>
              <a:t>wsparciem objętych zostanie 30 dziewcząt, które kształcą się zawodowo w Zespole Szkół Ponadgimnazjalnych nr 2 w Gryfinie </a:t>
            </a:r>
            <a:br>
              <a:rPr sz="1400"/>
            </a:br>
            <a:r>
              <a:rPr b="0" lang="pl-PL" sz="1400" spc="-1" strike="noStrike">
                <a:solidFill>
                  <a:srgbClr val="000000"/>
                </a:solidFill>
                <a:latin typeface="Arial"/>
                <a:ea typeface="Arial"/>
              </a:rPr>
              <a:t>na kierunka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Technikum Ekonomiczne – kierunek Ekonomicz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Technikum Zawodowe – kierunek Technik żywienia i gospodarstwa domowego.</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rostokąt 3"/>
          <p:cNvSpPr/>
          <p:nvPr/>
        </p:nvSpPr>
        <p:spPr>
          <a:xfrm>
            <a:off x="1000080" y="1357200"/>
            <a:ext cx="7572600" cy="3470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rostokąt 2"/>
          <p:cNvSpPr/>
          <p:nvPr/>
        </p:nvSpPr>
        <p:spPr>
          <a:xfrm>
            <a:off x="642960" y="1143000"/>
            <a:ext cx="7929720" cy="478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ZIAŁANI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ształtowanie świadomych i aktywnych postaw życiowych (zajęcia warsztatowe prowadzone przez psychologa i terapeutę mające na celu poznanie się dziewcząt, zaprezentowanie siebie </a:t>
            </a:r>
            <a:br>
              <a:rPr sz="1400"/>
            </a:br>
            <a:r>
              <a:rPr b="0" lang="pl-PL" sz="1400" spc="-1" strike="noStrike">
                <a:solidFill>
                  <a:srgbClr val="000000"/>
                </a:solidFill>
                <a:latin typeface="Arial"/>
              </a:rPr>
              <a:t>i stworzenie fundamentów dla dobrej atmosfery do efektywnej pracy przez cały okres trwania projekt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wój kulturalny jako czynnik osobotwórczy (uczestnictwo w wystawie artystycznej, spotkanie </a:t>
            </a:r>
            <a:br>
              <a:rPr sz="1400"/>
            </a:br>
            <a:r>
              <a:rPr b="0" lang="pl-PL" sz="1400" spc="-1" strike="noStrike">
                <a:solidFill>
                  <a:srgbClr val="000000"/>
                </a:solidFill>
                <a:latin typeface="Arial"/>
              </a:rPr>
              <a:t>w herbaciarni, obejrzenie spektaklu teatralnego, filmu, opery itp. wybranego przez młodzież, lunch w restauracji, konkurs na wspomnienia z czasu trwania projektu mający na celu odzwierciedlenie w interesujący sposób oczekiwań beneficjentek wobec projektu, przeżyć w czasie jego trwania </a:t>
            </a:r>
            <a:br>
              <a:rPr sz="1400"/>
            </a:br>
            <a:r>
              <a:rPr b="0" lang="pl-PL" sz="1400" spc="-1" strike="noStrike">
                <a:solidFill>
                  <a:srgbClr val="000000"/>
                </a:solidFill>
                <a:latin typeface="Arial"/>
              </a:rPr>
              <a:t>i ocenę własnego rozwoj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skonalenie umiejętności posługiwania się komputerem i Internetem w zakresie wejścia </a:t>
            </a:r>
            <a:br>
              <a:rPr sz="1400"/>
            </a:br>
            <a:r>
              <a:rPr b="0" lang="pl-PL" sz="1400" spc="-1" strike="noStrike">
                <a:solidFill>
                  <a:srgbClr val="000000"/>
                </a:solidFill>
                <a:latin typeface="Arial"/>
              </a:rPr>
              <a:t>na rynek pracy jako pracownik bądź przedsiębiorca (poznanie adresów i poruszanie się </a:t>
            </a:r>
            <a:br>
              <a:rPr sz="1400"/>
            </a:br>
            <a:r>
              <a:rPr b="0" lang="pl-PL" sz="1400" spc="-1" strike="noStrike">
                <a:solidFill>
                  <a:srgbClr val="000000"/>
                </a:solidFill>
                <a:latin typeface="Arial"/>
              </a:rPr>
              <a:t>w portalach internetowych oferujących pracę, nabycie umiejętności pobierania dokumentacji aplikacyjnej, wypełnianie jej i przesłanie, zamieszczenie własnego ogłoszenia o poszukiwaniu pracy, uruchomienie Punktu Informacji Doradztwa Zawodoznawczego – komputery zostaną wyposażone w oprogramowanie z dziedziny poradnictwa zawodowego i informacji zawodowej).</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rostokąt 3"/>
          <p:cNvSpPr/>
          <p:nvPr/>
        </p:nvSpPr>
        <p:spPr>
          <a:xfrm>
            <a:off x="1000080" y="1357200"/>
            <a:ext cx="7572600" cy="3470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rostokąt 2"/>
          <p:cNvSpPr/>
          <p:nvPr/>
        </p:nvSpPr>
        <p:spPr>
          <a:xfrm>
            <a:off x="642960" y="1143000"/>
            <a:ext cx="7929720" cy="350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ZIAŁANI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worzenie własnego wizerunku (uczestniczki dowiedzą się jak przygotować się do rozmowy </a:t>
            </a:r>
            <a:br>
              <a:rPr sz="1400"/>
            </a:br>
            <a:r>
              <a:rPr b="0" lang="pl-PL" sz="1400" spc="-1" strike="noStrike">
                <a:solidFill>
                  <a:srgbClr val="000000"/>
                </a:solidFill>
                <a:latin typeface="Arial"/>
              </a:rPr>
              <a:t>z pracodawcą, na co zwrócić szczególną uwagę, jak przygotować dokumentację, jak stworzyć odpowiedni wizerunek, jak zachować się podczas rozmowy, autoprezentacja przed kamerą, indywidualna ścieżka kariery – rozmowa doradcza z doradcą zawodowym, wykład „zdrowe żywienie” – uzyskana wiedza pobudzi u uczennic refleksję nad sensem ekologicznego trybu życia oraz troskę o własne zdrow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wyższanie kwalifikacji zawodowych – ukończenie profesjonalnego kursu dla każdego kierunku szkoły (w zawodzie ekonomista znajomość dodatkowych programów księgowych, </a:t>
            </a:r>
            <a:br>
              <a:rPr sz="1400"/>
            </a:br>
            <a:r>
              <a:rPr b="0" lang="pl-PL" sz="1400" spc="-1" strike="noStrike">
                <a:solidFill>
                  <a:srgbClr val="000000"/>
                </a:solidFill>
                <a:latin typeface="Arial"/>
              </a:rPr>
              <a:t>w zawodzie gastronom kurs barmański, dodatkowo dla wszystkich dziewcząt kurs pierwszej pomocy).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thruBlk="tru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59"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1"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62"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65"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143000"/>
            <a:ext cx="8229600" cy="4983120"/>
          </a:xfrm>
          <a:prstGeom prst="rect">
            <a:avLst/>
          </a:prstGeom>
          <a:noFill/>
          <a:ln w="0">
            <a:noFill/>
          </a:ln>
        </p:spPr>
        <p:txBody>
          <a:bodyPr anchor="t">
            <a:normAutofit fontScale="98000"/>
          </a:bodyPr>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iagnozowanie potrzeb edukacyjnych w obszarze szkolnictwa zawodowego zgodnie z potrzebami lokalnego i regionalnego rynku pracy.</a:t>
            </a: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 </a:t>
            </a:r>
            <a:r>
              <a:rPr b="0" lang="pl-PL" sz="1400" spc="-1" strike="noStrike">
                <a:solidFill>
                  <a:srgbClr val="000000"/>
                </a:solidFill>
                <a:latin typeface="Arial"/>
              </a:rPr>
              <a:t>	</a:t>
            </a:r>
            <a:r>
              <a:rPr b="0" lang="pl-PL" sz="1400" spc="-1" strike="noStrike">
                <a:solidFill>
                  <a:srgbClr val="000000"/>
                </a:solidFill>
                <a:latin typeface="Arial"/>
              </a:rPr>
              <a:t>Programy rozwojowe szkół i placówek oświatowych prowadzących kształcenie zawodowe ukierunkowane na zmniejszanie dysproporcji w osiągnięciach uczniów w trakcie procesu kształcenia oraz podnoszenie jakości procesu kształcenia w szczególności obejmujące:</a:t>
            </a: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datkowe zajęcia dydaktyczno - wyrównawcze oraz specjalistyczne służące wyrównywaniu dysproporcji edukacyjnych w trakcie procesu kształcenia;</a:t>
            </a: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radztwo i opiekę pedagogiczno – psychologiczną dla uczniów wykazujących problemy w nauce lub z innych przyczyn zagrożonych przedwczesnym wypadnięciem z systemu szkolnictwa (np. wsparcie dla uczniów z obszarów wiejskich, wsparcie dla uczniów niepełnosprawnych, przeciwdziałanie uzależnieniom, programy prewencyjne, przeciwdziałanie patologiom społecznym);</a:t>
            </a: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datkowe zajęcia (pozalekcyjne i pozaszkolne) dla uczniów ukierunkowane na rozwój kompetencji kluczowych, ze szczególnym uwzględnieniem ICT, języków obcych, przedsiębiorczości, nauk przyrodniczo – matematycznych;</a:t>
            </a: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fektywne programy doradztwa edukacyjno – zawodowego;</a:t>
            </a:r>
            <a:endParaRPr b="0" lang="en-US" sz="1400" spc="-1" strike="noStrike">
              <a:solidFill>
                <a:srgbClr val="000000"/>
              </a:solidFill>
              <a:latin typeface="Tahoma"/>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endParaRPr b="0" lang="en-US" sz="1600" spc="-1" strike="noStrike">
              <a:solidFill>
                <a:srgbClr val="000000"/>
              </a:solidFill>
              <a:latin typeface="Tahoma"/>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28760" y="1213920"/>
            <a:ext cx="8229600" cy="4883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dernizację oferty kształcenia zawodowego i dostosowanie jej do potrzeb lokalnego </a:t>
            </a:r>
            <a:br>
              <a:rPr sz="1400"/>
            </a:br>
            <a:r>
              <a:rPr b="0" lang="pl-PL" sz="1400" spc="-1" strike="noStrike">
                <a:solidFill>
                  <a:srgbClr val="000000"/>
                </a:solidFill>
                <a:latin typeface="Arial"/>
              </a:rPr>
              <a:t>i regionalnego rynku pracy (wprowadzanie nowych kierunków kształcenia, modyfikacja programów nauczania na kierunkach istniejąc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ółpracę szkół i placówek prowadzących kształcenie zawodowe z pracodawcami i instytucjami rynku pracy służąca podnoszeniu kwalifikacji zawodowych uczniów jako przyszłych absolwentów </a:t>
            </a:r>
            <a:br>
              <a:rPr sz="1400"/>
            </a:br>
            <a:r>
              <a:rPr b="0" lang="pl-PL" sz="1400" spc="-1" strike="noStrike">
                <a:solidFill>
                  <a:srgbClr val="000000"/>
                </a:solidFill>
                <a:latin typeface="Arial"/>
              </a:rPr>
              <a:t>i wzmacnianie ich zdolności do zatrudnienia (w tym zwłaszcza w zakresie praktycznych form nauczania – staże i praktyk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posażenie szkół i placówek prowadzących kształcenie zawodowe w nowoczesne materiały dydaktyczne (w tym podręczniki szkolne) zapewniające wysoką jakość kształc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drożenie nowych, innowacyjnych form nauczania i oceniania cechujących się wyższą skutecznością niż formy tradycyjne;</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drażanie programów i narzędzi efektywnego zarządzania placówką oświatową przyczyniających się do poprawy jakości nauczani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czniów i słuchaczy szkół i placówek oświatowych prowadzących kształcenie zawodowe </a:t>
            </a:r>
            <a:br>
              <a:rPr sz="1400"/>
            </a:br>
            <a:r>
              <a:rPr b="0" lang="pl-PL" sz="1400" spc="-1" strike="noStrike">
                <a:solidFill>
                  <a:srgbClr val="000000"/>
                </a:solidFill>
                <a:latin typeface="Arial"/>
              </a:rPr>
              <a:t>(z wyłączeniem słuchaczy szkół dla dorosł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zkół i placówek (instytucji i kadry pedagogicznej) prowadzącej kształcenie zawodowe </a:t>
            </a:r>
            <a:br>
              <a:rPr sz="1400"/>
            </a:br>
            <a:r>
              <a:rPr b="0" lang="pl-PL" sz="1400" spc="-1" strike="noStrike">
                <a:solidFill>
                  <a:srgbClr val="000000"/>
                </a:solidFill>
                <a:latin typeface="Arial"/>
              </a:rPr>
              <a:t>(z wyłączeniem szkół dla dorosł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artnerów społeczno – gospodarcz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acodawc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9"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klonowska</cp:lastModifiedBy>
  <dcterms:modified xsi:type="dcterms:W3CDTF">2010-05-20T08:33:07Z</dcterms:modified>
  <cp:revision>458</cp:revision>
  <dc:subject/>
  <dc:title>Slajd 1</dc:title>
</cp:coreProperties>
</file>