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77.xml.rels" ContentType="application/vnd.openxmlformats-package.relationships+xml"/>
  <Override PartName="/ppt/notesSlides/notesSlide77.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42B3-CB15-4778-81FC-7B11667AB8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F2E6-8A83-4DB6-B222-30C20AF9C7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89E6-E7DC-4711-900D-3D1F8C3FAD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42600" y="1142640"/>
            <a:ext cx="7929720" cy="49546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W zależności od wyboru grupy docelowej objętej wsparciem w ramach projektu wybranej </a:t>
            </a:r>
            <a:br>
              <a:rPr sz="1400"/>
            </a:br>
            <a:r>
              <a:rPr b="0" lang="pl-PL" sz="1400" spc="-1" strike="noStrike">
                <a:solidFill>
                  <a:srgbClr val="000000"/>
                </a:solidFill>
                <a:latin typeface="Arial"/>
              </a:rPr>
              <a:t>z katalogu określonego dla Poddziałania 8.1.3 w Szczegółowym Opisie Priorytetów PO KL, </a:t>
            </a:r>
            <a:br>
              <a:rPr sz="1400"/>
            </a:br>
            <a:r>
              <a:rPr b="0" lang="pl-PL" sz="1400" spc="-1" strike="noStrike">
                <a:solidFill>
                  <a:srgbClr val="000000"/>
                </a:solidFill>
                <a:latin typeface="Arial"/>
              </a:rPr>
              <a:t>w przypadku kierowania wsparcia do osób, należy wskazać na fakt ich zamieszkania </a:t>
            </a:r>
            <a:br>
              <a:rPr sz="1400"/>
            </a:br>
            <a:r>
              <a:rPr b="0" lang="pl-PL" sz="1400" spc="-1" strike="noStrike">
                <a:solidFill>
                  <a:srgbClr val="000000"/>
                </a:solidFill>
                <a:latin typeface="Arial"/>
              </a:rPr>
              <a:t>w województwie zachodniopomorskim (w rozumieniu Kodeksu Cywilnego), a w przypadku podmiotów, na prowadzenie działalności na terenie woj. zachodniopomorskiego. Kryterium uznaje się 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rPr>
              <a:t>na terenie województwa zachodniopomorskiego (filia, oddział, zakład).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wskazać, że wybraną z katalogu grupą docelową będą stanowiły osoby zamieszkałe w województwie zachodniopomorskim lub podmioty prowadzące działalność na terenie województwa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działalność powinna być zarejestrowana </a:t>
            </a:r>
            <a:br>
              <a:rPr sz="1400"/>
            </a:br>
            <a:r>
              <a:rPr b="0" lang="pl-PL" sz="1400" spc="-1" strike="noStrike">
                <a:solidFill>
                  <a:srgbClr val="000000"/>
                </a:solidFill>
                <a:latin typeface="Arial"/>
                <a:ea typeface="Arial"/>
              </a:rPr>
              <a:t>w organach ewidencyjnych znajdujących się na terenie woj. Zachodniopomorskiego na terenie </a:t>
            </a:r>
            <a:r>
              <a:rPr b="0" lang="pl-PL" sz="1400" spc="-1" strike="noStrike">
                <a:solidFill>
                  <a:srgbClr val="000000"/>
                </a:solidFill>
                <a:latin typeface="Tahoma"/>
              </a:rPr>
              <a:t>woj.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071800"/>
            <a:ext cx="8229600" cy="40543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W konkursie nie będą stosowane kryteria strategicz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ea typeface="Arial"/>
              </a:rPr>
              <a:t>W Poddziałaniu 8.1.3 </a:t>
            </a:r>
            <a:r>
              <a:rPr b="0" i="1" lang="pl-PL" sz="1400" spc="-1" strike="noStrike">
                <a:solidFill>
                  <a:srgbClr val="000000"/>
                </a:solidFill>
                <a:latin typeface="Arial"/>
                <a:ea typeface="Arial"/>
              </a:rPr>
              <a:t>pomoc </a:t>
            </a:r>
            <a:r>
              <a:rPr b="0" lang="pl-PL" sz="1400" spc="-1" strike="noStrike">
                <a:solidFill>
                  <a:srgbClr val="000000"/>
                </a:solidFill>
                <a:latin typeface="Arial"/>
                <a:ea typeface="Arial"/>
              </a:rPr>
              <a:t>publiczna co do zasady nie występuje, gdyż realizowane działania mają głównie charakter promocyjn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ak wnioskodawca na etapie tworzenia projektu powinien zwrócić szczególną uwagę </a:t>
            </a:r>
            <a:br>
              <a:rPr sz="1400"/>
            </a:br>
            <a:r>
              <a:rPr b="0" lang="pl-PL" sz="1400" spc="-1" strike="noStrike">
                <a:solidFill>
                  <a:srgbClr val="000000"/>
                </a:solidFill>
                <a:latin typeface="Arial"/>
                <a:ea typeface="Arial"/>
              </a:rPr>
              <a:t>na to, czy planowane wsparcie nie spełnia łącznie wszystkich czterech przesłanek występowania pomocy publicznej, które zachodzą, gdy wspar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przyznawane przez Państwo lub pochodzi ze środków państw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udzielane na warunkach korzystniejszych niż oferowane na ryn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 charakter selektyw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kłóca lub grozi zakłóceniem konkurencji oraz wpływa na wymianę handlową między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aństwami Członkowskim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17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11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5 maj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14 kwietni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4 000 000, 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ea typeface="Arial"/>
              </a:rPr>
              <a:t>3 400 000, 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ea typeface="Arial"/>
              </a:rPr>
              <a:t>600 000, 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aże i szkolenia praktyczne dla: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przedsiębiorstw w jednostkach naukowy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naukowych jednostek naukowych oraz pracowników naukowych i naukowo </a:t>
            </a:r>
            <a:br>
              <a:rPr sz="1400"/>
            </a:br>
            <a:r>
              <a:rPr b="0" lang="pl-PL" sz="1400" spc="-1" strike="noStrike">
                <a:solidFill>
                  <a:srgbClr val="000000"/>
                </a:solidFill>
                <a:latin typeface="Arial"/>
                <a:ea typeface="Arial"/>
              </a:rPr>
              <a:t>– dydaktycznych uczelni – w przedsiębiorstw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Tymczasowe zatrudnienie w MŚP wysoko wykwalifikowanego personel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zedsiębiorcy;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przedsiębiorstw;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uczelni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ostki naukow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naukowi jednostek naukowych;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wnicy naukowi i naukowo – dydaktyczni uczeln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2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2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142640"/>
            <a:ext cx="8229600" cy="495468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w porozumieniu przedsiębiorstwo – sektor naukowo-badawczy.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3 wniosku należy zawrzeć odpowiednie zapisy z których jasno będzie wynikało, </a:t>
            </a:r>
            <a:br>
              <a:rPr sz="1400"/>
            </a:br>
            <a:r>
              <a:rPr b="0" lang="pl-PL" sz="1400" spc="-1" strike="noStrike">
                <a:solidFill>
                  <a:srgbClr val="000000"/>
                </a:solidFill>
                <a:latin typeface="Arial"/>
              </a:rPr>
              <a:t>iż projekt jest realizowany w porozumieniu przedsiębiorstwo – sektor naukowo-badawczy. Porozumienie to nie musi mieć formalnego charakteru, ani oznaczać formalnego partnerstwa wnioskodawcy z drugim podmiotem. Należy wykazać, iż odbywanie stażu lub szkolenia praktycznego jest realizowane w oparciu o ustalenia między stronami i za ich wiedzą. </a:t>
            </a: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osób zatrudnionych w przedsiębiorstwach lub pracowników naukowych uczelni i jednostek naukowych z terenu województwa zachodniopomorskiego.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2 wniosku należy wyraźnie zapisać, że odbiorców projektu będą stanowiły osoby zatrudnione w przedsiębiorstwach lub pracownicy naukowi uczelni i jednostek naukowych </a:t>
            </a:r>
            <a:br>
              <a:rPr sz="1400"/>
            </a:br>
            <a:r>
              <a:rPr b="0" lang="pl-PL" sz="1400" spc="-1" strike="noStrike">
                <a:solidFill>
                  <a:srgbClr val="000000"/>
                </a:solidFill>
                <a:latin typeface="Arial"/>
              </a:rPr>
              <a:t>z terenu województwa zachodniopomorskiego. </a:t>
            </a:r>
            <a:r>
              <a:rPr b="0" lang="pl-PL" sz="1400" spc="-1" strike="noStrike">
                <a:solidFill>
                  <a:srgbClr val="000000"/>
                </a:solidFill>
                <a:latin typeface="Tahoma"/>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przedsiębiorstw działających na terenie województwa zachodniopomorskiego. Kryterium uznaje się za spełnione również w przypadku objęcia wsparciem wyodrębnionej organizacyjnie części przedsiębiorstwa (krajowego lub zagranicznego) funkcjonującej na terenie województwa zachodniopomorskiego (filia, oddział, zakła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2 typu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unkcie 3.2 wniosku projektodawca musi zapisać, że odbiorcami projektu będą przedsiębiorstwa działające na terenie województwa zachodniopomorskiego.</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określono efekty planowanego wsparcia – stażu i szkolenia praktycz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1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oraz 3.4 wniosku należy dokładnie wskazać efekty do których dąży projektodawca przyjmując osoby na staż i/lub szkolenie praktyczne. W szczególności należy wykazać korzyści </a:t>
            </a:r>
            <a:br>
              <a:rPr sz="1400"/>
            </a:br>
            <a:r>
              <a:rPr b="0" lang="pl-PL" sz="1400" spc="-1" strike="noStrike">
                <a:solidFill>
                  <a:srgbClr val="000000"/>
                </a:solidFill>
                <a:latin typeface="Arial"/>
                <a:ea typeface="Arial"/>
              </a:rPr>
              <a:t>z odbycia stażu lub szkolenia praktycznego, zarówno dla pracownika jak i podmiotu kierującego go na staż lub szkolenie praktyczn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trudnienie wysoko wykwalifikowanego personelu związane jest z działaniami mającymi na celu podniesienie innowacyjności przedsiębiorstwa, wsparcie procesów zmian w zakresie profilu działalności przedsiębiorstwa bądź wprowadzenia dodatkowych usług lub produktów.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wskazać cel, do jakiego dąży projektodawca zatrudniając wysoko wykwalifikowany personel. Informacje powinny mieć konkretny i szczegółowy charakter, aby wykazać iż zatrudnienie eksperta przełoży się na konkretne wyniki dla przedsiębiorstwa </a:t>
            </a:r>
            <a:br>
              <a:rPr sz="1400"/>
            </a:br>
            <a:r>
              <a:rPr b="0" lang="pl-PL" sz="1400" spc="-1" strike="noStrike">
                <a:solidFill>
                  <a:srgbClr val="000000"/>
                </a:solidFill>
                <a:latin typeface="Arial"/>
                <a:ea typeface="Arial"/>
              </a:rPr>
              <a:t>w kontekście wybranego celu, np.: opracowanie nowej instrukcji, która przyczyni się do lepszej organizacji pracy, a tym samym większej efektywności i oszczędności.</a:t>
            </a:r>
            <a:r>
              <a:rPr b="0" lang="pl-PL" sz="1400" spc="-1" strike="noStrike">
                <a:solidFill>
                  <a:srgbClr val="000000"/>
                </a:solidFill>
                <a:latin typeface="Tahoma"/>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8.2.1 Pomoc publiczna może występować, jeśli będą realizowane następujące dział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a:t>
            </a:r>
            <a:r>
              <a:rPr b="0" lang="pl-PL" sz="1400" spc="-1" strike="noStrike">
                <a:solidFill>
                  <a:srgbClr val="000000"/>
                </a:solidFill>
                <a:latin typeface="Tahoma"/>
              </a:rPr>
              <a:t>	</a:t>
            </a:r>
            <a:r>
              <a:rPr b="0" lang="pl-PL" sz="1400" spc="-1" strike="noStrike">
                <a:solidFill>
                  <a:srgbClr val="000000"/>
                </a:solidFill>
                <a:latin typeface="Arial"/>
                <a:ea typeface="Arial"/>
              </a:rPr>
              <a:t>udzielanie pomocy na tymczasowe zatrudnienie wysoko wykwalifikowanego personel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3/10 </a:t>
            </a:r>
            <a:r>
              <a:rPr b="0" lang="pl-PL" sz="1400" spc="-1" strike="noStrike">
                <a:solidFill>
                  <a:srgbClr val="000000"/>
                </a:solidFill>
                <a:latin typeface="Arial"/>
              </a:rPr>
              <a:t>oraz</a:t>
            </a:r>
            <a:r>
              <a:rPr b="1" lang="pl-PL" sz="1400" spc="-1" strike="noStrike">
                <a:solidFill>
                  <a:srgbClr val="ff0000"/>
                </a:solidFill>
                <a:latin typeface="Arial"/>
              </a:rPr>
              <a:t> 1/8.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a:t>
            </a:r>
            <a:br>
              <a:rPr sz="1400"/>
            </a:br>
            <a:r>
              <a:rPr b="1" lang="pl-PL" sz="1400" spc="-1" strike="noStrike">
                <a:solidFill>
                  <a:srgbClr val="ff0000"/>
                </a:solidFill>
                <a:latin typeface="Arial"/>
              </a:rPr>
              <a:t>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9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1.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3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5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0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30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 656 66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rPr>
              <a:t>1 408 162,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rPr>
              <a:t>248 499,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yteria horyzontalne</a:t>
            </a:r>
            <a:r>
              <a:rPr b="1" lang="pl-PL" sz="1600" spc="-1" strike="noStrike">
                <a:solidFill>
                  <a:srgbClr val="000000"/>
                </a:solidFill>
                <a:latin typeface="Arial"/>
                <a:ea typeface="Arial"/>
              </a:rPr>
              <a: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a:t>
            </a:r>
            <a:endParaRPr b="0" lang="en-US" sz="14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 - zbyt wysokie koszty w ramach cross-financingu.</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a:t>
            </a:r>
            <a:r>
              <a:rPr b="1" lang="pl-PL" sz="1400" spc="-1" strike="noStrike">
                <a:solidFill>
                  <a:srgbClr val="000000"/>
                </a:solidFill>
                <a:latin typeface="Arial"/>
                <a:ea typeface="Arial"/>
              </a:rPr>
              <a:t>cele</a:t>
            </a:r>
            <a:r>
              <a:rPr b="0" lang="pl-PL" sz="1400" spc="-1" strike="noStrike">
                <a:solidFill>
                  <a:srgbClr val="000000"/>
                </a:solidFill>
                <a:latin typeface="Arial"/>
                <a:ea typeface="Arial"/>
              </a:rPr>
              <a:t>, niezgodne z Działaniem, nie wynikające </a:t>
            </a:r>
            <a:br>
              <a:rPr sz="1400"/>
            </a:br>
            <a:r>
              <a:rPr b="0" lang="pl-PL" sz="1400" spc="-1" strike="noStrike">
                <a:solidFill>
                  <a:srgbClr val="000000"/>
                </a:solidFill>
                <a:latin typeface="Arial"/>
                <a:ea typeface="Arial"/>
              </a:rPr>
              <a:t>z diagnozy i opisu problem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promocyjna będzie prowadzona w kontekście idei przedsiębiorczości akademickiej.</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y rachunkow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spójności z opisanymi działaniam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ublowanie kosztów pośrednich w kosztach bez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ne określanie cross – financing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lub błędna metodologia wyliczenia kosztów 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dla bardzo wysokich kosztów.</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Inicjatywy podejmowane na poziomie lokalnym i regionalnym przez związki pracodawców </a:t>
            </a:r>
            <a:br>
              <a:rPr sz="1400"/>
            </a:br>
            <a:r>
              <a:rPr b="0" lang="pl-PL" sz="1400" spc="-1" strike="noStrike">
                <a:solidFill>
                  <a:srgbClr val="000000"/>
                </a:solidFill>
                <a:latin typeface="Arial"/>
              </a:rPr>
              <a:t>i związki zawodowe, mające na celu zwiększanie zdolności adaptacyjnych pracowników </a:t>
            </a:r>
            <a:br>
              <a:rPr sz="1400"/>
            </a:br>
            <a:r>
              <a:rPr b="0" lang="pl-PL" sz="1400" spc="-1" strike="noStrike">
                <a:solidFill>
                  <a:srgbClr val="000000"/>
                </a:solidFill>
                <a:latin typeface="Arial"/>
              </a:rPr>
              <a:t>i przedsiębiorców, w szczególności w zakres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organizacji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form świadczenia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promocji podnoszenia kwalifika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godzenia życia zawodowego i prywat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wanie społecznej odpowiedzialności przedsiębiorstw, w szczególności w odniesieniu </a:t>
            </a:r>
            <a:br>
              <a:rPr sz="1400"/>
            </a:br>
            <a:r>
              <a:rPr b="0" lang="pl-PL" sz="1400" spc="-1" strike="noStrike">
                <a:solidFill>
                  <a:srgbClr val="000000"/>
                </a:solidFill>
                <a:latin typeface="Arial"/>
              </a:rPr>
              <a:t>do lokalnego rynku pracy, warunków pracy pracowników i środowiska naturaln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Upowszechnianie na poziomie lokalnym i regionalnym idei flexicurit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2.1 </a:t>
            </a:r>
            <a:r>
              <a:rPr b="1" lang="pl-PL" sz="2000" spc="-1" strike="noStrike">
                <a:solidFill>
                  <a:srgbClr val="000000"/>
                </a:solidFill>
                <a:latin typeface="Arial"/>
              </a:rPr>
              <a:t>Wsparcie dla współpracy sfery nauki i przedsiębiorstw</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3"/>
          <p:cNvSpPr/>
          <p:nvPr/>
        </p:nvSpPr>
        <p:spPr>
          <a:xfrm>
            <a:off x="642960" y="1357200"/>
            <a:ext cx="7929720" cy="341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staże i szkolenia praktyczn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 wniosku należy dokładnie wskazać efekty do których dąży projektodawca kierując osoby na staż i/lub szkolenie praktyczne. W szczególności należy wykazać korzyści z odbycia stażu lub szkolenia praktycznego, zarówno dla pracownika jak i podmiotu kierującego go na staż lub szkolenie praktyczne. </a:t>
            </a: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że i szkolenia praktyczne powinny wiązać się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 uzyskaniem wiedzy na temat możliwości wdrażania wyników badań </a:t>
            </a:r>
            <a:br>
              <a:rPr sz="1400"/>
            </a:br>
            <a:r>
              <a:rPr b="0" lang="pl-PL" sz="1400" spc="-1" strike="noStrike">
                <a:solidFill>
                  <a:srgbClr val="000000"/>
                </a:solidFill>
                <a:latin typeface="Arial"/>
              </a:rPr>
              <a:t>w przedsiębiorstwie,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ktycznym przetestowaniem opracowanych technologii,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zyskiwanie informacji niezbędnych dla opracowania nowych technologii itp.</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3"/>
          <p:cNvSpPr/>
          <p:nvPr/>
        </p:nvSpPr>
        <p:spPr>
          <a:xfrm>
            <a:off x="642960" y="1357200"/>
            <a:ext cx="7858080" cy="467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tymczasowe zatrudnienie w MŚP wysoko wykwalifikowanego personelu:</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zyskania dla firmy wsparcia eksperckiego powinna zostać wykorzystana </a:t>
            </a:r>
            <a:br>
              <a:rPr sz="1400"/>
            </a:br>
            <a:r>
              <a:rPr b="0" lang="pl-PL" sz="1400" spc="-1" strike="noStrike">
                <a:solidFill>
                  <a:srgbClr val="000000"/>
                </a:solidFill>
                <a:latin typeface="Arial"/>
              </a:rPr>
              <a:t>w kierunku przygotowania przedsiębiorstw do funkcjonowania </a:t>
            </a:r>
            <a:br>
              <a:rPr sz="1400"/>
            </a:br>
            <a:r>
              <a:rPr b="0" lang="pl-PL" sz="1400" spc="-1" strike="noStrike">
                <a:solidFill>
                  <a:srgbClr val="000000"/>
                </a:solidFill>
                <a:latin typeface="Arial"/>
              </a:rPr>
              <a:t>w przyszłym okresie ożywienia gospodarczego i wypracowania strategii rozwoju, umożliwiającej podniesienie konkurencyjności i zapewnienie kontynuacji działalności gospodarcz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We wniosku należy wskazać cel, do jakiego dąży projektodawca zatrudniając wysoko wykwalifikowany personel.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instrukcji, która przyczyni się do lepszej organizacji </a:t>
            </a:r>
            <a:r>
              <a:rPr b="0" lang="pl-PL" sz="1400" spc="-1" strike="noStrike">
                <a:solidFill>
                  <a:srgbClr val="000000"/>
                </a:solidFill>
                <a:latin typeface="Arial"/>
              </a:rPr>
              <a:t>	</a:t>
            </a:r>
            <a:r>
              <a:rPr b="0" lang="pl-PL" sz="1400" spc="-1" strike="noStrike">
                <a:solidFill>
                  <a:srgbClr val="000000"/>
                </a:solidFill>
                <a:latin typeface="Arial"/>
              </a:rPr>
              <a:t>pracy, a tym samym większej efektywności i oszczędności;</a:t>
            </a:r>
            <a:endParaRPr b="0" lang="en-US" sz="1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technologii pozwalającej na zmianę profilu działalności;</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definiowanie nowych rynków świadczenia usług przez przedsiębiorstwo </a:t>
            </a:r>
            <a:br>
              <a:rPr sz="1400"/>
            </a:br>
            <a:r>
              <a:rPr b="0" lang="pl-PL" sz="1400" spc="-1" strike="noStrike">
                <a:solidFill>
                  <a:srgbClr val="000000"/>
                </a:solidFill>
                <a:latin typeface="Arial"/>
              </a:rPr>
              <a:t>	</a:t>
            </a:r>
            <a:r>
              <a:rPr b="0" lang="pl-PL" sz="1400" spc="-1" strike="noStrike">
                <a:solidFill>
                  <a:srgbClr val="000000"/>
                </a:solidFill>
                <a:latin typeface="Arial"/>
              </a:rPr>
              <a:t>i dostosowanie organizacji pracy pod tym kąte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ymbol zastępczy zawartości 2"/>
          <p:cNvSpPr/>
          <p:nvPr/>
        </p:nvSpPr>
        <p:spPr>
          <a:xfrm>
            <a:off x="428760" y="1571760"/>
            <a:ext cx="8229600" cy="4429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1.3 </a:t>
            </a:r>
            <a:r>
              <a:rPr b="1" lang="pl-PL" sz="2000" spc="-1" strike="noStrike">
                <a:solidFill>
                  <a:srgbClr val="000000"/>
                </a:solidFill>
                <a:latin typeface="Arial"/>
              </a:rPr>
              <a:t>Wzmacnianie lokalnego partnerstwa na rzecz adaptacyjności</a:t>
            </a:r>
            <a:endParaRPr b="0" lang="en-US" sz="2000" spc="-1" strike="noStrike">
              <a:solidFill>
                <a:srgbClr val="000000"/>
              </a:solidFill>
              <a:latin typeface="Arial"/>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3"/>
          <p:cNvSpPr/>
          <p:nvPr/>
        </p:nvSpPr>
        <p:spPr>
          <a:xfrm>
            <a:off x="642960" y="1143000"/>
            <a:ext cx="8001000" cy="74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ordyna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materiałów informacyjnych i promo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idei flexicurity w tere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arsztaty promocyjno-doszkalające w zakresie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arta publikacja promująca idee flexicutrity, obejmująca analizę 12 obszarów tematy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 opublikowanie wyników badań, na podstawie 1100 ankiet dotyczących świadomości oraz zainteresowania BO ideą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rona internetowa promująca idee flexicuri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świadomości w zakresie możliwości form bezpiecznego zatrudnienia wśród praco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motywacji pracobiorców do wydłużonej aktywnośc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poczucia odpowiedzialności przez pracodawców.</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440 090,6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3"/>
          <p:cNvSpPr/>
          <p:nvPr/>
        </p:nvSpPr>
        <p:spPr>
          <a:xfrm>
            <a:off x="1000080" y="1357200"/>
            <a:ext cx="7572600" cy="52376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Fexicurity – dobra praca dla większej liczby ludz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 </a:t>
            </a:r>
            <a:r>
              <a:rPr b="0" lang="pl-PL" sz="1400" spc="-1" strike="noStrike">
                <a:solidFill>
                  <a:srgbClr val="000000"/>
                </a:solidFill>
                <a:latin typeface="Arial"/>
              </a:rPr>
              <a:t>Północny Związek Pracodawcó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czerwca 2009</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0 maja 201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upowszechnienie wiedzy o elastycznych formach zatrudnienia, zwiększanie świadomości możliwości aktywności zawodowej pracobiorców i popularyzacja elastycznych form zatrudnienia wśród pracodawców </a:t>
            </a:r>
            <a:br>
              <a:rPr sz="1400"/>
            </a:br>
            <a:r>
              <a:rPr b="0" lang="pl-PL" sz="1400" spc="-1" strike="noStrike">
                <a:solidFill>
                  <a:srgbClr val="000000"/>
                </a:solidFill>
                <a:latin typeface="Arial"/>
              </a:rPr>
              <a:t>i pracobiorców województwa zachodniopomor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Projekt ma charakter informacyjno </a:t>
            </a:r>
            <a:br>
              <a:rPr sz="1400"/>
            </a:br>
            <a:r>
              <a:rPr b="0" lang="pl-PL" sz="1400" spc="-1" strike="noStrike">
                <a:solidFill>
                  <a:srgbClr val="000000"/>
                </a:solidFill>
                <a:latin typeface="Arial"/>
              </a:rPr>
              <a:t>– promocyjny. Głównymi odbiorcami są pracodawcy i pracobiorcy, ale także inne podmioty </a:t>
            </a:r>
            <a:br>
              <a:rPr sz="1400"/>
            </a:br>
            <a:r>
              <a:rPr b="0" lang="pl-PL" sz="1400" spc="-1" strike="noStrike">
                <a:solidFill>
                  <a:srgbClr val="000000"/>
                </a:solidFill>
                <a:latin typeface="Arial"/>
              </a:rPr>
              <a:t>i instytucje rynku pracy, jak również jednostki samorządu terytorial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9"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7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7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7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pracodawcy i pracownicy przedsiębiorst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racodaw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wiązki zawo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instytucje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społeczność lokal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ozarzą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4:34Z</dcterms:modified>
  <cp:revision>488</cp:revision>
  <dc:subject/>
  <dc:title>Slajd 1</dc:title>
</cp:coreProperties>
</file>