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63.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831E-38F4-46B4-9727-27677E041BC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D12F-659D-4403-9854-427CC4BE51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CDBB-BB8E-4E09-9BA7-7168E7EA6C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8.1.1/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 mar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odawca złożył maksymalnie jeden wniosek o dofinansowanie w ramach konkursu.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do 31 grudnia 2011 r.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a wartość projektu wynosi 400 tys. zł.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a:t>
            </a:r>
            <a:r>
              <a:rPr b="0" lang="pl-PL" sz="1400" spc="-1" strike="noStrike">
                <a:solidFill>
                  <a:srgbClr val="000000"/>
                </a:solidFill>
                <a:latin typeface="Arial"/>
              </a:rPr>
              <a:t>	</a:t>
            </a:r>
            <a:r>
              <a:rPr b="0" lang="pl-PL" sz="1400" spc="-1" strike="noStrike">
                <a:solidFill>
                  <a:srgbClr val="000000"/>
                </a:solidFill>
                <a:latin typeface="Arial"/>
              </a:rPr>
              <a:t>Wsparcie skierowane do pracujących osób dorosłych (powyżej 18. roku życia oraz z wyłączeniem osób fizycznych, prowadzących działalność gospodarczą) uczestniczących w kursach </a:t>
            </a:r>
            <a:br>
              <a:rPr sz="1400"/>
            </a:br>
            <a:r>
              <a:rPr b="0" lang="pl-PL" sz="1400" spc="-1" strike="noStrike">
                <a:solidFill>
                  <a:srgbClr val="000000"/>
                </a:solidFill>
                <a:latin typeface="Arial"/>
              </a:rPr>
              <a:t>i szkoleniach poza godzinami pracy, mających miejsce zamieszkania na terenie woj. Zachodniopomorskiego w rozumieniu przepisów Kodeksu Cywilnego.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214280"/>
            <a:ext cx="8229600" cy="4911840"/>
          </a:xfrm>
          <a:prstGeom prst="rect">
            <a:avLst/>
          </a:prstGeom>
          <a:noFill/>
          <a:ln w="0">
            <a:noFill/>
          </a:ln>
        </p:spPr>
        <p:txBody>
          <a:bodyPr anchor="t">
            <a:normAutofit fontScale="93000"/>
          </a:bodyPr>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zapewnia szkolenia dostosowane do określonych potrzeb pracowników lub umożliwiające zatrudnienie, w branżach uznanych za priorytetowe dla rozwoju województwa, a określonych </a:t>
            </a:r>
            <a:br>
              <a:rPr sz="1400"/>
            </a:br>
            <a:r>
              <a:rPr b="0" lang="pl-PL" sz="1400" spc="-1" strike="noStrike">
                <a:solidFill>
                  <a:srgbClr val="000000"/>
                </a:solidFill>
                <a:latin typeface="Arial"/>
              </a:rPr>
              <a:t>w RSI m.in. związanych z sektorem usług turystycznych, transportowo-logistycznych, przetwórstwa rolno-spożywczego, przemysłu drzewno meblarskiego, chemicznego, poligraficznego, komputerowego oraz ICT.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Waga punktowa: 10 </a:t>
            </a: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zapewnia szkolenia przyczyniające się do uzyskania uprawnień zawodowych, licencji zawodowych, kwalifikacji potwierdzonych formalnym dokumentem lub certyfikatów nabytych </a:t>
            </a:r>
            <a:br>
              <a:rPr sz="1400"/>
            </a:br>
            <a:r>
              <a:rPr b="0" lang="pl-PL" sz="1400" spc="-1" strike="noStrike">
                <a:solidFill>
                  <a:srgbClr val="000000"/>
                </a:solidFill>
                <a:latin typeface="Arial"/>
              </a:rPr>
              <a:t>na podstawie egzaminów przeprowadzanych przez akredytowane instytucje.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i="1" lang="pl-PL" sz="1400" spc="-1" strike="noStrike">
                <a:solidFill>
                  <a:srgbClr val="000000"/>
                </a:solidFill>
                <a:latin typeface="Arial"/>
              </a:rPr>
              <a:t>Waga punktowa: 10 </a:t>
            </a:r>
            <a:endParaRPr b="0" lang="en-US" sz="1400" spc="-1" strike="noStrike">
              <a:solidFill>
                <a:srgbClr val="000000"/>
              </a:solidFill>
              <a:latin typeface="Tahoma"/>
            </a:endParaRPr>
          </a:p>
          <a:p>
            <a:pPr marL="318960" indent="-31896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18960" indent="-318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a:t>
            </a:r>
            <a:r>
              <a:rPr b="1" lang="pl-PL" sz="1400" spc="-1" strike="noStrike">
                <a:solidFill>
                  <a:srgbClr val="000000"/>
                </a:solidFill>
                <a:latin typeface="Arial"/>
              </a:rPr>
              <a:t>	</a:t>
            </a:r>
            <a:r>
              <a:rPr b="0" lang="pl-PL" sz="1400" spc="-1" strike="noStrike">
                <a:solidFill>
                  <a:srgbClr val="000000"/>
                </a:solidFill>
                <a:latin typeface="Arial"/>
              </a:rPr>
              <a:t>Grupę docelową w projekcie w co najmniej 40% stanowią pracownicy powyżej 45 r. ż.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Waga punktowa: 10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ę docelową w projekcie w co najmniej 20% stanowią osoby niepełnosprawne oraz szkolenia zostały dopasowane do szczególnych potrzeb tych pracowników, co zostało wykazane </a:t>
            </a:r>
            <a:br>
              <a:rPr sz="1400"/>
            </a:br>
            <a:r>
              <a:rPr b="0" lang="pl-PL" sz="1400" spc="-1" strike="noStrike">
                <a:solidFill>
                  <a:srgbClr val="000000"/>
                </a:solidFill>
                <a:latin typeface="Arial"/>
              </a:rPr>
              <a:t>we wniosku o dofinansowan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Waga punktowa: 10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odniesieniu do przedmiotowego konkursu, co do zasady realizacja projektów nie powinna wiązać się z udzielaniem pomocy publicznej.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a:t>
            </a:r>
            <a:r>
              <a:rPr b="0" lang="pl-PL" sz="1400" spc="-1" strike="noStrike">
                <a:solidFill>
                  <a:srgbClr val="000000"/>
                </a:solidFill>
                <a:latin typeface="Tahoma"/>
              </a:rPr>
              <a:t>celu wykluczenia występowania pomocy publicznej, </a:t>
            </a:r>
            <a:r>
              <a:rPr b="1" i="1" lang="pl-PL" sz="1400" spc="-1" strike="noStrike">
                <a:solidFill>
                  <a:srgbClr val="000000"/>
                </a:solidFill>
                <a:latin typeface="Tahoma"/>
              </a:rPr>
              <a:t>muszą być spełnione łącznie następujące warunki: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1.   wszystkie podmioty biorące udział w realizacji projektu są niezależne od pracodawcy uczestnika szkolenia; </a:t>
            </a: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szkolenie odbywa się poza miejscem pracy uczestników;</a:t>
            </a:r>
            <a:endParaRPr b="0" lang="en-US" sz="1400" spc="-1" strike="noStrike">
              <a:solidFill>
                <a:srgbClr val="000000"/>
              </a:solidFill>
              <a:latin typeface="Tahoma"/>
            </a:endParaRPr>
          </a:p>
          <a:p>
            <a:pPr marL="343080" indent="-343080" algn="just">
              <a:spcBef>
                <a:spcPts val="349"/>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nabór na szkolenie jest otwarty dla wszystkich zainteresowanych;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4.</a:t>
            </a:r>
            <a:r>
              <a:rPr b="0" lang="pl-PL" sz="1400" spc="-1" strike="noStrike">
                <a:solidFill>
                  <a:srgbClr val="000000"/>
                </a:solidFill>
                <a:latin typeface="Tahoma"/>
              </a:rPr>
              <a:t>	</a:t>
            </a:r>
            <a:r>
              <a:rPr b="0" lang="pl-PL" sz="1400" spc="-1" strike="noStrike">
                <a:solidFill>
                  <a:srgbClr val="000000"/>
                </a:solidFill>
                <a:latin typeface="Tahoma"/>
              </a:rPr>
              <a:t>pracownicy zatrudnieni w jednym miejscu pracy (u jednego pracodawcy) stanowią nie więcej niż 20% uczestników jednego szkolenia realizowanego w ramach tego samego projektu.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Spełnienie powyższych warunków jest niezbędne również w celu spełnienia kryterium zgodności ze </a:t>
            </a:r>
            <a:r>
              <a:rPr b="0" i="1" lang="pl-PL" sz="1400" spc="-1" strike="noStrike">
                <a:solidFill>
                  <a:srgbClr val="000000"/>
                </a:solidFill>
                <a:latin typeface="Tahoma"/>
              </a:rPr>
              <a:t>Szczegółowym Opisem Priorytetów Programu Operacyjnego Kapitał Ludzki. </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6"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1.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8.1.1/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8"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3"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4" descr=""/>
          <p:cNvPicPr/>
          <p:nvPr/>
        </p:nvPicPr>
        <p:blipFill>
          <a:blip r:embed="rId1"/>
          <a:stretch/>
        </p:blipFill>
        <p:spPr>
          <a:xfrm>
            <a:off x="706320" y="1639800"/>
            <a:ext cx="77551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3"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6"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8.1.1/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7"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IZ PO KL </a:t>
            </a:r>
            <a:r>
              <a:rPr b="1" lang="pl-PL" sz="1400" spc="-1" strike="noStrike">
                <a:solidFill>
                  <a:srgbClr val="000000"/>
                </a:solidFill>
                <a:latin typeface="Arial"/>
                <a:ea typeface="Arial"/>
              </a:rPr>
              <a:t>od 2010 roku będzie zwiększać ilość pozytywnych odpowiedzi wymaganych</a:t>
            </a:r>
            <a:br>
              <a:rPr sz="1400"/>
            </a:br>
            <a:r>
              <a:rPr b="0" lang="pl-PL" sz="1400" spc="-1" strike="noStrike">
                <a:solidFill>
                  <a:srgbClr val="000000"/>
                </a:solidFill>
                <a:latin typeface="Arial"/>
                <a:ea typeface="Arial"/>
              </a:rPr>
              <a:t>do spełnienia standardu minim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1"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Arial"/>
              </a:rPr>
              <a:t>Konkurs nr 1/8.1.1/10 jest </a:t>
            </a:r>
            <a:r>
              <a:rPr b="1" lang="pl-PL" sz="1600" spc="-1" strike="noStrike" u="sng">
                <a:solidFill>
                  <a:srgbClr val="ff0000"/>
                </a:solidFill>
                <a:uFillTx/>
                <a:latin typeface="Arial"/>
              </a:rPr>
              <a:t>konkursem zamkniętym</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 konkursie zamkniętym określa się z góry jeden określony termin naboru wniosków.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Wnioski o dofinansowanie projektu można składać osobiście, kurierem lub pocztą</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o Wojewódzkiego Urzędu Pracy</a:t>
            </a:r>
            <a:endParaRPr b="0" lang="en-US" sz="1600" spc="-1" strike="noStrike">
              <a:solidFill>
                <a:srgbClr val="000000"/>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	</a:t>
            </a:r>
            <a:r>
              <a:rPr b="1" lang="pl-PL" sz="1600" spc="-1" strike="noStrike">
                <a:solidFill>
                  <a:srgbClr val="ff0000"/>
                </a:solidFill>
                <a:latin typeface="Arial"/>
              </a:rPr>
              <a:t>	</a:t>
            </a:r>
            <a:r>
              <a:rPr b="1" lang="pl-PL" sz="1600" spc="-1" strike="noStrike">
                <a:solidFill>
                  <a:srgbClr val="ff0000"/>
                </a:solidFill>
                <a:latin typeface="Arial"/>
              </a:rPr>
              <a:t>	</a:t>
            </a:r>
            <a:r>
              <a:rPr b="1" lang="pl-PL" sz="1600" spc="-1" strike="noStrike">
                <a:solidFill>
                  <a:srgbClr val="ff0000"/>
                </a:solidFill>
                <a:latin typeface="Arial"/>
              </a:rPr>
              <a:t>Od dnia 24 lutego 2010 r., do dnia 7 kwietnia 2010 r.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ecyduje data wpływu wniosku do Wojewódzkiego Urzędu Pracy)</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000000"/>
                </a:solidFill>
                <a:uFillTx/>
                <a:latin typeface="Arial"/>
              </a:rPr>
              <a:t>w godzinach od 9.00 do 15.00</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rPr>
              <a:t>Szczecin - pokój nr 211 </a:t>
            </a:r>
            <a:endParaRPr b="0" lang="en-US" sz="1600" spc="-1" strike="noStrike">
              <a:solidFill>
                <a:srgbClr val="000000"/>
              </a:solidFill>
              <a:latin typeface="Tahoma"/>
            </a:endParaRPr>
          </a:p>
          <a:p>
            <a:pPr marL="343080" indent="-343080"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Arial"/>
              </a:rPr>
              <a:t>Koszalin – pokój 25</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1 Uzasadnienie potrzeby realizacji projektu:</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kompleksowości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poprawnie sformułowane cele, niezgodne z Podziałaniem, nie wynikające </a:t>
            </a:r>
            <a:br>
              <a:rPr sz="1600"/>
            </a:br>
            <a:r>
              <a:rPr b="0" lang="pl-PL" sz="1600" spc="-1" strike="noStrike">
                <a:solidFill>
                  <a:srgbClr val="000000"/>
                </a:solidFill>
                <a:latin typeface="Arial"/>
                <a:ea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rzetelnej diagnozy i uzasadnienia potrzeby realizacji projektu, opartych </a:t>
            </a:r>
            <a:br>
              <a:rPr sz="1600"/>
            </a:br>
            <a:r>
              <a:rPr b="0" lang="pl-PL" sz="1600" spc="-1" strike="noStrike">
                <a:solidFill>
                  <a:srgbClr val="000000"/>
                </a:solidFill>
                <a:latin typeface="Arial"/>
                <a:ea typeface="Arial"/>
              </a:rPr>
              <a:t>na weryfikowalnych da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dniesień diagnozy do wskazanych problemów w kontekście lokalnego rynku pracy oraz grupy docelowej (dorosłych osób pracujących), którą wnioskodawca zamierza objąć wsparci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wykazania korelacji pomiędzy zidentyfikowanym problemem, a planowanym wsparci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Konieczne jest wykazanie, iż w przypadku objęcia wsparciem pracowników przedsiębiorstw zostaną spełnione warunki pozwalające na wykluczenie udzielania pomocy publicznej.</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42600" y="1214280"/>
            <a:ext cx="8002440" cy="4911840"/>
          </a:xfrm>
          <a:prstGeom prst="rect">
            <a:avLst/>
          </a:prstGeom>
          <a:noFill/>
          <a:ln w="0">
            <a:noFill/>
          </a:ln>
        </p:spPr>
        <p:txBody>
          <a:bodyPr anchor="t">
            <a:normAutofit/>
          </a:bodyPr>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2 Grupy docelowe projektu:</a:t>
            </a:r>
            <a:endParaRPr b="0" lang="en-US" sz="1600" spc="-1" strike="noStrike">
              <a:solidFill>
                <a:srgbClr val="000000"/>
              </a:solidFill>
              <a:latin typeface="Tahoma"/>
            </a:endParaRPr>
          </a:p>
          <a:p>
            <a:pPr marL="266760" indent="-2667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grupa przedstawiona w sposób ogólny, niedostosowany do realizowanego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wystarczający opis rekrutacji;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kryteriów selekcji na wypadek większej liczby chętnych niż przewidzianych miejsc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grupy z realizowanym typ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liczebności grupy.</a:t>
            </a:r>
            <a:endParaRPr b="0" lang="en-US" sz="1600" spc="-1" strike="noStrike">
              <a:solidFill>
                <a:srgbClr val="000000"/>
              </a:solidFill>
              <a:latin typeface="Tahoma"/>
            </a:endParaRPr>
          </a:p>
          <a:p>
            <a:pPr marL="266760" indent="-266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42600" y="121428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3 Działania:</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opis działań, bez wskazania terminów realizacji, miejsca realizacji, osób odpowiedzial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na temat organizacji planowanych form wsparcia, np. częstotliwość szkoleń, godziny szkole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zakresie merytorycznym planowanych form wsparcia, np. główne punkty programu szkolenia, możliwe do uzyskania uprawnienia po szkoleni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wymiarze etatów zarówno kadry projektu, jak i kadry merytorycznej.</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4 Rezultaty projektu:</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rozróżnienia na produkty, rezultaty twarde i rezultaty miękk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określenia wskaźników rezultatu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wskazujących na trwałość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doprecyzowany sposób monitorowania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czy rezultaty wskazują na osiągnięcie cel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3.5 Potencjał wnioskodawcy i sposób zarządzania projektem:</a:t>
            </a: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metod i technik zarządzania oraz informacji na temat kwalifikacji osób pełniących kluczowe rol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jasny podział obowiązków i struktury zespołu projektowego;</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proponowanej ilości osób w zespole projektowy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niespójność danych dotyczących posiadanego zaplecza technicznego </a:t>
            </a:r>
            <a:br>
              <a:rPr sz="1600"/>
            </a:br>
            <a:r>
              <a:rPr b="0" lang="pl-PL" sz="1600" spc="-1" strike="noStrike">
                <a:solidFill>
                  <a:srgbClr val="000000"/>
                </a:solidFill>
                <a:latin typeface="Arial"/>
                <a:ea typeface="Arial"/>
              </a:rPr>
              <a:t>z planowanymi wydatkami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ogólny, zdawkowy opis roli partner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informacji o podwykonawcach usług zleconych (jeśli występuj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IV Wydatk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łędne przyporządkowanie kosztów finansowanych w ramach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proponowanych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brak uzasadnienia dla bardzo wysokich stawek wynagrodzeń, np. trenerów, wykładowców, zakupu sprzę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II </a:t>
            </a:r>
            <a:r>
              <a:rPr b="1" i="1" lang="pl-PL" sz="2000" spc="-1" strike="noStrike">
                <a:solidFill>
                  <a:srgbClr val="000000"/>
                </a:solidFill>
                <a:latin typeface="Arial"/>
              </a:rPr>
              <a:t>Regionalne kadry gospodarki</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Poddziałanie 8.1.1 </a:t>
            </a:r>
            <a:r>
              <a:rPr b="1" lang="pl-PL" sz="2000" spc="-1" strike="noStrike">
                <a:solidFill>
                  <a:srgbClr val="000000"/>
                </a:solidFill>
                <a:latin typeface="Arial"/>
              </a:rPr>
              <a:t>Wspieranie rozwoju kwalifikacji zawodowych i doradztwo dla przedsiębiorstw</a:t>
            </a:r>
            <a:endParaRPr b="0" lang="en-US" sz="2000" spc="-1" strike="noStrike">
              <a:solidFill>
                <a:srgbClr val="000000"/>
              </a:solidFill>
              <a:latin typeface="Tahoma"/>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rostokąt 3"/>
          <p:cNvSpPr/>
          <p:nvPr/>
        </p:nvSpPr>
        <p:spPr>
          <a:xfrm>
            <a:off x="1000080" y="1357200"/>
            <a:ext cx="7572600" cy="5360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1" i="1" lang="pl-PL" sz="1400" spc="-1" strike="noStrike" u="sng">
                <a:solidFill>
                  <a:srgbClr val="000000"/>
                </a:solidFill>
                <a:uFillTx/>
                <a:latin typeface="Arial"/>
              </a:rPr>
              <a:t>Kadry nowoczesnej eGospodarki </a:t>
            </a:r>
            <a:br>
              <a:rPr sz="1400"/>
            </a:br>
            <a:r>
              <a:rPr b="1" i="1" lang="pl-PL" sz="1400" spc="-1" strike="noStrike" u="sng">
                <a:solidFill>
                  <a:srgbClr val="000000"/>
                </a:solidFill>
                <a:uFillTx/>
                <a:latin typeface="Arial"/>
              </a:rPr>
              <a:t>– Autoryzowany Administrator Systemów Informatycznyc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UNIZETO TECHNOLOGIES S.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RTNER:</a:t>
            </a:r>
            <a:r>
              <a:rPr b="0" lang="pl-PL" sz="1400" spc="-1" strike="noStrike">
                <a:solidFill>
                  <a:srgbClr val="000000"/>
                </a:solidFill>
                <a:latin typeface="Arial"/>
              </a:rPr>
              <a:t> SZCZECIŃSKI PARK NAUKOWO – TECHNOLOGICZNY SP. Z O. 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7.2008 – 31.12.20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podniesienie kwalifikacji osób pracujących, które z własnej inicjatywy chcą brać udział w projekcie a zarazem dostosować swoje umiejętności do potrzeb regionalnej gospodarki, funkcjonującej w warunkach społeczeństwa informacyjnego, świadomego, umiejącego zdobywać, wykorzystywać i przetwarzać wiedzę.</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48 osób posiadających co najmniej podstawową wiedzę informatyczną na temat funkcjonowania sieci komputerowych, z własnej inicjatywy zainteresowanych podnoszeniem swoich kwalifikacji w tym zakresie i ich międzynarodową certyfikacją; osoby dorosłe, zameldowane na terenie województwa zachodniopomorski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rostokąt 3"/>
          <p:cNvSpPr/>
          <p:nvPr/>
        </p:nvSpPr>
        <p:spPr>
          <a:xfrm>
            <a:off x="971640" y="1125360"/>
            <a:ext cx="757224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rządzanie projekt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rekrutacja i obsługa beneficjentów ostatecz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ADMINISTRATOR SYSTEMU POCZTOWEGO, ADMINISTRATOR SYSTEMU BEZPIECZEŃSTWA, ZARZĄDZANIE PROJEKTAMI INFORMATYCZNYM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48 – liczba osób pracujących, które z własnej inicjatywy podniosły swoje kwalifikacje zawodowe z zakresu zaawansowanych rozwiązań Technologii Informacyjno </a:t>
            </a:r>
            <a:br>
              <a:rPr sz="1400"/>
            </a:br>
            <a:r>
              <a:rPr b="0" lang="pl-PL" sz="1400" spc="-1" strike="noStrike">
                <a:solidFill>
                  <a:srgbClr val="000000"/>
                </a:solidFill>
                <a:latin typeface="Arial"/>
              </a:rPr>
              <a:t>– Komunikacyjny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60% osób, które certyfikowały swoje umiejętnośc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0% osób, które otrzymały specjalistyczne oprogramowan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3 – liczba osób, które po zdaniu egzaminu trenerskiego nawiążą współpracę w zakresie usług trenerskich;</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2 – liczba osób, które otrzymają zlecenia na prowadzenie szkolenia w region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zrost wiedzy i umiejętności w zakresie zarządzania sieciami, systemami informatycznymi </a:t>
            </a:r>
            <a:br>
              <a:rPr sz="1400"/>
            </a:br>
            <a:r>
              <a:rPr b="0" lang="pl-PL" sz="1400" spc="-1" strike="noStrike">
                <a:solidFill>
                  <a:srgbClr val="000000"/>
                </a:solidFill>
                <a:latin typeface="Arial"/>
              </a:rPr>
              <a:t>i ich usług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zrost możliwości zatrudnienia na stanowiskach informatycznych o zróżnicowanej charakterystyce zadań i obowiązk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większenie samooceny i świadomości w zakresie korzyści płynących z kształc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a:t>
            </a:r>
            <a:r>
              <a:rPr b="0" lang="pl-PL" sz="1400" spc="-1" strike="noStrike">
                <a:solidFill>
                  <a:srgbClr val="000000"/>
                </a:solidFill>
                <a:latin typeface="Arial"/>
              </a:rPr>
              <a:t>1 150 394,38 zł</a:t>
            </a:r>
            <a:endParaRPr b="0" lang="en-US" sz="1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12 000 000,00 zł </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10 200 000,00 zł </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a:t>
            </a:r>
            <a:r>
              <a:rPr b="1" lang="pl-PL" sz="1600" spc="-1" strike="noStrike">
                <a:solidFill>
                  <a:srgbClr val="ff0000"/>
                </a:solidFill>
                <a:latin typeface="Arial"/>
              </a:rPr>
              <a:t>1 800 000,00 zł </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rostokąt 3"/>
          <p:cNvSpPr/>
          <p:nvPr/>
        </p:nvSpPr>
        <p:spPr>
          <a:xfrm>
            <a:off x="1000080" y="1357200"/>
            <a:ext cx="7572600" cy="49035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t>
            </a:r>
            <a:r>
              <a:rPr b="1" i="1" lang="pl-PL" sz="1400" spc="-1" strike="noStrike" u="sng">
                <a:solidFill>
                  <a:srgbClr val="000000"/>
                </a:solidFill>
                <a:uFillTx/>
                <a:latin typeface="Arial"/>
              </a:rPr>
              <a:t>Akademia Dobrego Rzemiosł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WOJEWÓDZKI ZAKŁAD DOSKONALENIA ZAWODOWEGO </a:t>
            </a:r>
            <a:br>
              <a:rPr sz="1400"/>
            </a:br>
            <a:r>
              <a:rPr b="0" lang="pl-PL" sz="1400" spc="-1" strike="noStrike">
                <a:solidFill>
                  <a:srgbClr val="000000"/>
                </a:solidFill>
                <a:latin typeface="Arial"/>
              </a:rPr>
              <a:t>W SZCZECIN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ARTNER:</a:t>
            </a:r>
            <a:r>
              <a:rPr b="0" lang="pl-PL" sz="1400" spc="-1" strike="noStrike">
                <a:solidFill>
                  <a:srgbClr val="000000"/>
                </a:solidFill>
                <a:latin typeface="Arial"/>
              </a:rPr>
              <a:t> PÓŁNOCNA IZBA GOSPODARCZ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01.08.2008 – 31.12.2009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 </a:t>
            </a:r>
            <a:r>
              <a:rPr b="0" lang="pl-PL" sz="1400" spc="-1" strike="noStrike">
                <a:solidFill>
                  <a:srgbClr val="000000"/>
                </a:solidFill>
                <a:latin typeface="Arial"/>
              </a:rPr>
              <a:t>zapewnienie, podwyższanie lub uzupełnianie kwalifikacji budowlanych </a:t>
            </a:r>
            <a:br>
              <a:rPr sz="1400"/>
            </a:br>
            <a:r>
              <a:rPr b="0" lang="pl-PL" sz="1400" spc="-1" strike="noStrike">
                <a:solidFill>
                  <a:srgbClr val="000000"/>
                </a:solidFill>
                <a:latin typeface="Arial"/>
              </a:rPr>
              <a:t>w szczególności u osób o niskich lub zdezaktualizowanych kwalifikacjach, co przyczyni się </a:t>
            </a:r>
            <a:br>
              <a:rPr sz="1400"/>
            </a:br>
            <a:r>
              <a:rPr b="0" lang="pl-PL" sz="1400" spc="-1" strike="noStrike">
                <a:solidFill>
                  <a:srgbClr val="000000"/>
                </a:solidFill>
                <a:latin typeface="Arial"/>
              </a:rPr>
              <a:t>do lepszego przygotowania zawodowego tychże osób do potrzeb ze strony firm budowlanych, </a:t>
            </a:r>
            <a:br>
              <a:rPr sz="1400"/>
            </a:br>
            <a:r>
              <a:rPr b="0" lang="pl-PL" sz="1400" spc="-1" strike="noStrike">
                <a:solidFill>
                  <a:srgbClr val="000000"/>
                </a:solidFill>
                <a:latin typeface="Arial"/>
              </a:rPr>
              <a:t>a tym samym zwiększy ich wartość pod kątem możliwości na zachodniopomorskim rynku pra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 </a:t>
            </a:r>
            <a:r>
              <a:rPr b="0" lang="pl-PL" sz="1400" spc="-1" strike="noStrike">
                <a:solidFill>
                  <a:srgbClr val="000000"/>
                </a:solidFill>
                <a:latin typeface="Arial"/>
              </a:rPr>
              <a:t>70 osób pracujących, które </a:t>
            </a:r>
            <a:br>
              <a:rPr sz="1400"/>
            </a:br>
            <a:r>
              <a:rPr b="0" lang="pl-PL" sz="1400" spc="-1" strike="noStrike">
                <a:solidFill>
                  <a:srgbClr val="000000"/>
                </a:solidFill>
                <a:latin typeface="Arial"/>
              </a:rPr>
              <a:t>są zainteresowane podwyższaniem swoich kwalifikacji zawodowych; osoby z wykształceniem co najwyżej średnim, zamieszkałe w województwie zachodniopomorski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rostokąt 3"/>
          <p:cNvSpPr/>
          <p:nvPr/>
        </p:nvSpPr>
        <p:spPr>
          <a:xfrm>
            <a:off x="971640" y="1125360"/>
            <a:ext cx="757224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A (Najważniejsze elementy projekt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rządzanie projektem;</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omocja projektu i organizacja administracyjn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krutacja;</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zkolenia: CIEŚLA, GLAZURNIK, MONTER INSTALACJI ELEKTRYCZNYCH, TECHNOLOG ROBÓT WYKOŃCZENIOWYCH, MONTER INSTALACJI WODNO </a:t>
            </a:r>
            <a:br>
              <a:rPr sz="1400"/>
            </a:br>
            <a:r>
              <a:rPr b="0" lang="pl-PL" sz="1400" spc="-1" strike="noStrike">
                <a:solidFill>
                  <a:srgbClr val="000000"/>
                </a:solidFill>
                <a:latin typeface="Arial"/>
              </a:rPr>
              <a:t>– KANALIZACYJNYCH I C.O., MURARZ.</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zeszkolenie 70 osób;</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zyskanie przez 70 osób tytułu czeladnika w zawodzie lub / i uprawnień do wykonywania zawodu;</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nie publikacji z dobrymi praktykami ze szkol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niesienie kwalifikacji beneficjentów w zawodach objętych szkoleniam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uzyskanie przez beneficjentów wiedzy teoretycznej i praktycznej z zakresu dokumentacji technicznej, maszynoznastwa, materiałoznastwa, zasad organizacji pracy i technologii robót oraz wiedzę ogólną z zakresu podstaw bhp i ochrony środowiska, prawa pracy </a:t>
            </a:r>
            <a:br>
              <a:rPr sz="1400"/>
            </a:br>
            <a:r>
              <a:rPr b="0" lang="pl-PL" sz="1400" spc="-1" strike="noStrike">
                <a:solidFill>
                  <a:srgbClr val="000000"/>
                </a:solidFill>
                <a:latin typeface="Arial"/>
              </a:rPr>
              <a:t>i korespondencji zawodowej;</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pracowanie nowatorskiej formuły szkoleń w oparciu o współpracę ze specjalistami </a:t>
            </a:r>
            <a:br>
              <a:rPr sz="1400"/>
            </a:br>
            <a:r>
              <a:rPr b="0" lang="pl-PL" sz="1400" spc="-1" strike="noStrike">
                <a:solidFill>
                  <a:srgbClr val="000000"/>
                </a:solidFill>
                <a:latin typeface="Arial"/>
              </a:rPr>
              <a:t>z branży budowlanej.</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a:t>
            </a:r>
            <a:r>
              <a:rPr b="0" lang="pl-PL" sz="1400" spc="-1" strike="noStrike">
                <a:solidFill>
                  <a:srgbClr val="000000"/>
                </a:solidFill>
                <a:latin typeface="Arial"/>
              </a:rPr>
              <a:t>974 340 zł</a:t>
            </a:r>
            <a:endParaRPr b="0" lang="en-US" sz="1400" spc="-1" strike="noStrike">
              <a:solidFill>
                <a:srgbClr val="000000"/>
              </a:solidFill>
              <a:latin typeface="Arial"/>
            </a:endParaRPr>
          </a:p>
        </p:txBody>
      </p:sp>
    </p:spTree>
  </p:cSld>
  <p:transition>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4"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6"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7"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0"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Szkolenia, kursy i poradnictwo zawodowe (jako działanie uzupełniające do szkoleń i kursów) skierowane do dorosłych osób pracujących, które z własnej inicjatywy są zainteresowane nabyciem nowych, uzupełnieniem lub podwyższaniem kwalifikacji i umiejętności (poza godzinami pracy), w szczególności dla osób zatrudnionych o niskich lub zdezaktualizowanych kwalifikacjach (z wyłączeniem kształcenia ustawicznego w formach szkolnych realizowanego </a:t>
            </a:r>
            <a:br>
              <a:rPr sz="1400"/>
            </a:br>
            <a:r>
              <a:rPr b="0" lang="pl-PL" sz="1400" spc="-1" strike="noStrike">
                <a:solidFill>
                  <a:srgbClr val="000000"/>
                </a:solidFill>
                <a:latin typeface="Arial"/>
              </a:rPr>
              <a:t>w szkołach dla dorosłych).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	</a:t>
            </a:r>
            <a:r>
              <a:rPr b="0" lang="pl-PL" sz="1400" spc="-1" strike="noStrike">
                <a:solidFill>
                  <a:srgbClr val="000000"/>
                </a:solidFill>
                <a:latin typeface="Arial"/>
              </a:rPr>
              <a:t>pracujące osoby dorosłe (powyżej 18. roku życia oraz z wyłączeniem osób fizycznych prowadzących działalność gospodarczą) uczestniczące w szkoleniach i kursach poza godzinami prac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Podmioty uprawnione do ubiegania się o dofinansowanie projektu:</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 dofinansowanie projektu mogą ubiegać się: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przedsiębiorcy wykonujący działalność gospodarczą w zakresie szkoleń;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osoby prawne, które zgodnie ze statutem prowadzą działalność szkoleniową;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osoby fizyczne prowadzące działalność oświatową, z zastrzeżeniem pkt. 1.2.2. </a:t>
            </a: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3-12T12:29:41Z</dcterms:modified>
  <cp:revision>503</cp:revision>
  <dc:subject/>
  <dc:title>Slajd 1</dc:title>
</cp:coreProperties>
</file>