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6.xml.rels" ContentType="application/vnd.openxmlformats-package.relationships+xml"/>
  <Override PartName="/ppt/notesSlides/_rels/notesSlide64.xml.rels" ContentType="application/vnd.openxmlformats-package.relationships+xml"/>
  <Override PartName="/ppt/notesSlides/notesSlide64.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E5D3-F08B-4980-B304-FC355F61F69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62E3-BC27-432B-A033-B3FD380B37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D1D2-168F-457C-A20F-E9A0268573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7.2.2/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9 marc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071360"/>
            <a:ext cx="8229600" cy="5429160"/>
          </a:xfrm>
          <a:prstGeom prst="rect">
            <a:avLst/>
          </a:prstGeom>
          <a:noFill/>
          <a:ln w="0">
            <a:noFill/>
          </a:ln>
        </p:spPr>
        <p:txBody>
          <a:bodyPr anchor="t">
            <a:normAutofit fontScale="74000"/>
          </a:bodyPr>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zapewnia wykorzystanie dobrych praktyk wypracowanych na podstawie zwalidowanych rezultatów PIW EQUAL</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realizowany na obszarze gmin lub skierowany do mieszkańców gmin wymienionych </a:t>
            </a:r>
            <a:br>
              <a:rPr sz="1400"/>
            </a:br>
            <a:r>
              <a:rPr b="0" lang="pl-PL" sz="1400" spc="-1" strike="noStrike">
                <a:solidFill>
                  <a:srgbClr val="000000"/>
                </a:solidFill>
                <a:latin typeface="Arial"/>
                <a:ea typeface="Arial"/>
              </a:rPr>
              <a:t>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uwzględniana dostosowanie budynków instytucji sektora ekonomii społecznej (w których realizowane będzie wsparcie w ramach projektu) do potrzeb osób niepełnosprawnych w ramach cross-financingu.</a:t>
            </a:r>
            <a:endParaRPr b="0" lang="en-US" sz="1400" spc="-1" strike="noStrike">
              <a:solidFill>
                <a:srgbClr val="000000"/>
              </a:solidFill>
              <a:latin typeface="Tahoma"/>
            </a:endParaRPr>
          </a:p>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5 </a:t>
            </a:r>
            <a:endParaRPr b="0" lang="en-US" sz="1400" spc="-1" strike="noStrike">
              <a:solidFill>
                <a:srgbClr val="000000"/>
              </a:solidFill>
              <a:latin typeface="Tahoma"/>
            </a:endParaRPr>
          </a:p>
          <a:p>
            <a:pPr lvl="1" marL="549720" indent="-2113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w projekcie stanowią osoby mające miejsce zamieszkania na terenie gmin wiejskich, miejsko-wiejskich oraz miast do 25 tys. mieszkańców z terenu województwa zachodniopomorskiego w rozumieniu przepisów Kodeksu Cywilnego oraz podmioty działające </a:t>
            </a:r>
            <a:br>
              <a:rPr sz="1400"/>
            </a:br>
            <a:r>
              <a:rPr b="0" lang="pl-PL" sz="1400" spc="-1" strike="noStrike">
                <a:solidFill>
                  <a:srgbClr val="000000"/>
                </a:solidFill>
                <a:latin typeface="Arial"/>
                <a:ea typeface="Arial"/>
              </a:rPr>
              <a:t>na tych terenach.</a:t>
            </a:r>
            <a:endParaRPr b="0" lang="en-US" sz="1400" spc="-1" strike="noStrike">
              <a:solidFill>
                <a:srgbClr val="000000"/>
              </a:solidFill>
              <a:latin typeface="Tahoma"/>
            </a:endParaRPr>
          </a:p>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5 </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53800" indent="-253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ramach Poddziałania 7.2.2 może wystąpić pomoc publiczna w następujących formach wsparc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radztwo (indywidualne i grupowe, m.in. w postaci punktów lub centrów doradztwa, inkubatorów społecznej przedsiębiorczości tworzących wspólna infrastrukturę rozwoju) dla podmiotów ekonomii społeczn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usługi prawne, księgowe i marketingowe dla podmiotów ekonomii społecznej,</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Generator Wniosków Aplikacyjnych</a:t>
            </a:r>
            <a:r>
              <a:rPr b="0" lang="pl-PL" sz="1400" spc="-1" strike="noStrike">
                <a:solidFill>
                  <a:srgbClr val="000000"/>
                </a:solidFill>
                <a:latin typeface="Arial"/>
              </a:rPr>
              <a:t> 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ostępny jest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a:t>
            </a:r>
            <a:r>
              <a:rPr b="0" lang="pl-PL" sz="1400" spc="-1" strike="noStrike">
                <a:solidFill>
                  <a:srgbClr val="000000"/>
                </a:solidFill>
                <a:latin typeface="Arial"/>
              </a:rPr>
              <a:t>oraz </a:t>
            </a:r>
            <a:r>
              <a:rPr b="0" lang="pl-PL" sz="1400" spc="-1" strike="noStrike" u="sng">
                <a:solidFill>
                  <a:srgbClr val="ff0000"/>
                </a:solidFill>
                <a:uFillTx/>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a:t>
            </a:r>
            <a:br>
              <a:rPr sz="1400"/>
            </a:br>
            <a:r>
              <a:rPr b="0" lang="pl-PL" sz="1400" spc="-1" strike="noStrike">
                <a:solidFill>
                  <a:srgbClr val="000000"/>
                </a:solidFill>
                <a:latin typeface="Arial"/>
              </a:rPr>
              <a:t>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2 egzemplarze papierowe</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a:t>
            </a:r>
            <a:br>
              <a:rPr sz="1400"/>
            </a:br>
            <a:r>
              <a:rPr b="1" lang="pl-PL" sz="1400" spc="-1" strike="noStrike">
                <a:solidFill>
                  <a:srgbClr val="ff0000"/>
                </a:solidFill>
                <a:latin typeface="Arial"/>
                <a:ea typeface="Arial"/>
              </a:rPr>
              <a:t>z oryginałem lub 2 oryginały</a:t>
            </a:r>
            <a:r>
              <a:rPr b="0" lang="pl-PL" sz="1400" spc="-1" strike="noStrike">
                <a:solidFill>
                  <a:srgbClr val="000000"/>
                </a:solidFill>
                <a:latin typeface="Arial"/>
                <a:ea typeface="Arial"/>
              </a:rPr>
              <a:t>) oraz </a:t>
            </a:r>
            <a:r>
              <a:rPr b="1" lang="pl-PL" sz="1400" spc="-1" strike="noStrike">
                <a:solidFill>
                  <a:srgbClr val="000000"/>
                </a:solidFill>
                <a:latin typeface="Arial"/>
                <a:ea typeface="Arial"/>
              </a:rPr>
              <a:t>wersja elektroniczna </a:t>
            </a:r>
            <a:r>
              <a:rPr b="0" lang="pl-PL" sz="1400" spc="-1" strike="noStrike">
                <a:solidFill>
                  <a:srgbClr val="000000"/>
                </a:solidFill>
                <a:latin typeface="Arial"/>
                <a:ea typeface="Arial"/>
              </a:rPr>
              <a:t>(na płycie CD/DVD zapisany </a:t>
            </a:r>
            <a:br>
              <a:rPr sz="1400"/>
            </a:br>
            <a:r>
              <a:rPr b="0" lang="pl-PL" sz="1400" spc="-1" strike="noStrike">
                <a:solidFill>
                  <a:srgbClr val="000000"/>
                </a:solidFill>
                <a:latin typeface="Arial"/>
                <a:ea typeface="Arial"/>
              </a:rPr>
              <a:t>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63"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Tahoma"/>
              </a:rPr>
              <a:t>Zmiany w dokumencie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osoby niedowidzące oraz </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niewidome korzystające ze standardowych narzędzi udźwiękowiających.</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71680" y="1571760"/>
            <a:ext cx="8229600" cy="5000400"/>
          </a:xfrm>
          <a:prstGeom prst="rect">
            <a:avLst/>
          </a:prstGeom>
          <a:noFill/>
          <a:ln w="0">
            <a:noFill/>
          </a:ln>
        </p:spPr>
        <p:txBody>
          <a:bodyPr anchor="t">
            <a:normAutofit/>
          </a:bodyPr>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zygotowanie załącznika finansowego:</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rafowanie wszystkich stron załącznik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łożenie podpisów na załączniku dotyczącym sytuacji finansowej uzależnione jest od sposobu prowadzenia księgowości przez Projektodawcę:</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księgowość prowadzona przez podmiot zewnętrzny;</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a:t>
            </a:r>
            <a:r>
              <a:rPr b="0" lang="pl-PL" sz="1400" spc="-1" strike="noStrike">
                <a:solidFill>
                  <a:srgbClr val="000000"/>
                </a:solidFill>
                <a:latin typeface="Arial"/>
              </a:rPr>
              <a:t>	</a:t>
            </a:r>
            <a:r>
              <a:rPr b="0" lang="pl-PL" sz="1400" spc="-1" strike="noStrike">
                <a:solidFill>
                  <a:srgbClr val="000000"/>
                </a:solidFill>
                <a:latin typeface="Arial"/>
              </a:rPr>
              <a:t>księgowość prowadzona przez zatrudnionego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samodzielnie prowadzona księgowość.</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 czym należy pamiętać:</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ki muszą zostać opisane oraz umieszczone w kopertach (kartonach lub innych zabezpieczonych opakowaniach);</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jednej koperty może być włożony tylko 1 wniosek ( oryginał oraz kopia);</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zultaty mają decydujący wpływ na ocenę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Poprawność złożonego wniosku można sprawdzić w oparciu 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Podręcznik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Listę sprawdzającą dla wnioskodawcy</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 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7.2.2/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1.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73"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76"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78"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0"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1"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83"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4"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88"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1"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4"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0"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3"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6"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9"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7.2.2/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22"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24"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26"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28"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0"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1"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32"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bieżnie opisano kwestie problemowe – brak powołania się na dane źródłowe oraz podania ich wartośc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poprawnie sformułowane </a:t>
            </a:r>
            <a:r>
              <a:rPr b="1" lang="pl-PL" sz="1400" spc="-1" strike="noStrike">
                <a:solidFill>
                  <a:srgbClr val="000000"/>
                </a:solidFill>
                <a:latin typeface="Arial"/>
              </a:rPr>
              <a:t>cele</a:t>
            </a:r>
            <a:r>
              <a:rPr b="0" lang="pl-PL" sz="1400" spc="-1" strike="noStrike">
                <a:solidFill>
                  <a:srgbClr val="000000"/>
                </a:solidFill>
                <a:latin typeface="Arial"/>
              </a:rPr>
              <a:t>, niezgodne z Działaniem, nie wynikające z diagnozy i opisu problem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rzetelnej diagnozy i uzasadnienia potrzeby realizacji projekt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niedostosowana do proponowanego wsparcia, nie wynikająca z diagnozy;</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przedstawiona w sposób ogólny, nie wskazujący na charakter wnioskowanego wsparcia;</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ystarczający opis rekrutacji – brak metod i sposobu rekrutacji;</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grupy z realizowanym typem wsparcia;</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liczebności grupy.</a:t>
            </a:r>
            <a:endParaRPr b="0" lang="en-US" sz="1400" spc="-1" strike="noStrike">
              <a:solidFill>
                <a:srgbClr val="000000"/>
              </a:solidFill>
              <a:latin typeface="Tahoma"/>
            </a:endParaRPr>
          </a:p>
          <a:p>
            <a:pPr marL="266760" indent="-266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isane działania niezgodne z typem projektu wskazanym w SZOP, nieuwzględniające wszystkich usług;</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dostosowania ilości godzin wsparcia do poziomu jego trudnośc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zgodność ilości godzin wsparcia z harmonogramem oraz budżetem projekt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harmonogramem i budżetem;</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informacji o wymiarze eta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opisu działań promocyjno – informacyjnych;</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skazania czy kampania informacyjna będzie prowadzona w kontekście potrzeb regionalnego lub lokalnego rynku pracy.</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7.2.2/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26 lutego 2010 r. od godz. 9.00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Tahoma"/>
              </a:rPr>
              <a:t>Posiedzenia Komisji Oceny Projektów zaplanowano kolejno na:</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12 kwietnia 2010 </a:t>
            </a:r>
            <a:r>
              <a:rPr b="0" lang="pl-PL" sz="1400" spc="-1" strike="noStrike">
                <a:solidFill>
                  <a:srgbClr val="000000"/>
                </a:solidFill>
                <a:latin typeface="Tahoma"/>
              </a:rPr>
              <a:t>– termin złożenia projektu warunkujący przekazanie wniosku do oceny merytorycznej na tym posiedzeniu Komisji upływa z dniem </a:t>
            </a:r>
            <a:r>
              <a:rPr b="1" lang="pl-PL" sz="1400" spc="-1" strike="noStrike">
                <a:solidFill>
                  <a:srgbClr val="ff0000"/>
                </a:solidFill>
                <a:latin typeface="Tahoma"/>
              </a:rPr>
              <a:t>22 marca 2010</a:t>
            </a:r>
            <a:r>
              <a:rPr b="0" lang="pl-PL" sz="1400" spc="-1" strike="noStrike">
                <a:solidFill>
                  <a:srgbClr val="ff0000"/>
                </a:solidFill>
                <a:latin typeface="Tahoma"/>
              </a:rPr>
              <a:t>;</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14 maja 2010 - </a:t>
            </a:r>
            <a:r>
              <a:rPr b="0" lang="pl-PL" sz="1400" spc="-1" strike="noStrike">
                <a:solidFill>
                  <a:srgbClr val="000000"/>
                </a:solidFill>
                <a:latin typeface="Tahoma"/>
              </a:rPr>
              <a:t>termin złożenia projektu warunkujący przekazanie wniosku do oceny merytorycznej na tym posiedzeniu Komisji upływa z dniem </a:t>
            </a:r>
            <a:r>
              <a:rPr b="1" lang="pl-PL" sz="1400" spc="-1" strike="noStrike">
                <a:solidFill>
                  <a:srgbClr val="ff0000"/>
                </a:solidFill>
                <a:latin typeface="Tahoma"/>
              </a:rPr>
              <a:t>23 kwietnia 2010</a:t>
            </a:r>
            <a:r>
              <a:rPr b="0" lang="pl-PL" sz="1400" spc="-1" strike="noStrike">
                <a:solidFill>
                  <a:srgbClr val="ff0000"/>
                </a:solidFill>
                <a:latin typeface="Tahoma"/>
              </a:rPr>
              <a:t>.</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kazane rezultaty stanowią produkty określające jakie zadania będą realizowane 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zultaty twarde, miękkie i produkty nieokreślone ilościowo;</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adekwatność do realizowanych działań;</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trwałości rezulta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celami projekt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doprecyzowany sposób monitorowania rezultatów.</a:t>
            </a:r>
            <a:endParaRPr b="0" lang="en-US" sz="1400" spc="-1" strike="noStrike">
              <a:solidFill>
                <a:srgbClr val="000000"/>
              </a:solidFill>
              <a:latin typeface="Tahoma"/>
            </a:endParaRPr>
          </a:p>
          <a:p>
            <a:pPr marL="266760" indent="-26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doświadczenia w realizacji podobnych przedsięwzięć;</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metod i technik zarządzania oraz kwalifikacji osób pełniących kluczowe role </a:t>
            </a:r>
            <a:br>
              <a:rPr sz="1400"/>
            </a:br>
            <a:r>
              <a:rPr b="0" lang="pl-PL" sz="1400" spc="-1" strike="noStrike">
                <a:solidFill>
                  <a:srgbClr val="000000"/>
                </a:solidFill>
                <a:latin typeface="Arial"/>
                <a:ea typeface="Arial"/>
              </a:rPr>
              <a:t>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spójność danych dotyczących zaplecza technicznego z planowanymi wydatkami 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gólny opis roli partnera;</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yraźnego podziału zadań pomiędzy Wnioskodawcę a Podwykonawcę.</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IV Wydatk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y rachunkow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z opisanymi działaniam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zachowania relacji nakład/rezultat (zawyżone koszty jednostkowe, wysokie koszty zarządzania projektem);</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ublowanie kosztów pośrednich w kosztach bezpośrednich;</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ne określanie cross – financing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lub błędna metodologia wyliczenia kosztów pośrednich;</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uzasadnienia dla bardzo wysokich kosz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skazania formy zatrudnienia pracowników i ilości; </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znaczenia i uzasadnienia wydatków objętych cross- financingiem; </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łączenie wydatków, z których jedne są objęte cross- financingiem, inne nie; </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isywanie w budżet wydatków, które nie pojawiają się w opisie zadań.</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28760" y="1571400"/>
            <a:ext cx="8229600" cy="30812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000000"/>
                </a:solidFill>
                <a:uFillTx/>
                <a:latin typeface="Arial"/>
                <a:ea typeface="Arial"/>
              </a:rPr>
              <a:t>Dobre praktyki</a:t>
            </a:r>
            <a:endParaRPr b="0" lang="en-US" sz="32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ea typeface="Arial"/>
              </a:rPr>
              <a:t>Priorytet VII </a:t>
            </a:r>
            <a:r>
              <a:rPr b="1" lang="pl-PL" sz="2400" spc="-1" strike="noStrike">
                <a:solidFill>
                  <a:srgbClr val="000000"/>
                </a:solidFill>
                <a:latin typeface="Arial"/>
                <a:ea typeface="Arial"/>
              </a:rPr>
              <a:t>Promocja integracji społecznej</a:t>
            </a:r>
            <a:endParaRPr b="0" lang="en-US" sz="24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ea typeface="Arial"/>
              </a:rPr>
              <a:t>Numer i nazwa poddziałania 7.2.2 </a:t>
            </a:r>
            <a:endParaRPr b="0" lang="en-US" sz="24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Arial"/>
              </a:rPr>
              <a:t>Wsparcie ekonomii społecznej </a:t>
            </a:r>
            <a:endParaRPr b="0" lang="en-US" sz="24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rostokąt 3"/>
          <p:cNvSpPr/>
          <p:nvPr/>
        </p:nvSpPr>
        <p:spPr>
          <a:xfrm>
            <a:off x="1000080" y="1357200"/>
            <a:ext cx="7572600" cy="64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unkt wsparcia zachodniopomorskich inicjatyw społecznych </a:t>
            </a:r>
            <a:br>
              <a:rPr sz="1600"/>
            </a:br>
            <a:r>
              <a:rPr b="1" lang="pl-PL" sz="1600" spc="-1" strike="noStrike">
                <a:solidFill>
                  <a:srgbClr val="000000"/>
                </a:solidFill>
                <a:latin typeface="Arial"/>
              </a:rPr>
              <a:t>przy CIS „Od Nowa" w Łobz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ROJEKTODAWCA  </a:t>
            </a:r>
            <a:r>
              <a:rPr b="0" lang="pl-PL" sz="1600" spc="-1" strike="noStrike">
                <a:solidFill>
                  <a:srgbClr val="000000"/>
                </a:solidFill>
                <a:latin typeface="Arial"/>
              </a:rPr>
              <a:t>Stowarzyszenie Współistnien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TNERZY </a:t>
            </a:r>
            <a:r>
              <a:rPr b="0" lang="pl-PL" sz="1600" spc="-1" strike="noStrike">
                <a:solidFill>
                  <a:srgbClr val="000000"/>
                </a:solidFill>
                <a:latin typeface="Arial"/>
              </a:rPr>
              <a:t>Ośrodek Pomocy Społecznej w Polic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ZAS TRWANIA PROJEKTU</a:t>
            </a:r>
            <a:r>
              <a:rPr b="1" lang="pl-PL" sz="1600" spc="-1" strike="noStrike">
                <a:solidFill>
                  <a:srgbClr val="000000"/>
                </a:solidFill>
                <a:latin typeface="Arial"/>
              </a:rPr>
              <a:t>	</a:t>
            </a:r>
            <a:r>
              <a:rPr b="1" lang="pl-PL" sz="1600" spc="-1" strike="noStrike">
                <a:solidFill>
                  <a:srgbClr val="000000"/>
                </a:solidFill>
                <a:latin typeface="Arial"/>
              </a:rPr>
              <a:t> </a:t>
            </a:r>
            <a:r>
              <a:rPr b="0" lang="pl-PL" sz="1600" spc="-1" strike="noStrike">
                <a:solidFill>
                  <a:srgbClr val="000000"/>
                </a:solidFill>
                <a:latin typeface="Arial"/>
              </a:rPr>
              <a:t>Od 3 listopada 2008 do 31 grudnia 200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EL PROJEKTU</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łównym celem jest upowszechnienie i promowanie idei ekonomii społecznej, wymiana doświadczeń w tym obszarze oraz wsparcie w realizowaniu inicjatyw z tego zakresu. Projekt ma także na celu zorganizowanie „Punktu wsparcia zachodniopomorskich inicjatyw społecznych przy CIS „Od Nowa" w Łobzie, doradztwo dla 20 instytucji z terenu województwa zachodniopomorskiego, organizację 6 wyjazdów studyjnych dla 75 przedstawicieli instytucji sektora ekonomii społecznej oraz sektora samorządu terytorialnego, organizację 8 warsztatów szkoleniowych, organizację seminarium, opracowanie i wydanie kalendarz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rostokąt 3"/>
          <p:cNvSpPr/>
          <p:nvPr/>
        </p:nvSpPr>
        <p:spPr>
          <a:xfrm>
            <a:off x="1000080" y="1357200"/>
            <a:ext cx="7572600" cy="590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DBIORCY PROJEKTU (GRUPA DOCELOW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adresowany jest do instytucji sektora ekonomii społecznej, przedstawicieli instytucji samorządowych i osób fizycznych (przedstawiciele jednostek pomocy społecznej, PCPR, urzędy pracy, członkowie organizacji pozarządowych) z terenu całego województwa. </a:t>
            </a:r>
            <a:br>
              <a:rPr sz="1400"/>
            </a:br>
            <a:r>
              <a:rPr b="0" lang="pl-PL" sz="1400" spc="-1" strike="noStrike">
                <a:solidFill>
                  <a:srgbClr val="000000"/>
                </a:solidFill>
                <a:latin typeface="Arial"/>
              </a:rPr>
              <a:t>Ze wszystkich form wsparcia skorzysta łącznie 215 osób oraz 20 instytu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krutac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ci korzystający ze szkoleń rekrutowani są poprzez ogłoszenia prasowe, a także poprzez wysyłanie zaproszeń do instytucji w których są zatrudnieni </a:t>
            </a:r>
            <a:br>
              <a:rPr sz="1400"/>
            </a:br>
            <a:r>
              <a:rPr b="0" lang="pl-PL" sz="1400" spc="-1" strike="noStrike">
                <a:solidFill>
                  <a:srgbClr val="000000"/>
                </a:solidFill>
                <a:latin typeface="Arial"/>
              </a:rPr>
              <a:t>o możliwości skorzystania z tej formy wsparcia. Natomiast rekrutacja uczestników korzystających z doradztwa specjalistów dostępnych w Ośrodku Wsparcia prowadzona będzie w ramach bieżącej promocji projekt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3"/>
          <p:cNvSpPr/>
          <p:nvPr/>
        </p:nvSpPr>
        <p:spPr>
          <a:xfrm>
            <a:off x="1000080" y="1357200"/>
            <a:ext cx="7572600" cy="76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dania (Najważniejsze elementy projektu)</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promocja projektu;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rganizacja „Punktu wsparcia zachodniopomorskich inicjatyw społecznych przy CIS </a:t>
            </a:r>
            <a:br>
              <a:rPr sz="1400"/>
            </a:br>
            <a:r>
              <a:rPr b="0" lang="pl-PL" sz="1400" spc="-1" strike="noStrike">
                <a:solidFill>
                  <a:srgbClr val="000000"/>
                </a:solidFill>
                <a:latin typeface="Arial"/>
              </a:rPr>
              <a:t>„Od Nowa" w Łobz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rganizacja warszta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izyty studyj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ziałalność doradcza dla przedstawicieli instytucji zainteresowanych rozwojem ekonomii społecznej;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wadzenia doradztwa prawnego, z zakresu ekonomii społecznej, marketingu, na temat pozyskiwania funduszy na cele ekonomii społecznej;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rganizacja 2-dniowego seminarium podsumowującego projek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twar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tworzenie „Punktu wsparcia zachodniopomorskich inicjatyw społecznych przy CIS </a:t>
            </a:r>
            <a:br>
              <a:rPr sz="1400"/>
            </a:br>
            <a:r>
              <a:rPr b="0" lang="pl-PL" sz="1400" spc="-1" strike="noStrike">
                <a:solidFill>
                  <a:srgbClr val="000000"/>
                </a:solidFill>
                <a:latin typeface="Arial"/>
              </a:rPr>
              <a:t>„Od Nowa" w Łobz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abycie i uzupełnienie wiadomości merytorycznych z zakresu zakładania </a:t>
            </a:r>
            <a:br>
              <a:rPr sz="1400"/>
            </a:br>
            <a:r>
              <a:rPr b="0" lang="pl-PL" sz="1400" spc="-1" strike="noStrike">
                <a:solidFill>
                  <a:srgbClr val="000000"/>
                </a:solidFill>
                <a:latin typeface="Arial"/>
              </a:rPr>
              <a:t>i prowadzenia podmiotów ekonomii społecznej - 215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oradztwo w zakresie tworzenia i funkcjonowania podmiotów ekonomii społecznej </a:t>
            </a:r>
            <a:br>
              <a:rPr sz="1400"/>
            </a:br>
            <a:r>
              <a:rPr b="0" lang="pl-PL" sz="1400" spc="-1" strike="noStrike">
                <a:solidFill>
                  <a:srgbClr val="000000"/>
                </a:solidFill>
                <a:latin typeface="Arial"/>
              </a:rPr>
              <a:t>- przedstawiciele 20 instytu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rostokąt 3"/>
          <p:cNvSpPr/>
          <p:nvPr/>
        </p:nvSpPr>
        <p:spPr>
          <a:xfrm>
            <a:off x="1000080" y="1357200"/>
            <a:ext cx="7572600" cy="59360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miękki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powszechnienie i promowanie idei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powszechnienie dobrych praktyk z zakresu ekonomii społecznej oraz możliwości zorganizowania form przeciwdziałania wykluczeniu społecznemu;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eniesienie na teren woj. zachodniopomorskiego dobrych praktyk spoza jego terytoriu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tego typu inicjatyw na terenie powiatu Łobeskiego i całego województw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świadomości w zakresie potrzeby tworzenia jednostek sektora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BUDŻET</a:t>
            </a:r>
            <a:r>
              <a:rPr b="1" lang="pl-PL" sz="1600" spc="-1" strike="noStrike">
                <a:solidFill>
                  <a:srgbClr val="000000"/>
                </a:solidFill>
                <a:latin typeface="Arial"/>
              </a:rPr>
              <a:t>	</a:t>
            </a:r>
            <a:r>
              <a:rPr b="1" lang="pl-PL" sz="1600" spc="-1" strike="noStrike">
                <a:solidFill>
                  <a:srgbClr val="000000"/>
                </a:solidFill>
                <a:latin typeface="Arial"/>
              </a:rPr>
              <a:t> </a:t>
            </a:r>
            <a:r>
              <a:rPr b="0" lang="pl-PL" sz="1600" spc="-1" strike="noStrike">
                <a:solidFill>
                  <a:srgbClr val="000000"/>
                </a:solidFill>
                <a:latin typeface="Arial"/>
              </a:rPr>
              <a:t>590 500,00 z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rostokąt 3"/>
          <p:cNvSpPr/>
          <p:nvPr/>
        </p:nvSpPr>
        <p:spPr>
          <a:xfrm>
            <a:off x="1000080" y="1357200"/>
            <a:ext cx="7572600" cy="6026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asol dla Gminnego Rozwoju - rozwój ekonomii społecznej na terenach wiejsk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ROJEKTODAWCA  </a:t>
            </a:r>
            <a:r>
              <a:rPr b="0" lang="pl-PL" sz="1600" spc="-1" strike="noStrike">
                <a:solidFill>
                  <a:srgbClr val="000000"/>
                </a:solidFill>
                <a:latin typeface="Arial"/>
              </a:rPr>
              <a:t>4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TNERZY </a:t>
            </a:r>
            <a:r>
              <a:rPr b="0" lang="pl-PL" sz="1600" spc="-1" strike="noStrike">
                <a:solidFill>
                  <a:srgbClr val="000000"/>
                </a:solidFill>
                <a:latin typeface="Arial"/>
              </a:rPr>
              <a:t>Stowarzyszenie Kulturalno Oświatowe „Krzęcin nad In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ZAS TRWANIA PROJEKTU</a:t>
            </a:r>
            <a:r>
              <a:rPr b="1" lang="pl-PL" sz="1600" spc="-1" strike="noStrike">
                <a:solidFill>
                  <a:srgbClr val="000000"/>
                </a:solidFill>
                <a:latin typeface="Arial"/>
              </a:rPr>
              <a:t>	</a:t>
            </a:r>
            <a:r>
              <a:rPr b="1" lang="pl-PL" sz="1600" spc="-1" strike="noStrike">
                <a:solidFill>
                  <a:srgbClr val="000000"/>
                </a:solidFill>
                <a:latin typeface="Arial"/>
              </a:rPr>
              <a:t> </a:t>
            </a:r>
            <a:r>
              <a:rPr b="0" lang="pl-PL" sz="1600" spc="-1" strike="noStrike">
                <a:solidFill>
                  <a:srgbClr val="000000"/>
                </a:solidFill>
                <a:latin typeface="Arial"/>
              </a:rPr>
              <a:t>Od 1 września 2008 do 31 grudnia 200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EL PROJEKTU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elem projektu jest powstanie i funkcjonowanie 4 instytucji wsparcia ekonomii społecznej, </a:t>
            </a:r>
            <a:br>
              <a:rPr sz="1400"/>
            </a:br>
            <a:r>
              <a:rPr b="0" lang="pl-PL" sz="1400" spc="-1" strike="noStrike">
                <a:solidFill>
                  <a:srgbClr val="000000"/>
                </a:solidFill>
                <a:latin typeface="Arial"/>
              </a:rPr>
              <a:t>a w tym powstanie 3 lokalnych instytucji w Krzęcinie, Dolicach i Przelewicach, powstanie Centrum Ekonomi Społecznej w Szczecinie. Projekt przyczyni się także do zwiększenia ilości </a:t>
            </a:r>
            <a:br>
              <a:rPr sz="1400"/>
            </a:br>
            <a:r>
              <a:rPr b="0" lang="pl-PL" sz="1400" spc="-1" strike="noStrike">
                <a:solidFill>
                  <a:srgbClr val="000000"/>
                </a:solidFill>
                <a:latin typeface="Arial"/>
              </a:rPr>
              <a:t>i jakości nowych podmiotów działających na rzecz aktywnej integracji społeczności lokalnych.</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rostokąt 3"/>
          <p:cNvSpPr/>
          <p:nvPr/>
        </p:nvSpPr>
        <p:spPr>
          <a:xfrm>
            <a:off x="1000080" y="1357200"/>
            <a:ext cx="7572600" cy="654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DBIORCY PROJEKTU (GRUPA DOCELOW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jest adresowany do lokalnych liderów działających na rzecz integracji społecznej, </a:t>
            </a:r>
            <a:br>
              <a:rPr sz="1400"/>
            </a:br>
            <a:r>
              <a:rPr b="0" lang="pl-PL" sz="1400" spc="-1" strike="noStrike">
                <a:solidFill>
                  <a:srgbClr val="000000"/>
                </a:solidFill>
                <a:latin typeface="Arial"/>
              </a:rPr>
              <a:t>do członków zainteresowanych organizacji pozarządowych, do członków grup nieformalnych działających na terenie powiatów objętych wsparciem, do osób zainteresowanych założeniem spółdzielni socjalnej lub organizacji pozarządowej. Projektem zostanie objęta grupa 120 osób (osoby pracujące i kształcące się, rolnicy i ich domownicy, gospodynie domowe) </a:t>
            </a:r>
            <a:br>
              <a:rPr sz="1400"/>
            </a:br>
            <a:r>
              <a:rPr b="0" lang="pl-PL" sz="1400" spc="-1" strike="noStrike">
                <a:solidFill>
                  <a:srgbClr val="000000"/>
                </a:solidFill>
                <a:latin typeface="Arial"/>
              </a:rPr>
              <a:t>z powiatu pyrzyckiego, starogardzkiego i choszczeński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krutac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krutacja przeprowadzana głównie w gminach wiejskich przez bezpośrednie kontakty partnerów lokalnych projektu- lokalne organizacje pozarządowe, połączone z 12 spotkaniami informacyjnymi w Urzędach Gminy, w parafiach, szkołach oraz Domach Kultury. Osobiście kontaktować się będą z beneficjentami lokalne liderki z instytucji partnerskich zachęcające </a:t>
            </a:r>
            <a:br>
              <a:rPr sz="1400"/>
            </a:br>
            <a:r>
              <a:rPr b="0" lang="pl-PL" sz="1400" spc="-1" strike="noStrike">
                <a:solidFill>
                  <a:srgbClr val="000000"/>
                </a:solidFill>
                <a:latin typeface="Arial"/>
              </a:rPr>
              <a:t>do czynnego udziału w projekc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7 191 788,00 zł</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6 113 019,80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rPr>
              <a:t>1 078 768,20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rostokąt 3"/>
          <p:cNvSpPr/>
          <p:nvPr/>
        </p:nvSpPr>
        <p:spPr>
          <a:xfrm>
            <a:off x="1000080" y="1357200"/>
            <a:ext cx="7572600" cy="72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dania (Najważniejsze elementy projektu):</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projektu (spotkania informacyjne w świetlicach, klubach, domach kultury, założenie strony internetowej projektu, przeprowadzenie konferencji oraz opracowanie publikacji);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ołanie i funkcjonowanie 3 „Parasoli dla Gminnego Rozwoj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zkolenia i wizyty studyjne realizowane w trzech modułach tematycznych dotyczących tworzenia i zarządzania organizacją pozarządową (6 dni szkoleniowych), przedsiębiorczości działania(4 dni szkoleniowe) oraz wzmocnienia kompetencji społecznych (3 dni szkoleniowe);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ołanie i funkcjonowanie „Centrum ekonomii Społecznej" - instytucji wspierającej działalność „Parasol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twar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bjęcie reintegracją zawodową i społeczną w ramach Centrum Integracji Społecznej potwierdzonej zaświadczeniem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pracowanie Indywidualnych Programów Zatrudnienia Socjalnego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wyższenie – aktualizacja kwalifikacji zawodowych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jęcie zatrudnienia – 60 osób.</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rostokąt 3"/>
          <p:cNvSpPr/>
          <p:nvPr/>
        </p:nvSpPr>
        <p:spPr>
          <a:xfrm>
            <a:off x="1000080" y="1357200"/>
            <a:ext cx="7572600" cy="651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twar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12 spotkań promujących Ekonomię Społeczną;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120 uczestników spotkań i warsztatów informacyjnych znających zasady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13 szkoleń w 4 - godzinnych blokach tematycznych dla 4 grup po 15 osób </a:t>
            </a:r>
            <a:br>
              <a:rPr sz="1400"/>
            </a:br>
            <a:r>
              <a:rPr b="0" lang="pl-PL" sz="1400" spc="-1" strike="noStrike">
                <a:solidFill>
                  <a:srgbClr val="000000"/>
                </a:solidFill>
                <a:latin typeface="Arial"/>
              </a:rPr>
              <a:t>60 przeszkolonych osób z zakresu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 wizyty studyjne dla łącznie 6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330 godzin doradczych i usług finansowych, prawnych i marketingowych dla osób </a:t>
            </a:r>
            <a:br>
              <a:rPr sz="1400"/>
            </a:br>
            <a:r>
              <a:rPr b="0" lang="pl-PL" sz="1400" spc="-1" strike="noStrike">
                <a:solidFill>
                  <a:srgbClr val="000000"/>
                </a:solidFill>
                <a:latin typeface="Arial"/>
              </a:rPr>
              <a:t>i organizacj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Centrum Ekonomii Społecznej jako instytucji wsparcia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3 „Parasoli" jako instytucji wsparcia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3 partnerstw lokalnych na rzecz rozwoju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 nowe zarejestrowane przez beneficjentów podmioty Ekonom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5 nowych usług społecznych realizowanych na terenie powiatów objętych wsparc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rostokąt 3"/>
          <p:cNvSpPr/>
          <p:nvPr/>
        </p:nvSpPr>
        <p:spPr>
          <a:xfrm>
            <a:off x="1000080" y="1357200"/>
            <a:ext cx="7572600" cy="59360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miękki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wiedzy na temat ekonomii społecznej, zasad zrównoważonego rozwoju i równych szans;</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wiedzy i umiejętności beneficjentów z zakresie tworzenia </a:t>
            </a:r>
            <a:br>
              <a:rPr sz="1400"/>
            </a:br>
            <a:r>
              <a:rPr b="0" lang="pl-PL" sz="1400" spc="-1" strike="noStrike">
                <a:solidFill>
                  <a:srgbClr val="000000"/>
                </a:solidFill>
                <a:latin typeface="Arial"/>
              </a:rPr>
              <a:t>i prowadzenia podmiotów ekonomii społecznej, w tym organizacji pozarządow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mocnienie kompetencji społe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a postaw i wzrost motywacji do aktywnego działania na rzecz integracj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identyfikacja mocnych i słabych stron, ograniczeń i możliwośc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miejętność pracy w zespole, zarządzania czasem i zadaniam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BUDŻET</a:t>
            </a:r>
            <a:r>
              <a:rPr b="1" lang="pl-PL" sz="1600" spc="-1" strike="noStrike">
                <a:solidFill>
                  <a:srgbClr val="000000"/>
                </a:solidFill>
                <a:latin typeface="Arial"/>
              </a:rPr>
              <a:t>	</a:t>
            </a:r>
            <a:r>
              <a:rPr b="0" lang="pl-PL" sz="1600" spc="-1" strike="noStrike">
                <a:solidFill>
                  <a:srgbClr val="000000"/>
                </a:solidFill>
                <a:latin typeface="Arial"/>
              </a:rPr>
              <a:t>651 908,67 z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4"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6"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7"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0"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Wsparcie dla utworzenia i/lub funkcjonowania (w tym wzmocnienie potencjału) instytucji otoczenia sektora ekonomii społecznej, świadczących w ramach projektu w sposób </a:t>
            </a:r>
            <a:r>
              <a:rPr b="0" lang="pl-PL" sz="1400" spc="-1" strike="noStrike" u="sng">
                <a:solidFill>
                  <a:srgbClr val="000000"/>
                </a:solidFill>
                <a:uFillTx/>
                <a:latin typeface="Arial"/>
              </a:rPr>
              <a:t>komplementarny i łącz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ługi prawne, księgowe, marketingow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radztwo (indywidualne i grupowe, m.in. w postaci punktów lub centrów doradztwa, inkubatorów społecznej przedsiębiorczości tworzących wspólną infrastrukturę rozwoj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lenia umożliwiające uzyskanie wiedzy i umiejętności potrzebnych do założenia </a:t>
            </a:r>
            <a:br>
              <a:rPr sz="1400"/>
            </a:br>
            <a:r>
              <a:rPr b="0" lang="pl-PL" sz="1400" spc="-1" strike="noStrike">
                <a:solidFill>
                  <a:srgbClr val="000000"/>
                </a:solidFill>
                <a:latin typeface="Arial"/>
              </a:rPr>
              <a:t>i prowadzenia działalności w sektorze ekonomii społecznej;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ługi wspierające rozwój partnerstwa lokalnego na rzecz ekonomii społecznej (m.in. poprzez budowę sieci współpracy lokalnych podmiotów w celu wspierania rozwoju podmiotów ekonomii społecznej);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mocję ekonomii społecznej i zatrudnienia w sektorze ekonomii społecznej.    </a:t>
            </a:r>
            <a:r>
              <a:rPr b="1" lang="pl-PL" sz="1400" spc="-1" strike="noStrike">
                <a:solidFill>
                  <a:srgbClr val="000000"/>
                </a:solidFill>
                <a:latin typeface="Tahoma"/>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miotów ekonomii społeczn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stytucji rynku pracy oraz pomocy i integracji społecznej (w zakresie promocji i rozwoju partnerst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ób fizycznych (w zakresie doradztwa i szkoleń na temat zakładania i/lub prowadzenia działalności w sektorze ekonomii społe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28760" y="1142640"/>
            <a:ext cx="8229600" cy="4954680"/>
          </a:xfrm>
          <a:prstGeom prst="rect">
            <a:avLst/>
          </a:prstGeom>
          <a:noFill/>
          <a:ln w="0">
            <a:noFill/>
          </a:ln>
        </p:spPr>
        <p:txBody>
          <a:bodyPr anchor="t">
            <a:normAutofit fontScale="98000"/>
          </a:bodyPr>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 </a:t>
            </a:r>
            <a:r>
              <a:rPr b="0" lang="pl-PL" sz="1400" spc="-1" strike="noStrike">
                <a:solidFill>
                  <a:srgbClr val="000000"/>
                </a:solidFill>
                <a:latin typeface="Arial"/>
                <a:ea typeface="Arial"/>
              </a:rPr>
              <a:t>	</a:t>
            </a:r>
            <a:r>
              <a:rPr b="0" lang="pl-PL" sz="1400" spc="-1" strike="noStrike">
                <a:solidFill>
                  <a:srgbClr val="000000"/>
                </a:solidFill>
                <a:latin typeface="Arial"/>
              </a:rPr>
              <a:t>Projektodawca złożył maksymalnie jeden wniosek o dofinansowanie w ramach konkursu. </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a:t>
            </a:r>
            <a:r>
              <a:rPr b="0" lang="pl-PL" sz="1400" spc="-1" strike="noStrike">
                <a:solidFill>
                  <a:srgbClr val="000000"/>
                </a:solidFill>
                <a:latin typeface="Arial"/>
              </a:rPr>
              <a:t>	</a:t>
            </a:r>
            <a:r>
              <a:rPr b="0" lang="pl-PL" sz="1400" spc="-1" strike="noStrike">
                <a:solidFill>
                  <a:srgbClr val="000000"/>
                </a:solidFill>
                <a:latin typeface="Arial"/>
                <a:ea typeface="Arial"/>
              </a:rPr>
              <a:t>Realizacja projektu rozpocznie się najpóźniej 31 października 2010r., a zakończy najpóźniej </a:t>
            </a:r>
            <a:br>
              <a:rPr sz="1400"/>
            </a:br>
            <a:r>
              <a:rPr b="0" lang="pl-PL" sz="1400" spc="-1" strike="noStrike">
                <a:solidFill>
                  <a:srgbClr val="000000"/>
                </a:solidFill>
                <a:latin typeface="Arial"/>
                <a:ea typeface="Arial"/>
              </a:rPr>
              <a:t>30 czerwca 2012 r. </a:t>
            </a:r>
            <a:r>
              <a:rPr b="0" lang="pl-PL" sz="1400" spc="-1" strike="noStrike">
                <a:solidFill>
                  <a:srgbClr val="000000"/>
                </a:solidFill>
                <a:latin typeface="Arial"/>
              </a:rPr>
              <a:t>	</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500 tys. zł. </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35880" indent="-33588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w projekcie stanowią podmioty ekonomii społecznej, instytucje pracy oraz pomocy i integracji społecznej (w zakresie promocji i rozwoju partnerstwa), osoby fizyczne </a:t>
            </a:r>
            <a:br>
              <a:rPr sz="1400"/>
            </a:br>
            <a:r>
              <a:rPr b="0" lang="pl-PL" sz="1400" spc="-1" strike="noStrike">
                <a:solidFill>
                  <a:srgbClr val="000000"/>
                </a:solidFill>
                <a:latin typeface="Arial"/>
                <a:ea typeface="Arial"/>
              </a:rPr>
              <a:t>(w zakresie doradztwa i szkoleń na temat zakładania i/lub prowadzenia działalności w sektorze ekonomii społecznej)  mające miejsce zamieszkania w rozumieniu przepisów Kodeksu Cywilnego/prowadzące działalność na terenie województwa zachodniopomorskiego.</a:t>
            </a:r>
            <a:endParaRPr b="0" lang="en-US" sz="1400" spc="-1" strike="noStrike">
              <a:solidFill>
                <a:srgbClr val="000000"/>
              </a:solidFill>
              <a:latin typeface="Tahoma"/>
            </a:endParaRPr>
          </a:p>
          <a:p>
            <a:pPr marL="335880" indent="-33588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hawelka</cp:lastModifiedBy>
  <dcterms:modified xsi:type="dcterms:W3CDTF">2010-03-12T12:28:37Z</dcterms:modified>
  <cp:revision>526</cp:revision>
  <dc:subject/>
  <dc:title>Slajd 1</dc:title>
</cp:coreProperties>
</file>