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AF7A-2888-4F57-A556-EC32CB3600C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3D34-D1D5-4228-8A1D-92741C1149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01CE-AC96-40FC-A20A-65B9AFDAE9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7.3/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7 kwietni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w punkcie 2.5 wniosku), to jest to wystarczające dla spełnienia kryterium.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a:t>
            </a:r>
            <a:r>
              <a:rPr b="0" lang="pl-PL" sz="1400" spc="-1" strike="noStrike">
                <a:solidFill>
                  <a:srgbClr val="000000"/>
                </a:solidFill>
                <a:latin typeface="Arial"/>
              </a:rPr>
              <a:t>	</a:t>
            </a:r>
            <a:r>
              <a:rPr b="0" lang="pl-PL" sz="1400" spc="-1" strike="noStrike">
                <a:solidFill>
                  <a:srgbClr val="000000"/>
                </a:solidFill>
                <a:latin typeface="Arial"/>
              </a:rPr>
              <a:t>Projektodawca lub Partner jest podmiotem, który działa lokalnie na terenie określonym </a:t>
            </a:r>
            <a:br>
              <a:rPr sz="1400"/>
            </a:br>
            <a:r>
              <a:rPr b="0" lang="pl-PL" sz="1400" spc="-1" strike="noStrike">
                <a:solidFill>
                  <a:srgbClr val="000000"/>
                </a:solidFill>
                <a:latin typeface="Arial"/>
              </a:rPr>
              <a:t>we wniosku. (Partner przypisane powinien mieć co najmniej 1 zadanie merytoryczne, którego wartość stanowi co najmniej 10 % wartości projekt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W punkcie 3.5 wniosku należy wskazać, że Wnioskodawca działa lokalnie na obszarze realizacji projektu (należy określić zakres i rodzaj realizowanych działań na tym obszarze). W przypadku gdy Wnioskodawca nie działa lokalnie na obszarze planowanym do objęcia wsparciem, może realizować projekt z Partnerem, który działa na tym obszarze. Należy jednak pamiętać, że w tej sytuacji, Partner powinien mieć przypisane co najmniej 1 zadanie merytoryczne, którego wartość stanowi co najmniej 10 % wartości projektu. Wymóg ten dotyczy również sytuacji, w której Wnioskodawca działa lokalnie, a realizuje projekt w partnerstwie. Jako zadanie merytoryczne nie traktuje się kosztów związanych z obsługą techniczną projektu (zarządzanie projektem i koszty pośred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6.</a:t>
            </a:r>
            <a:r>
              <a:rPr b="0" lang="pl-PL" sz="1400" spc="-1" strike="noStrike">
                <a:solidFill>
                  <a:srgbClr val="000000"/>
                </a:solidFill>
                <a:latin typeface="Arial"/>
                <a:ea typeface="Arial"/>
              </a:rPr>
              <a:t>	</a:t>
            </a:r>
            <a:r>
              <a:rPr b="0" lang="pl-PL" sz="1400" spc="-1" strike="noStrike">
                <a:solidFill>
                  <a:srgbClr val="000000"/>
                </a:solidFill>
                <a:latin typeface="Arial"/>
              </a:rPr>
              <a:t>Grupę docelową  w projekcie stanowią osoby mające miejsce zamieszkania na terenie gmin wiejskich, miejsko-wiejskich oraz miast do 15 tys. mieszkańców z terenu województwa zachodniopomorskiego w rozumieniu przepisów Kodeksu Cywilnego oraz podmioty działające </a:t>
            </a:r>
            <a:br>
              <a:rPr sz="1400"/>
            </a:br>
            <a:r>
              <a:rPr b="0" lang="pl-PL" sz="1400" spc="-1" strike="noStrike">
                <a:solidFill>
                  <a:srgbClr val="000000"/>
                </a:solidFill>
                <a:latin typeface="Arial"/>
              </a:rPr>
              <a:t>na tych terena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części 3.2 wniosku należy wyraźnie zapisać, że instytucje uzyskujące wsparcie w ramach projektu będą miały siedzibę na terenie województwa zachodniopomorskiego/ powiatu z terenu województwa/ gminy z terenu województw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soby fizyczne objęte wsparciem  mieszkają na obszarze gmin wiejskich, miejsko- wiejskich oraz miast do 15 tys. terenu województwa zachodniopomorskiego w rozumieniu przepisów Kodeksu Cywi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213920"/>
            <a:ext cx="8229600" cy="5286600"/>
          </a:xfrm>
          <a:prstGeom prst="rect">
            <a:avLst/>
          </a:prstGeom>
          <a:noFill/>
          <a:ln w="0">
            <a:noFill/>
          </a:ln>
        </p:spPr>
        <p:txBody>
          <a:bodyPr anchor="t">
            <a:normAutofit fontScale="75000"/>
          </a:bodyPr>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600" spc="-1" strike="noStrike">
                <a:solidFill>
                  <a:srgbClr val="000000"/>
                </a:solidFill>
                <a:latin typeface="Tahoma"/>
              </a:rPr>
              <a:t>	</a:t>
            </a:r>
            <a:r>
              <a:rPr b="0" lang="pl-PL" sz="1400" spc="-1" strike="noStrike">
                <a:solidFill>
                  <a:srgbClr val="000000"/>
                </a:solidFill>
                <a:latin typeface="Arial"/>
                <a:ea typeface="Arial"/>
              </a:rPr>
              <a:t>Projekt realizowany na obszarze gmin lub skierowany do mieszkańców gmin wymienionych </a:t>
            </a:r>
            <a:br>
              <a:rPr sz="1400"/>
            </a:br>
            <a:r>
              <a:rPr b="0" lang="pl-PL" sz="1400" spc="-1" strike="noStrike">
                <a:solidFill>
                  <a:srgbClr val="000000"/>
                </a:solidFill>
                <a:latin typeface="Arial"/>
                <a:ea typeface="Arial"/>
              </a:rPr>
              <a:t>w załączniku nr 6 do Regionalnego Programu Operacyjnego Województwa Zachodniopomorskiego tj. gmin w szczególnie niekorzystnej sytuacji społeczno-ekonomicznej</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0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śli projekt będzie realizowany na obszarze przedmiotowych gmin, to należy  je wskazać </a:t>
            </a:r>
            <a:br>
              <a:rPr sz="1400"/>
            </a:br>
            <a:r>
              <a:rPr b="0" lang="pl-PL" sz="1400" spc="-1" strike="noStrike">
                <a:solidFill>
                  <a:srgbClr val="000000"/>
                </a:solidFill>
                <a:latin typeface="Arial"/>
                <a:ea typeface="Arial"/>
              </a:rPr>
              <a:t>w punkcie 1.9 wniosku.</a:t>
            </a: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śli projekt będzie skierowany do mieszkańców gmin, to informację o tym należy zapisać </a:t>
            </a:r>
            <a:br>
              <a:rPr sz="1400"/>
            </a:br>
            <a:r>
              <a:rPr b="0" lang="pl-PL" sz="1400" spc="-1" strike="noStrike">
                <a:solidFill>
                  <a:srgbClr val="000000"/>
                </a:solidFill>
                <a:latin typeface="Arial"/>
                <a:ea typeface="Arial"/>
              </a:rPr>
              <a:t>w punkcie 3.2 wniosku, gdzie trzeba wymienić gminy, w których mieszkają uczestnicy.</a:t>
            </a: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ryterium zapewnia komplementarność działań przewidzianych w priorytecie finansowanych </a:t>
            </a:r>
            <a:br>
              <a:rPr sz="1400"/>
            </a:br>
            <a:r>
              <a:rPr b="0" lang="pl-PL" sz="1400" spc="-1" strike="noStrike">
                <a:solidFill>
                  <a:srgbClr val="000000"/>
                </a:solidFill>
                <a:latin typeface="Arial"/>
                <a:ea typeface="Arial"/>
              </a:rPr>
              <a:t>ze środków EFS z działaniami współfinansowanymi ze środków EFRR w ramach RPO WZ; jako priorytet traktuje się wyrównywanie dysproporcji w regionie.</a:t>
            </a: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ryterium strategiczne spełnią wyłącznie Ci projektodawcy, których projekty realizowane </a:t>
            </a:r>
            <a:br>
              <a:rPr sz="1400"/>
            </a:br>
            <a:r>
              <a:rPr b="0" lang="pl-PL" sz="1400" spc="-1" strike="noStrike">
                <a:solidFill>
                  <a:srgbClr val="000000"/>
                </a:solidFill>
                <a:latin typeface="Arial"/>
                <a:ea typeface="Arial"/>
              </a:rPr>
              <a:t>są w 100% na obszarze gmin lub skierowane do mieszkańców gmin wymienionych w załączniku nr 6 do RPO WZ.</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57040" indent="-257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ramach Działania 7.3 co do zasady pomoc publiczna nie występuje. Jednak wnioskodawca na etapie tworzenia projektu powinien zwrócić szczególną uwagę na to, czy planowane wsparcie nie spełnia łącznie wszystkich czterech przesłanek występowania pomocy publicznej, które zachodzą, gdy wspar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jest przyznawane przez Państwo lub pochodzi ze środków państwow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jest udzielane na warunkach korzystniejszych niż oferowane na ryn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ma charakter selektywn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zakłóca lub grozi zakłóceniem konkurencji oraz wpływa na wymianę handlową między Państwami Członkowskim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eżeli przesłanki zostałyby spełnione, to wniosek o dofinansowanie musi zawierać odpowiednie zapisy związane z zastosowaniem przepisów dotyczących pomocy publiczn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67"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28.02.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7.3/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79"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3" descr=""/>
          <p:cNvPicPr/>
          <p:nvPr/>
        </p:nvPicPr>
        <p:blipFill>
          <a:blip r:embed="rId1"/>
          <a:stretch/>
        </p:blipFill>
        <p:spPr>
          <a:xfrm>
            <a:off x="420840" y="1639800"/>
            <a:ext cx="83023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4"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6"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7"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89"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0"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2"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3"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4"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7"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0"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3"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6"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9"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2"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7.3/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5"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8"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1"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4"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28"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0"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2"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4"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6"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7"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38"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7.3/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 Wojewódzkiego Urzędu Pracy </a:t>
            </a:r>
            <a:r>
              <a:rPr b="1" lang="pl-PL" sz="1400" spc="-1" strike="noStrike">
                <a:solidFill>
                  <a:srgbClr val="ff0000"/>
                </a:solidFill>
                <a:latin typeface="Arial"/>
                <a:ea typeface="Arial"/>
              </a:rPr>
              <a:t>od dnia 30 marca 2010 r. od godz. 9.00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ea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Koszalin – pokój 25</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	</a:t>
            </a:r>
            <a:r>
              <a:rPr b="0" lang="pl-PL" sz="1400" spc="-1" strike="noStrike">
                <a:solidFill>
                  <a:srgbClr val="000000"/>
                </a:solidFill>
                <a:latin typeface="Arial"/>
              </a:rPr>
              <a:t>Posiedzenia Komisji Oceny Projektów zaplanowano kolejno na:</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3 maja 2010 r.</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000000"/>
                </a:solidFill>
                <a:latin typeface="Arial"/>
              </a:rPr>
              <a:t>22 kwietnia;</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6 czerwca 2010 r.</a:t>
            </a:r>
            <a:r>
              <a:rPr b="0" lang="pl-PL" sz="1400" spc="-1" strike="noStrike">
                <a:solidFill>
                  <a:srgbClr val="000000"/>
                </a:solidFill>
                <a:latin typeface="Arial"/>
              </a:rPr>
              <a:t>- – termin złożenia projektu warunkujący przekazanie wniosku do oceny merytorycznej na tym posiedzeniu Komisji upływa z dniem </a:t>
            </a:r>
            <a:r>
              <a:rPr b="1" lang="pl-PL" sz="1400" spc="-1" strike="noStrike">
                <a:solidFill>
                  <a:srgbClr val="000000"/>
                </a:solidFill>
                <a:latin typeface="Arial"/>
              </a:rPr>
              <a:t>26 maja.</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1 Uzasadnienie potrzeby realizacji projektu:</a:t>
            </a: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o kwestie problemowe – 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a:t>
            </a:r>
            <a:r>
              <a:rPr b="1" lang="pl-PL" sz="1600" spc="-1" strike="noStrike">
                <a:solidFill>
                  <a:srgbClr val="000000"/>
                </a:solidFill>
                <a:latin typeface="Arial"/>
              </a:rPr>
              <a:t>cele</a:t>
            </a:r>
            <a:r>
              <a:rPr b="0" lang="pl-PL" sz="1600" spc="-1" strike="noStrike">
                <a:solidFill>
                  <a:srgbClr val="000000"/>
                </a:solidFill>
                <a:latin typeface="Arial"/>
              </a:rPr>
              <a:t>,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spełnienia kryterium partycypacji i akceptacji społecznej.</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grupy z realizowanym typem wsparcia;</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liczebności grupy.</a:t>
            </a:r>
            <a:endParaRPr b="0" lang="en-US" sz="16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stosowania ilości godzin wsparcia do poziomu jego trudn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harmonogramem i budże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informacji o wymiarze e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działań promocyjno – informacyjnych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skazania czy kampania informacyjna będzie prowadzona w kontekście potrzeb regionalnego lub lokalnego rynku prac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rezultaty twarde, miękkie i produkty nieokreślone ilościowo;</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sposób monitorowania rezultatów.</a:t>
            </a:r>
            <a:endParaRPr b="0" lang="en-US" sz="1600" spc="-1" strike="noStrike">
              <a:solidFill>
                <a:srgbClr val="000000"/>
              </a:solidFill>
              <a:latin typeface="Tahoma"/>
            </a:endParaRPr>
          </a:p>
          <a:p>
            <a:pPr marL="266760" indent="-266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5 Potencjał wnioskodawcy i sposób zarządzania projektem:</a:t>
            </a:r>
            <a:endParaRPr b="0" lang="en-US" sz="18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świadczenia w realizacji podobnych przedsięwzięć;</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metod i technik zarządzania oraz kwalifikacji osób pełniących kluczowe role </a:t>
            </a:r>
            <a:br>
              <a:rPr sz="1600"/>
            </a:br>
            <a:r>
              <a:rPr b="0" lang="pl-PL" sz="1600" spc="-1" strike="noStrike">
                <a:solidFill>
                  <a:srgbClr val="000000"/>
                </a:solidFill>
                <a:latin typeface="Arial"/>
              </a:rPr>
              <a:t>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jasny podział obowiązków i struktury zespołu projektowego;</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anych dotyczących zaplecza technicznego z planowanymi wydatkami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roli partner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yraźnego podziału zadań pomiędzy Wnioskodawcę a Partnera/ Podwykonawcę.</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5 Potencjał wnioskodawcy i sposób zarządzania projektem:</a:t>
            </a: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pełnienie kryterium dostępu podlegającego weryfikacji na etapie oceny merytorycznej:</a:t>
            </a: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Projektodawca lub Partner jest podmiotem, który działa lokalnie na terenie określonym we wniosku. (Partner przypisane powinien mieć co najmniej 1 zadanie merytoryczne, którego wartość stanowi co najmniej 10 % wartości projektu).</a:t>
            </a: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punkcie 3.5 wniosku należy wskazać, że Wnioskodawca działa lokalnie na obszarze realizacji projektu (należy określić zakres i rodzaj realizowanych działań na tym obszarze). W przypadku gdy Wnioskodawca nie działa lokalnie na obszarze planowanym do objęcia wsparciem, może realizować projekt z Partnerem, który działa na tym obszarze - Partner powinien mieć przypisane </a:t>
            </a:r>
            <a:r>
              <a:rPr b="1" lang="pl-PL" sz="1600" spc="-1" strike="noStrike" u="sng">
                <a:solidFill>
                  <a:srgbClr val="000000"/>
                </a:solidFill>
                <a:uFillTx/>
                <a:latin typeface="Arial"/>
              </a:rPr>
              <a:t>co najmniej 1 zadanie merytoryczne, którego wartość stanowi co najmniej 10 % wartości projektu. </a:t>
            </a: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móg ten dotyczy również sytuacji, w której Wnioskodawca działa lokalnie,</a:t>
            </a:r>
            <a:br>
              <a:rPr sz="1600"/>
            </a:br>
            <a:r>
              <a:rPr b="0" lang="pl-PL" sz="1600" spc="-1" strike="noStrike">
                <a:solidFill>
                  <a:srgbClr val="000000"/>
                </a:solidFill>
                <a:latin typeface="Arial"/>
              </a:rPr>
              <a:t> a realizuje projekt w partnerstwie.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IV Wydatki projektu:</a:t>
            </a: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y rachunkow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spójności z opisanymi działaniam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zachowania relacji nakład/rezultat (zawyżone koszty jednostkowe, wysokie koszty zarządzania projek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ublowanie kosztów pośrednich w kosztach bez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ne określanie cross – financing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dla bardzo wysokich kosz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skazania formy zatrudnienia pracowników i ilości;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znaczenia i uzasadnienia wydatków objętych cross- financingiem;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łączenie wydatków, z których jedne są objęte cross- financingiem, inne nie;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pisywanie w budżet wydatków, które nie pojawiają się w opisie zad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28760" y="1571400"/>
            <a:ext cx="8229600" cy="30812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000000"/>
                </a:solidFill>
                <a:uFillTx/>
                <a:latin typeface="Arial"/>
              </a:rPr>
              <a:t>Dobre praktyki</a:t>
            </a: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u="sng">
                <a:solidFill>
                  <a:srgbClr val="000000"/>
                </a:solidFill>
                <a:uFillTx/>
                <a:latin typeface="Arial"/>
              </a:rPr>
              <a:t>Priorytet VII </a:t>
            </a:r>
            <a:r>
              <a:rPr b="1" lang="pl-PL" sz="2400" spc="-1" strike="noStrike">
                <a:solidFill>
                  <a:srgbClr val="000000"/>
                </a:solidFill>
                <a:latin typeface="Arial"/>
              </a:rPr>
              <a:t>Promocja integracji społecznej</a:t>
            </a:r>
            <a:endParaRPr b="0" lang="en-US" sz="2400" spc="-1" strike="noStrike">
              <a:solidFill>
                <a:srgbClr val="000000"/>
              </a:solidFill>
              <a:latin typeface="Tahoma"/>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u="sng">
                <a:solidFill>
                  <a:srgbClr val="000000"/>
                </a:solidFill>
                <a:uFillTx/>
                <a:latin typeface="Arial"/>
              </a:rPr>
              <a:t>Numer i nazwa Działania</a:t>
            </a:r>
            <a:endParaRPr b="0" lang="en-US" sz="28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ahoma"/>
              </a:rPr>
              <a:t>7.3 Inicjatywy lokalne na rzecz aktywnej integracji</a:t>
            </a:r>
            <a:endParaRPr b="0" lang="en-US" sz="24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2 000 000,00 zł </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rPr>
              <a:t>1 700 000,00 zł </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 </a:t>
            </a:r>
            <a:r>
              <a:rPr b="1" lang="pl-PL" sz="1600" spc="-1" strike="noStrike">
                <a:solidFill>
                  <a:srgbClr val="ff0000"/>
                </a:solidFill>
                <a:latin typeface="Arial"/>
                <a:ea typeface="Arial"/>
              </a:rPr>
              <a:t>3</a:t>
            </a:r>
            <a:r>
              <a:rPr b="1" lang="pl-PL" sz="1600" spc="-1" strike="noStrike">
                <a:solidFill>
                  <a:srgbClr val="ff0000"/>
                </a:solidFill>
                <a:latin typeface="Arial"/>
              </a:rPr>
              <a:t>00 000,00 zł </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rostokąt 3"/>
          <p:cNvSpPr/>
          <p:nvPr/>
        </p:nvSpPr>
        <p:spPr>
          <a:xfrm>
            <a:off x="1000080" y="1357200"/>
            <a:ext cx="7572600" cy="59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dbijMY od brzeg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ROJEKTODAWCA  </a:t>
            </a:r>
            <a:r>
              <a:rPr b="0" lang="pl-PL" sz="1600" spc="-1" strike="noStrike">
                <a:solidFill>
                  <a:srgbClr val="000000"/>
                </a:solidFill>
                <a:latin typeface="Arial"/>
              </a:rPr>
              <a:t>Fundacja PRO NAU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TNERZY </a:t>
            </a:r>
            <a:r>
              <a:rPr b="0" lang="pl-PL" sz="1600" spc="-1" strike="noStrike">
                <a:solidFill>
                  <a:srgbClr val="000000"/>
                </a:solidFill>
                <a:latin typeface="Arial"/>
              </a:rPr>
              <a:t>Uczniowski Klub Sportowy FA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ZAS TRWANIA PROJEKTU</a:t>
            </a:r>
            <a:r>
              <a:rPr b="1" lang="pl-PL" sz="1600" spc="-1" strike="noStrike">
                <a:solidFill>
                  <a:srgbClr val="000000"/>
                </a:solidFill>
                <a:latin typeface="Arial"/>
              </a:rPr>
              <a:t>	</a:t>
            </a:r>
            <a:r>
              <a:rPr b="1" lang="pl-PL" sz="1600" spc="-1" strike="noStrike">
                <a:solidFill>
                  <a:srgbClr val="000000"/>
                </a:solidFill>
                <a:latin typeface="Arial"/>
              </a:rPr>
              <a:t> </a:t>
            </a:r>
            <a:r>
              <a:rPr b="0" lang="pl-PL" sz="1600" spc="-1" strike="noStrike">
                <a:solidFill>
                  <a:srgbClr val="000000"/>
                </a:solidFill>
                <a:latin typeface="Arial"/>
              </a:rPr>
              <a:t>Od 1 marca 2009 do 31 sierpnia 2009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EL PROJEKTU </a:t>
            </a:r>
            <a:r>
              <a:rPr b="0" lang="pl-PL" sz="1600" spc="-1" strike="noStrike">
                <a:solidFill>
                  <a:srgbClr val="000000"/>
                </a:solidFill>
                <a:latin typeface="Arial"/>
              </a:rPr>
              <a:t>Głównym celem projektu jest wzrost integracji społecznej sołectwa Trzebież, pobudzenie aktywności społecznej mieszkańców i lokalnych organizacji, wzrost identyfikacji beneficjentów projektu ze środowiskiem lokalnym, rozwój współpracy lokalnych podmiotów i lokalnych inicjatyw na rzecz rozwiązywania problemów społecznych. Organizatorzy projektu mają na celu wzmocnić promocję wartości związanych z miejscową specyfiką społeczną, kulturową i przyrodniczą.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rostokąt 3"/>
          <p:cNvSpPr/>
          <p:nvPr/>
        </p:nvSpPr>
        <p:spPr>
          <a:xfrm>
            <a:off x="1000080" y="1357200"/>
            <a:ext cx="7572600" cy="59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DBIORCY PROJEKTU (GRUPA DOCELOWA) </a:t>
            </a:r>
            <a:r>
              <a:rPr b="0" lang="pl-PL" sz="1600" spc="-1" strike="noStrike">
                <a:solidFill>
                  <a:srgbClr val="000000"/>
                </a:solidFill>
                <a:latin typeface="Arial"/>
              </a:rPr>
              <a:t>Projekt adresowany jest </a:t>
            </a:r>
            <a:br>
              <a:rPr sz="1600"/>
            </a:br>
            <a:r>
              <a:rPr b="0" lang="pl-PL" sz="1600" spc="-1" strike="noStrike">
                <a:solidFill>
                  <a:srgbClr val="000000"/>
                </a:solidFill>
                <a:latin typeface="Arial"/>
              </a:rPr>
              <a:t>do łącznej grupy 80 beneficjentów ostatecznych - mieszkańców sołectwa Trzebież, tj. do młodzieży wieku 10-22 lat, do wychowanków Młodzieżowego Ośrodka Wychowawczego w Trzebieży, do pracujących mieszkańców sołectwa oraz do osób bezrobotnych i niezatrudnionyc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krutacj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Rekrutacja oparta na kampanii informacyjno - promocyjnej na terenie sołectwa, jak również poprzez prasę lokalną, ulotki informacyjne, plakaty oraz stronę internetową projektu. Kandydaci do projektu wypełniają deklarację uczestnictwa, które poddawane są kwalifikacji formalnej.</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rostokąt 3"/>
          <p:cNvSpPr/>
          <p:nvPr/>
        </p:nvSpPr>
        <p:spPr>
          <a:xfrm>
            <a:off x="1000080" y="1357200"/>
            <a:ext cx="757260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dania (Najważniejsze elementy projektu):</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psychoedukacyjne warsztaty integracyjne dla 20 osób - 20 godzin;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warsztaty szkutnicze dla 20 osób przez 6 tygodni po 4 godziny;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regaty integracyjne „Szalupiada"- impreza środowiskow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twar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jedna inicjatywa lokalna pod nazwą „Odbijmy od brzegu" obejmując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 40 godzin integracyjnych warsztatów psychoedukacyjnych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 48 integracyjnych warsztatów szkutniczych</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jedną imprezę o charakterze integracyjno - sportowym „Szalupiada"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zawiązanie jednego partnerstwa na poziomie lokalnym, które będzie kontynuowane po zakończeniu projektu, gdzie będą prace nad powołaniem środowiskowego klubu integracyjnego o charakterze żeglarskim.</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3"/>
          <p:cNvSpPr/>
          <p:nvPr/>
        </p:nvSpPr>
        <p:spPr>
          <a:xfrm>
            <a:off x="1000080" y="1357200"/>
            <a:ext cx="7572600" cy="56912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miękkie</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zwiększenie samooceny wzrost kompetencji społecznych;</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wzrost wiedzy i umiejętności w zakresie pracy w zespole i współpracy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wzrost wiedzy i umiejętności szkutniczych;</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wzrost świadomości i potrzeb w zakresie podejmowania inicjatyw na rzecz przeciwdziałania wykluczeniu społecznemu;</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zwiększenie uczestnictwa mieszkańców sołectwa w życiu codziennym.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rostokąt 3"/>
          <p:cNvSpPr/>
          <p:nvPr/>
        </p:nvSpPr>
        <p:spPr>
          <a:xfrm>
            <a:off x="1000080" y="1357200"/>
            <a:ext cx="7572600" cy="6421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ktywny senior w Gminie Maszewo</a:t>
            </a:r>
            <a:endParaRPr b="0" lang="en-US" sz="1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ROJEKTODAWCA </a:t>
            </a:r>
            <a:r>
              <a:rPr b="0" lang="pl-PL" sz="1600" spc="-1" strike="noStrike">
                <a:solidFill>
                  <a:srgbClr val="000000"/>
                </a:solidFill>
                <a:latin typeface="Arial"/>
              </a:rPr>
              <a:t>Szkoła Podstawowa im. Janusza Kusocińskiego w Dębicach</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TNERZY </a:t>
            </a:r>
            <a:r>
              <a:rPr b="0" lang="pl-PL" sz="1600" spc="-1" strike="noStrike">
                <a:solidFill>
                  <a:srgbClr val="000000"/>
                </a:solidFill>
                <a:latin typeface="Arial"/>
              </a:rPr>
              <a:t>Stowarzyszenie Maszewska Inicjatywa Gospodarcz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ZAS TRWANIA PROJEKTU</a:t>
            </a:r>
            <a:r>
              <a:rPr b="1" lang="pl-PL" sz="1600" spc="-1" strike="noStrike">
                <a:solidFill>
                  <a:srgbClr val="000000"/>
                </a:solidFill>
                <a:latin typeface="Arial"/>
              </a:rPr>
              <a:t>	</a:t>
            </a:r>
            <a:r>
              <a:rPr b="1" lang="pl-PL" sz="1600" spc="-1" strike="noStrike">
                <a:solidFill>
                  <a:srgbClr val="000000"/>
                </a:solidFill>
                <a:latin typeface="Arial"/>
              </a:rPr>
              <a:t> </a:t>
            </a:r>
            <a:r>
              <a:rPr b="0" lang="pl-PL" sz="1600" spc="-1" strike="noStrike">
                <a:solidFill>
                  <a:srgbClr val="000000"/>
                </a:solidFill>
                <a:latin typeface="Arial"/>
              </a:rPr>
              <a:t>Od 1 października 2008 do 30 kwietnia 200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EL PROJEKTU </a:t>
            </a:r>
            <a:r>
              <a:rPr b="0" lang="pl-PL" sz="1600" spc="-1" strike="noStrike">
                <a:solidFill>
                  <a:srgbClr val="000000"/>
                </a:solidFill>
                <a:latin typeface="Arial"/>
              </a:rPr>
              <a:t>Głównym celem projektu jest wzmacnianie i aktywizowanie społeczności lokalnej (osoby powyżej 55 roku życia) w pokonywaniu </a:t>
            </a:r>
            <a:br>
              <a:rPr sz="1600"/>
            </a:br>
            <a:r>
              <a:rPr b="0" lang="pl-PL" sz="1600" spc="-1" strike="noStrike">
                <a:solidFill>
                  <a:srgbClr val="000000"/>
                </a:solidFill>
                <a:latin typeface="Arial"/>
              </a:rPr>
              <a:t>i przezwyciężaniu różnorodnych problemów. Projektodawca zakłada pobudzenie inicjatywy do wzajemnej pomocy i wspierania solidarności, reintegracji ze społeczeństwem grupy docelowej, upowszechnieniem wśród seniorów idei wolontariatu i szeroko pojętej organizacji czasu. Celem projektu jest także podniesienie poziomu wiedzy z zakresu edukacji informatycznej oraz wzrost aktywności mieszkańców w zakresie promowania własnych osiągnięć.</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rostokąt 3"/>
          <p:cNvSpPr/>
          <p:nvPr/>
        </p:nvSpPr>
        <p:spPr>
          <a:xfrm>
            <a:off x="1000080" y="1357200"/>
            <a:ext cx="7572600" cy="544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DBIORCY PROJEKTU (GRUPA DOCELOWA) </a:t>
            </a:r>
            <a:r>
              <a:rPr b="0" lang="pl-PL" sz="1600" spc="-1" strike="noStrike">
                <a:solidFill>
                  <a:srgbClr val="000000"/>
                </a:solidFill>
                <a:latin typeface="Arial"/>
              </a:rPr>
              <a:t>Projekt adresowany jest do 60 mieszkańców gminy Maszewo w wieku powyżej 55 l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krutacj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Rekrutacja uczestników prowadzona przez osoby zatrudnione w projekcie, którzy bezpośrednio nawiązują kontakt z beneficjentami ostatecznymi, a także poprzez materiały promocyjno - rekrutacyjne, które rozpowszechniane są w miejscach użyteczności publicznej na terenie Gminy oraz na tablicach ogłoszeniowych. Następnym etapem jest organizacja i przeprowadzenie spotkania dla wszystkich zainteresowanych na którym będzie możliwość wypełnienia deklaracji uczestnictwa w projekci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rostokąt 3"/>
          <p:cNvSpPr/>
          <p:nvPr/>
        </p:nvSpPr>
        <p:spPr>
          <a:xfrm>
            <a:off x="1000080" y="1357200"/>
            <a:ext cx="7572600" cy="836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dania (Najważniejsze elementy projektu):</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szkolenie z podstawowej obsługi komputera i internetu - 3 grupy x 12 osób;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warsztaty taneczne - 2 grupy x 15 osób x 30 godzin;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warsztaty teatralne 1 grupa x 7 osób x 30 godzin;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warsztaty z profilaktyki zdrowotnej 6 spotkań x 3 godziny x 65 osób.</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twar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objęcie szkoleniami z zakresu obsługi komputera i Internetu - 36 osób;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przeprowadzenie 138 godzin zajęć komputerowych;</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przeprowadzenie 60 godzin warsztatów tanecznych;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przeprowadzenie 30 godzin warsztatów teatralnych;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przeprowadzenie 18 godzin warsztatów z profilaktyki zdrowotnej;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podniesienie poziomu kwalifikacji z zakresu obsługi komputera przez 30 uczestników potwierdzone pozytywnym zaliczeniem egzaminu końcowego </a:t>
            </a:r>
            <a:br>
              <a:rPr sz="1600"/>
            </a:br>
            <a:r>
              <a:rPr b="0" lang="pl-PL" sz="1600" spc="-1" strike="noStrike">
                <a:solidFill>
                  <a:srgbClr val="000000"/>
                </a:solidFill>
                <a:latin typeface="Arial"/>
              </a:rPr>
              <a:t>i uzyskaniem certyfikatu;</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zorganizowanie 2 spotkań integrujących społeczność lokalną;</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opracowanie prezentacji multimedialnej promującej historię Gminy Maszewo;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przygotowanie sztuki teatralnej;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opracowanie ulotki pn. Vademecum Seniora;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organizacja jednej prezentacji kulinarnej.</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3"/>
          <p:cNvSpPr/>
          <p:nvPr/>
        </p:nvSpPr>
        <p:spPr>
          <a:xfrm>
            <a:off x="1000080" y="1357200"/>
            <a:ext cx="7572600" cy="64213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miękki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zwiększenie poziomu aktywności społecznej uczestników projektu;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wzrost wiary we własne możliwości;</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wzrost chęci kształcenia się uczestników projektu;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tworzenie możliwości zaspokojenia różnorodnych potrzeb kulinarno-oświatowych, a także budzenie nowych zainteresowań;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wzrost integracji poszczególnych uczestników projektu w społeczność życzliwych sobie i wzajemnie zainteresowanych osób - projekt wielopokoleniowy;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zdobycie nowych umiejętności przydatnych w codziennym życiu osób starszych takich jak: obsługa komputera, dyktafonu, cyfrowego aparatu fotograficznego, telefonu komórkowego czy bankomatu.</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60"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2"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3"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dolne inicjatywy lokalne obejmując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przyczyniające się do integracji społecznej mieszkańców obszarów wiejskich </a:t>
            </a:r>
            <a:br>
              <a:rPr sz="1400"/>
            </a:br>
            <a:r>
              <a:rPr b="0" lang="pl-PL" sz="1400" spc="-1" strike="noStrike">
                <a:solidFill>
                  <a:srgbClr val="000000"/>
                </a:solidFill>
                <a:latin typeface="Arial"/>
              </a:rPr>
              <a:t>(z wyłączeniem instrumentów objętych zasadami pomocy publicznej);</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inicjatyw lokalnych o charakterze informacyjnym, szkoleniowym </a:t>
            </a:r>
            <a:br>
              <a:rPr sz="1400"/>
            </a:br>
            <a:r>
              <a:rPr b="0" lang="pl-PL" sz="1400" spc="-1" strike="noStrike">
                <a:solidFill>
                  <a:srgbClr val="000000"/>
                </a:solidFill>
                <a:latin typeface="Arial"/>
              </a:rPr>
              <a:t>i promocyjnym (np. w formie szkoleń, spotkań, seminariów) mających na celu przeciwdziałanie wykluczeniu społecznemu mieszkańców obszarów wiejski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wój dialogu, partnerstwa publiczno-społecznego i współpracy na rzecz rozwoju zasobów ludzkich na poziomie lokalnym.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6"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eszkańcy gmin wiejskich, miejsko - wiejskich oraz miast do 15 tys. mieszkańców (zgodnie </a:t>
            </a:r>
            <a:br>
              <a:rPr sz="1400"/>
            </a:br>
            <a:r>
              <a:rPr b="0" lang="pl-PL" sz="1400" spc="-1" strike="noStrike">
                <a:solidFill>
                  <a:srgbClr val="000000"/>
                </a:solidFill>
                <a:latin typeface="Arial"/>
              </a:rPr>
              <a:t>z kryterium dostępu zawartym w Planie Działania dla Priorytetu VII na 2010 rok);</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łeczności lokalne aktywnie działające na obszarach wiejskich na rzecz przeciwdziałania wykluczeniu społecznemu mieszkańców tych obszarów;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mioty działające na obszarach wiejskich na rzecz przeciwdziałaniu wykluczeniu społecznemu mieszkańców tych obszarów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28760" y="1142640"/>
            <a:ext cx="8229600" cy="4954680"/>
          </a:xfrm>
          <a:prstGeom prst="rect">
            <a:avLst/>
          </a:prstGeom>
          <a:noFill/>
          <a:ln w="0">
            <a:noFill/>
          </a:ln>
        </p:spPr>
        <p:txBody>
          <a:bodyPr anchor="t">
            <a:normAutofit fontScale="98000"/>
          </a:bodyPr>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 </a:t>
            </a:r>
            <a:r>
              <a:rPr b="0" lang="pl-PL" sz="1400" spc="-1" strike="noStrike">
                <a:solidFill>
                  <a:srgbClr val="000000"/>
                </a:solidFill>
                <a:latin typeface="Arial"/>
              </a:rPr>
              <a:t>Projektodawca złożył maksymalnie dwa wnioski o dofinansowanie w ramach danego posiedzenie Komisji Oceny Projektów. </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pełnienie kryterium będzie weryfikowane na podstawie protokołów z przekazania wniosków, które wpłynęły na dane posiedzenie KOP, do momentu wpłynięcia sprawdzanego wniosku.</a:t>
            </a:r>
            <a:r>
              <a:rPr b="0" lang="pl-PL" sz="1400" spc="-1" strike="noStrike">
                <a:solidFill>
                  <a:srgbClr val="000000"/>
                </a:solidFill>
                <a:latin typeface="Arial"/>
              </a:rPr>
              <a:t>	</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 Maksymalny okres realizacji projektu: do 31 grudnia 2011 r. </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1 roku, </a:t>
            </a:r>
            <a:br>
              <a:rPr sz="1400"/>
            </a:br>
            <a:r>
              <a:rPr b="0" lang="pl-PL" sz="1400" spc="-1" strike="noStrike">
                <a:solidFill>
                  <a:srgbClr val="000000"/>
                </a:solidFill>
                <a:latin typeface="Arial"/>
              </a:rPr>
              <a:t>w punkcie. 1.8 wniosku należy więc wskazać właściwy okres realizacji. </a:t>
            </a:r>
            <a:r>
              <a:rPr b="0" lang="pl-PL" sz="1400" spc="-1" strike="noStrike">
                <a:solidFill>
                  <a:srgbClr val="000000"/>
                </a:solidFill>
                <a:latin typeface="Arial"/>
              </a:rPr>
              <a:t>	</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 Minimalna wartość projektu wynosi 10 tys. zł. </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zęści IV wniosku </a:t>
            </a:r>
            <a:r>
              <a:rPr b="0" i="1" lang="pl-PL" sz="1400" spc="-1" strike="noStrike">
                <a:solidFill>
                  <a:srgbClr val="000000"/>
                </a:solidFill>
                <a:latin typeface="Arial"/>
              </a:rPr>
              <a:t>Budżet projektu, w wierszu koszty ogółem, w kolumnie ogółem musi widnieć kwota nie mniejsza niż 10 tys. zł. </a:t>
            </a:r>
            <a:r>
              <a:rPr b="0" i="1" lang="pl-PL" sz="1400" spc="-1" strike="noStrike">
                <a:solidFill>
                  <a:srgbClr val="000000"/>
                </a:solidFill>
                <a:latin typeface="Arial"/>
              </a:rPr>
              <a:t>	</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4-06T12:31:43Z</dcterms:modified>
  <cp:revision>523</cp:revision>
  <dc:subject/>
  <dc:title>Slajd 1</dc:title>
</cp:coreProperties>
</file>