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9.xml.rels" ContentType="application/vnd.openxmlformats-package.relationships+xml"/>
  <Override PartName="/ppt/notesSlides/_rels/notesSlide37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FA214-E149-484A-9CC4-7CF22122BDD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2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88D48-489B-49A9-A654-A05B8F8D74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"/>
          <p:cNvSpPr/>
          <p:nvPr/>
        </p:nvSpPr>
        <p:spPr>
          <a:xfrm>
            <a:off x="917640" y="743040"/>
            <a:ext cx="496728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7520" bIns="47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42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BB38E-1CB1-442F-A808-4EB9E65208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"/>
          <p:cNvSpPr/>
          <p:nvPr/>
        </p:nvSpPr>
        <p:spPr>
          <a:xfrm>
            <a:off x="917640" y="743040"/>
            <a:ext cx="496728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7520" bIns="47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42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10"/>
          <p:cNvSpPr/>
          <p:nvPr/>
        </p:nvSpPr>
        <p:spPr>
          <a:xfrm>
            <a:off x="0" y="6597720"/>
            <a:ext cx="9144000" cy="2602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9"/>
          <p:cNvSpPr/>
          <p:nvPr/>
        </p:nvSpPr>
        <p:spPr>
          <a:xfrm>
            <a:off x="0" y="65977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ff"/>
                </a:solidFill>
                <a:latin typeface="Arial"/>
              </a:rPr>
              <a:t>Wojewódzki Urząd Pracy w Szczecin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1"/>
          <p:cNvSpPr/>
          <p:nvPr/>
        </p:nvSpPr>
        <p:spPr>
          <a:xfrm>
            <a:off x="611280" y="1052640"/>
            <a:ext cx="7993080" cy="0"/>
          </a:xfrm>
          <a:prstGeom prst="line">
            <a:avLst/>
          </a:prstGeom>
          <a:ln w="25560">
            <a:solidFill>
              <a:srgbClr val="2449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4" descr="listownik_PO_KL"/>
          <p:cNvPicPr/>
          <p:nvPr/>
        </p:nvPicPr>
        <p:blipFill>
          <a:blip r:embed="rId2"/>
          <a:stretch/>
        </p:blipFill>
        <p:spPr>
          <a:xfrm>
            <a:off x="971640" y="149400"/>
            <a:ext cx="7272360" cy="758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1"/>
          <p:cNvSpPr/>
          <p:nvPr/>
        </p:nvSpPr>
        <p:spPr>
          <a:xfrm>
            <a:off x="684360" y="1413000"/>
            <a:ext cx="7848360" cy="42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Spotkanie informacyj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Dokumentacje konkursow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Nr 1/8.1.2/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Nr 2/8.1.2/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Nr 1/8.1.3/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zczecin, 25 sierpnia 2011 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ole tekstowe 2"/>
          <p:cNvSpPr/>
          <p:nvPr/>
        </p:nvSpPr>
        <p:spPr>
          <a:xfrm>
            <a:off x="214200" y="5857920"/>
            <a:ext cx="871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potkanie współfinansowane ze środków Unii Europejskiej – Europejskiego Funduszu Społecznego            w ramach Pomocy Technicznej Programu Operacyjnego Kapitał Ludz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28760" y="1142640"/>
            <a:ext cx="8229600" cy="53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Szczegółowe </a:t>
            </a:r>
            <a:r>
              <a:rPr b="1" lang="pl-PL" sz="1600" spc="-1" strike="noStrike">
                <a:solidFill>
                  <a:srgbClr val="ff0000"/>
                </a:solidFill>
                <a:latin typeface="Arial"/>
                <a:ea typeface="Arial"/>
              </a:rPr>
              <a:t>kryteria dostępu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pl-PL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kryterium obligatoryjne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) c.d.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Projekt jest skierowany do grup docelowych z obszaru województwa zachodniopomorskiego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(w przypadku osób fizycznych uczą się, pracują lub zamieszkują one na obszarze województwa zachodniopomorskiego w rozumieniu przepisów Kodeksu Cywilnego, w przypadku innych podmiotów posiadają one jednostkę organizacyjną na obszarze województwa zachodniopomorskiego)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6.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Projektodawca w okresie realizacji projektu prowadzi biuro projektu (lub posiada siedzibę, filię, delegaturę, oddział czy inną prawnie dozwoloną formę organizacyjną dział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alności podmiotu) </a:t>
            </a:r>
            <a:br>
              <a:rPr sz="1400"/>
            </a:br>
            <a:r>
              <a:rPr b="0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na terenie województwa zachodniopomorskiego z możliwością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udostępnienia pełnej dokumentacji wdrażanego projektu oraz zapewniające uczestnikom projektu możliwość osobi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stego kontaktu </a:t>
            </a:r>
            <a:br>
              <a:rPr sz="1400"/>
            </a:br>
            <a:r>
              <a:rPr b="0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z kadrą projektu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500040" y="928800"/>
            <a:ext cx="8229600" cy="54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Szczegółowe </a:t>
            </a:r>
            <a:r>
              <a:rPr b="1" lang="pl-PL" sz="1600" spc="-1" strike="noStrike">
                <a:solidFill>
                  <a:srgbClr val="ff0000"/>
                </a:solidFill>
                <a:latin typeface="Arial"/>
                <a:ea typeface="Arial"/>
              </a:rPr>
              <a:t>kryteria strategiczne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(premia punktowa - kryterium fakultatywne) 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pl-PL" sz="15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lang="pl-PL" sz="1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Projekt z zakresu programu outplacementu w ramach, którego zapewnione zostanie kompleksowe wsparcie, wykorzystujące wszystkie wskazane w SzOP PO KL instrumenty wsparcia towarzyszącego (w skład którego wchodzą: pomoc w zmianie miejsca pracy, np. dodatek relokacyjny, pomoc w znalezieniu nowej pracy,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np. dodatek motywacyjny, wsparcie dla osób zamierzających rozpocząć działalność gospodarczą, staże i praktyki zawodowe przygotowujące do podjęcia pracy w nowym zawodzie, subsydiowanie zatrudnienia uczestnika u nowego pracodawcy) wprowadzonych w ramach Pakietu antykryzysowego POKL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Waga punktowa: 1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500040" y="928800"/>
            <a:ext cx="8229600" cy="54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Szczegółowe </a:t>
            </a:r>
            <a:r>
              <a:rPr b="1" lang="pl-PL" sz="1600" spc="-1" strike="noStrike">
                <a:solidFill>
                  <a:srgbClr val="ff0000"/>
                </a:solidFill>
                <a:latin typeface="Arial"/>
                <a:ea typeface="Arial"/>
              </a:rPr>
              <a:t>kryteria strategiczne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(premia punktowa - kryterium fakultatywne) 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W przypadku przyznawania środków finansowych na rozwój przedsiębiorczości wnioskodawca przyzna pierwszeństwo dla działalności gospodarczych zakładanych w następujących branżach: przemysł drzewno-meblarski, logistyczno-spedycyjny, turystyka, sektor ICT, energia odnawialna i ochrona środowiska, nowoczesne usługi zdrowotne, w tym usługi opiekuńcze nad osobami starszymi oraz bazujących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na wykorzystaniu ogólnodostępnych zasobów naturalnych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Waga punktowa: 2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Beneficjentem projektu jest konkretne restrukturyzowane przedsiębiorstwo lub projekt przygotowany jest pod potrzeby konkretnych przedsiębiorstw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Waga punktowa: 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610920" y="1125000"/>
            <a:ext cx="8001000" cy="498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l-PL" sz="1600" spc="-1" strike="noStrike" u="sng">
                <a:solidFill>
                  <a:srgbClr val="ff0000"/>
                </a:solidFill>
                <a:uFillTx/>
                <a:latin typeface="Arial"/>
              </a:rPr>
              <a:t>Reguła proporcjonalnośc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0" y="1877400"/>
            <a:ext cx="91440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Reguła proporcjonalności dotyczy rozliczenia projektu pod względem finansowym w zależności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od stopnia osiągnięcia założeń merytorycznych określonych we wniosku o dofinansowanie projektu. W związku z powyższym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przypadku niespełnienia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kryterium dostępu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ramach projektu – podmiot będący stroną umowy uznaje wszystkie wydatki dotychczas rozliczone w ramach projektu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za niekwalifikowaln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przypadku niespełnienia kryterium strategicznego w ramach projektu lub nieosiągnięcia celu projektu – wysokość wydatków w dotychczas zatwierdzonych wnioskach o płatność może zostać proporcjonalnie zmniejszona, co jednocześnie oznacza odpowiednie obniżenie kwoty dofinansowania określonej w umowie o dofinansowanie projektu; wysokość zmniejszenia dofinansowania odpowiada procentowi, w jakim dane kryterium lub cel nie zostały zrealizowa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Arial"/>
              </a:rPr>
              <a:t>Konkurs Nr 2/8.1.2/1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68000" y="1125000"/>
            <a:ext cx="8351640" cy="43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0200" indent="-250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Najważniejsze informacje 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50200" indent="-250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0200" indent="-250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Konkurs otwar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50200" indent="-250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Alokacja: 4 000 000,00 zł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50200" indent="-250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Termin ogłoszenia konkursu: 30.09.2011 r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50200" indent="-250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Nabór wniosków na posiedzenie KOP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50200" indent="-250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15 listopada 2011 r. – termin złożenia projektu warunkujący przekazanie wniosku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do oceny merytorycznej na tym posiedzeniu Komisji upływa z dniem 25 października 2011 r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50200" indent="-250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28 grudnia 2011 r. – termin złożenia projektu warunkujący przekazanie wniosku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do oceny merytorycznej na tym posiedzeniu Komisji upływa z dniem 8 grudnia 2011 r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50200" indent="-250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50200" indent="-250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0200" indent="-25020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0200" indent="-25020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0200" indent="-250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0200" indent="-250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0200" indent="-250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0200" indent="-25020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610920" y="1125000"/>
            <a:ext cx="7848360" cy="498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l-PL" sz="1400" spc="-1" strike="noStrike">
                <a:solidFill>
                  <a:srgbClr val="ff0000"/>
                </a:solidFill>
                <a:latin typeface="Arial"/>
              </a:rPr>
              <a:t>Dopuszczalne typy projektów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395280" y="1511640"/>
            <a:ext cx="828036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1. Pomoc w tworzeniu partnerstw lokalnych z udziałem m.in. przedsiębiorstw, organizacji pracodawców, związków zawodowych, jednostek samorządu terytorialnego, urzędów pracy i innych środowisk, mających na celu opracowanie i wdrażanie strategii przewidywania i zarządzania zmianą gospodarczą na poziomie lokalnym i wojewódzki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2. Podnoszenie świadomości pracowników i kadr zarządzających modernizowanych firm w zakresie możliwości i potrzeby realizacji projektów wspierających procesy zmian poprzez szkolenia i doradztw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3. Szkolenia przekwalifikowujące i usługi doradcze w zakresie wyboru nowego zawodu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i zdobycia nowych umiejętności zawodowych (w tym indywidualne plany działań i pomo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wyborze odpowiedniego zawodu i miejsca zatrudnienia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4. Szkolenia i doradztwo dla przedsiębiorców wspomagające proces zmiany profilu działalności przedsiębiorstw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642600" y="1357200"/>
            <a:ext cx="792972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Wymagania odnośnie grupy docelowej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pracodawcy i pracownicy pracodawców przechodzących procesy adaptacyjne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i modernizacyjne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przedsiębiorcy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partnerzy społeczni (organizacje pracodawców i związki zawodow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osoby odchodzące z rolnictwa lub rybołówstwa (rybactwa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samorządy gospodarcze i zawodowe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jednostki samorządu terytorialnego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instytucje rynku pracy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społeczność lokalna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organizacje pozarządow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rostokąt 3"/>
          <p:cNvSpPr/>
          <p:nvPr/>
        </p:nvSpPr>
        <p:spPr>
          <a:xfrm>
            <a:off x="928800" y="1060560"/>
            <a:ext cx="82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9640" indent="-2667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28760" y="1142640"/>
            <a:ext cx="8229600" cy="53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Szczegółowe </a:t>
            </a:r>
            <a:r>
              <a:rPr b="1" lang="pl-PL" sz="1600" spc="-1" strike="noStrike">
                <a:solidFill>
                  <a:srgbClr val="ff0000"/>
                </a:solidFill>
                <a:latin typeface="Arial"/>
                <a:ea typeface="Arial"/>
              </a:rPr>
              <a:t>kryteria dostępu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pl-PL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kryterium obligatoryjne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Okres realizacji projektu nie przekracza 24 miesięcy.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(Stosuje się do wszystkich typów projektów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 Minimalna wartość projektu wynosi 200 tysięcy złotych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(Stosuje się do typów projektów: 3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Projekt oprócz zawiązania współpracy przewiduje zagwarantowanie możliwości stałej wymiany informacji pomiędzy podmiotami zaangażowanymi w realizację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(Stosuje się do typów projektów: 1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Projekt jest skierowany do grup docelowych z obszaru województwa zachodniopomorskiego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(w przypadku osób fizycznych uczą się, pracują lub zamieszkują one na obszarze województwa zachodniopomorskiego w rozumieniu przepisów Kodeksu Cywilnego, w przypadku innych podmiotów posiadają one jednostkę organizacyjną na obszarze województwa zachodniopomorskiego). 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(Stosuje się do wszystkich typów projektów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28760" y="1142640"/>
            <a:ext cx="8229600" cy="53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Szczegółowe </a:t>
            </a:r>
            <a:r>
              <a:rPr b="1" lang="pl-PL" sz="1600" spc="-1" strike="noStrike">
                <a:solidFill>
                  <a:srgbClr val="ff0000"/>
                </a:solidFill>
                <a:latin typeface="Arial"/>
                <a:ea typeface="Arial"/>
              </a:rPr>
              <a:t>kryteria dostępu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pl-PL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kryterium obligatoryjne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Zakres doradztwa udzielanego w projekcie nie pokrywa się z zakresem doradztwa, na które przedsiębiorstwo otrzymało już wsparcie w ramach Poddziałania 1.3.1 RPO WZ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(Stosuje się do typów projektów: 4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6.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Wsparcie w projekcie odpowiada na potrzeby przedsiębiorstw wskazanych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we wniosku o dofinansowanie realizacji projektu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(Stosuje się do typów projektów: 3,4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7.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Projektodawca w okresie realizacji projektu prowadzi biuro projektu (lub posiada siedzibę, filię, delegaturę, oddział czy inną prawnie dozwoloną formę organizacyjną dział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alności podmiotu) </a:t>
            </a:r>
            <a:br>
              <a:rPr sz="1400"/>
            </a:br>
            <a:r>
              <a:rPr b="0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na terenie województwa zachodniopomorskiego z możliwością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udostępnienia pełnej dokumentacji wdrażanego projektu oraz zapewniające uczestnikom projektu możliwość osobi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stego kontaktu </a:t>
            </a:r>
            <a:br>
              <a:rPr sz="1400"/>
            </a:br>
            <a:r>
              <a:rPr b="0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z kadrą projektu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(Stosuje się do wszystkich typów projektów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760" y="1928880"/>
            <a:ext cx="822960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Stan wdrażania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rogramu Operacyjnego Kapitał Ludzki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w województwie zachodniopomorskim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Stan na dzień 31.08.2011 r.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395280" y="836640"/>
            <a:ext cx="8229600" cy="54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0720" indent="-2707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Szczegółowe </a:t>
            </a:r>
            <a:r>
              <a:rPr b="1" lang="pl-PL" sz="1600" spc="-1" strike="noStrike">
                <a:solidFill>
                  <a:srgbClr val="ff0000"/>
                </a:solidFill>
                <a:latin typeface="Arial"/>
                <a:ea typeface="Arial"/>
              </a:rPr>
              <a:t>kryteria strategiczne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(premia punktowa - kryterium fakultatywne) 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0720" indent="-2707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0720" indent="-270720" algn="just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 Projekt obejmuje wsparciem w 100% osoby z obszarów gmin o najtrudniejszej sytuacji ekonomicznej (wg załącznika nr 6 do RPO), w szczególności mieszkańców obszarów wiejskich. Jednocześnie projekt zapewnia szkolenia przyczyniające się do uzyskania uprawnień zawodowych, licencji zawodowych, kwalifikacji potwierdzonych formalnym dokumentem lub certyfikatów nabytych na podstawie egzaminów przeprowadzanych przez akredytowane instytucje 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(dot. 3 typu projektów) lub projekt obejmuje wsparciem w 100% podmioty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funkcjonujące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na obszarach wiejskich oraz z obszarów gmin o najtrudniejszej sytuacji ekonomicznej - wg załącznika nr 6 do RPO 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(dotyczy 1 typu projektów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0720" indent="-2707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Waga punktowa: 1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0720" indent="-2707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Stosuje się do typów projektów: 1,3 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(szczegółowy podział został zawarty powyżej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0720" indent="-270720" algn="just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0720" indent="-270720" algn="just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2. Projekt zapewnia, w całości lub dodatkowo, wsparcie związane z wprowadzeniem innowacji technicznych oraz organizacyjnych w przedsiębiorstwie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0720" indent="-2707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Waga punktowa: 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0720" indent="-2707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Stosuje się do typów projektów: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0720" indent="-2707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0720" indent="-2707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0720" indent="-2707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0720" indent="-2707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0720" indent="-2707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0720" indent="-2707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610920" y="928800"/>
            <a:ext cx="7993080" cy="54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Szczegółowe </a:t>
            </a:r>
            <a:r>
              <a:rPr b="1" lang="pl-PL" sz="1600" spc="-1" strike="noStrike">
                <a:solidFill>
                  <a:srgbClr val="ff0000"/>
                </a:solidFill>
                <a:latin typeface="Arial"/>
                <a:ea typeface="Arial"/>
              </a:rPr>
              <a:t>kryteria strategiczne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(premia punktowa - kryterium fakultatywne) 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Projekt zapewnia w całości lub dodatkowo wsparcie związane z procesami certyfikacji przedsiębiorstw w zakresie standardów i norm jakościowych, czyli procesowi poświadczania przez jednostkę certyfikującą, iż funkcjonujący system zarządzania jakością jest zgodny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z wymaganiami stosowania norm i skutecznie wdrażany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Waga punktowa: 1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Stosuje się do typów projektów: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Projekt zapewnia wdrożenie/rozszerzenie modelu „e-barometr” lub innego modelu wykorzystywanego w ramach zwalidowanego rezultatu PIW EQUAL, służącego zwiększeniu adaptacyjności przedsiębiorstw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Waga punktowa: 1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Stosuje się do typów projektów: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Projekt zapewnia wykorzystanie rezultatów z PIW EQUAL wypracowanych w obszarze zwiększenia zdolności dostosowawczych pracowników w wieku 50+ na rynku pracy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Waga punktowa: 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Stosuje się do typów projektów: 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Arial"/>
              </a:rPr>
              <a:t>Konkurs Nr 1/8.1.3/1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68000" y="1125000"/>
            <a:ext cx="8351640" cy="43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0200" indent="-250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Najważniejsze informacje 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50200" indent="-250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0200" indent="-250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Konkurs otwar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50200" indent="-250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Alokacja: 1 439 681,00 zł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50200" indent="-250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Termin ogłoszenia konkursu: 30.09.2011 r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50200" indent="-250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Nabór wniosków na posiedzenie KOP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50200" indent="-250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15 listopada 2011 r. – termin złożenia projektu warunkujący przekazanie wniosku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do oceny merytorycznej na tym posiedzeniu Komisji upływa z dniem 25 października 2011 r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50200" indent="-250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28 grudnia 2011 r. – termin złożenia projektu warunkujący przekazanie wniosku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do oceny merytorycznej na tym posiedzeniu Komisji upływa z dniem 8 grudnia 2011 r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50200" indent="-250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50200" indent="-250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0200" indent="-25020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0200" indent="-25020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0200" indent="-250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0200" indent="-250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0200" indent="-250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0200" indent="-25020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610920" y="1125000"/>
            <a:ext cx="7848360" cy="498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l-PL" sz="1400" spc="-1" strike="noStrike">
                <a:solidFill>
                  <a:srgbClr val="ff0000"/>
                </a:solidFill>
                <a:latin typeface="Arial"/>
              </a:rPr>
              <a:t>Dopuszczalne typy projektów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539640" y="1754640"/>
            <a:ext cx="799308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Inicjatywy podejmowane na poziomie lokalnym i regionalnym przez związki pracodawców i związki zawodowe, mające na celu zwiększanie zdolności adaptacyjnych pracowników i przedsiębiorców, w szczególności w zakresi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a) organizacji prac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b) form świadczenia prac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c) promocji podnoszenia kwalifikacji zawodowych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d) godzenia życia zawodowego i prywatneg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romowanie społecznej odpowiedzialności przedsiębiorstw, w szczególności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odniesieniu do lokalnego rynku pracy, warunków pracy pracowników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i środowiska naturalneg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Upowszechnianie na poziomie lokalnym i regionalnym idei flexicur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642600" y="1357200"/>
            <a:ext cx="792972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Wymagania odnośnie grupy docelowej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pracodawcy i pracownicy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organizacje pracodawców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związki zawodowe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jednostki samorządu terytorialnego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instytucje rynku prac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społeczność lokalna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organizacje pozarządow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rostokąt 3"/>
          <p:cNvSpPr/>
          <p:nvPr/>
        </p:nvSpPr>
        <p:spPr>
          <a:xfrm>
            <a:off x="928800" y="1060560"/>
            <a:ext cx="82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9640" indent="-2667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28760" y="1142640"/>
            <a:ext cx="8229600" cy="53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Szczegółowe </a:t>
            </a:r>
            <a:r>
              <a:rPr b="1" lang="pl-PL" sz="1600" spc="-1" strike="noStrike">
                <a:solidFill>
                  <a:srgbClr val="ff0000"/>
                </a:solidFill>
                <a:latin typeface="Arial"/>
                <a:ea typeface="Arial"/>
              </a:rPr>
              <a:t>kryteria dostępu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pl-PL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kryterium obligatoryjne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Okres realizacji projektu nie przekracza 24 miesięcy.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(Stosuje się do wszystkich typów projektów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Projekt jest realizowany w partnerstwie organizacji pracodawców i związków zawodowych w celu wypracowania wspólnych rozwiązań i zawiązania przyszłej współprac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(Stosuje się do typu operacji nr 1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Projekt jest skierowany do grup docelowych z obszaru województwa zachodniopomorskiego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(w przypadku osób fizycznych uczą się, pracują lub zamieszkują one na obszarze województwa zachodniopomorskiego w rozumieniu przepisów Kodeksu Cywilnego, w przypadku innych podmiotów posiadają one jednostkę organizacyjną na obszarze województwa zachodniopomorskiego)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(Stosuje się do typu/typów operacji nr 1, 2, 3)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Projektodawca w okresie realizacji projektu prowadzi biuro projektu (lub posiada siedzibę, filię, delegaturę, oddział czy inną prawnie dozwoloną formę organizacyjną działalności podmiotu)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na terenie województwa zachodniopomorskiego z możliwością udostępnienia pełnej dokumentacji wdrażanego projektu oraz zapewniające uczestnikom projektu możliwość osobistego kontaktu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z kadrą projektu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(Stosuje się do typu/typów operacji nr 1, 2, 3)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68360" y="1196640"/>
            <a:ext cx="8136000" cy="50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Szczegółowe </a:t>
            </a:r>
            <a:r>
              <a:rPr b="1" lang="pl-PL" sz="1600" spc="-1" strike="noStrike">
                <a:solidFill>
                  <a:srgbClr val="ff0000"/>
                </a:solidFill>
                <a:latin typeface="Arial"/>
                <a:ea typeface="Arial"/>
              </a:rPr>
              <a:t>kryteria strategiczne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(premia punktowa - kryterium fakultatywne) 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just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just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Projekt zakłada udzielnie wsparcia w kierunku upowszechnienia i wdrożenia instrumentów pozwalających na zastosowanie elastycznych form zatrudnienia oraz ułatwienia godzenia życia zawodowego z prywatnym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Waga: 20 punktów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Stosuje się do typu/typów operacji nr 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just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just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Projekt zakłada promowanie wśród przedsiębiorców nowoczesnych strategii zarządzania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w zakresie zasobów ludzkich, w tym obowiązkowo zarządzania różnorodnością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w przedsiębiorstwach, w szczególności w kontekście płci pracowników oraz upowszechnianie wiedzy w zakresie zmniejszania obszarów dyskryminacji pracowników ze względu na płeć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Waga: 20 punktów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Stosuje się do typu/typów operacji nr 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642600" y="1285920"/>
            <a:ext cx="7929720" cy="51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Ogólne kryteria horyzontalne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Zgodność z właściwymi politykami i zasadami wspólnotowymi (w tym: polityką równych szans i koncepcją zrównoważonego rozwoju) oraz prawodawstwem wspólnotowym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Zgodność z prawodawstwem krajowym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Zgodność ze Szczegółowym Opisem Priorytetów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0000"/>
                </a:solidFill>
                <a:latin typeface="Arial"/>
                <a:ea typeface="Arial"/>
              </a:rPr>
              <a:t>Uwaga!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Jeśli projekt nie jest zgodny ze standardem minimum,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nie oznacza to automatycznie, że jest niezgodny z pozostałymi politykami i zasadami wspólnotowymi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. A zatem pytania: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Czy projekt jest zgodny z zasadą równości szans kobiet i mężczyzn ? oraz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Czy projekt jest zgodny z pozostałymi politykami i zasadami wspólnotowymi (w tym polityką równości szans i koncepcją zrównoważonego rozwoju)?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zawarte w Karty oceny merytorycznej wniosku o dofinansowanie projektu składanego w trybie konkursowym </a:t>
            </a:r>
            <a:r>
              <a:rPr b="1" lang="pl-PL" sz="1400" spc="-1" strike="noStrike">
                <a:solidFill>
                  <a:srgbClr val="ff0000"/>
                </a:solidFill>
                <a:latin typeface="Arial"/>
                <a:ea typeface="Arial"/>
              </a:rPr>
              <a:t>traktowane </a:t>
            </a:r>
            <a:br>
              <a:rPr sz="1400"/>
            </a:br>
            <a:r>
              <a:rPr b="1" lang="pl-PL" sz="1400" spc="-1" strike="noStrike">
                <a:solidFill>
                  <a:srgbClr val="ff0000"/>
                </a:solidFill>
                <a:latin typeface="Arial"/>
                <a:ea typeface="Arial"/>
              </a:rPr>
              <a:t>są rozłącznie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ole tekstowe 1"/>
          <p:cNvSpPr/>
          <p:nvPr/>
        </p:nvSpPr>
        <p:spPr>
          <a:xfrm>
            <a:off x="539640" y="1700280"/>
            <a:ext cx="7920000" cy="27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ff0000"/>
                </a:solidFill>
                <a:uFillTx/>
                <a:latin typeface="Arial"/>
              </a:rPr>
              <a:t>O czym należy pamiętać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GWA 6.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kumentacja konkursow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ażne dokumen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ole tekstowe 4"/>
          <p:cNvSpPr/>
          <p:nvPr/>
        </p:nvSpPr>
        <p:spPr>
          <a:xfrm>
            <a:off x="1403280" y="1052640"/>
            <a:ext cx="57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topień wykorzystania alokacji 2007-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ole tekstowe 3"/>
          <p:cNvSpPr/>
          <p:nvPr/>
        </p:nvSpPr>
        <p:spPr>
          <a:xfrm>
            <a:off x="539640" y="6381720"/>
            <a:ext cx="468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Arial"/>
              </a:rPr>
              <a:t>*Stan na dzień 31.08.2011 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800" spc="-1" strike="noStrike">
                <a:solidFill>
                  <a:srgbClr val="000000"/>
                </a:solidFill>
                <a:latin typeface="Arial"/>
              </a:rPr>
              <a:t>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Wykres 4" descr=""/>
          <p:cNvPicPr/>
          <p:nvPr/>
        </p:nvPicPr>
        <p:blipFill>
          <a:blip r:embed="rId1"/>
          <a:stretch/>
        </p:blipFill>
        <p:spPr>
          <a:xfrm>
            <a:off x="317520" y="1407960"/>
            <a:ext cx="8508960" cy="49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ole tekstowe 1"/>
          <p:cNvSpPr/>
          <p:nvPr/>
        </p:nvSpPr>
        <p:spPr>
          <a:xfrm>
            <a:off x="1258920" y="2205000"/>
            <a:ext cx="6265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Generator Wniosków Aplikacyjnych - wersja 6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8964720" cy="6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00"/>
                </a:solidFill>
                <a:latin typeface="Garamond"/>
              </a:rPr>
              <a:t>Punkt 3.1 Uzasadnienie potrzeby realizacji i cele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0" descr=""/>
          <p:cNvPicPr/>
          <p:nvPr/>
        </p:nvPicPr>
        <p:blipFill>
          <a:blip r:embed="rId1"/>
          <a:srcRect l="4724" t="12918" r="8563" b="11811"/>
          <a:stretch/>
        </p:blipFill>
        <p:spPr>
          <a:xfrm>
            <a:off x="324000" y="1773360"/>
            <a:ext cx="84978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Garamond"/>
              </a:rPr>
              <a:t>Punkt 3.2 </a:t>
            </a:r>
            <a:r>
              <a:rPr b="1" i="1" lang="pl-PL" sz="3200" spc="-1" strike="noStrike">
                <a:solidFill>
                  <a:srgbClr val="ff0000"/>
                </a:solidFill>
                <a:latin typeface="Garamond"/>
              </a:rPr>
              <a:t>Grupy docelo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2" descr=""/>
          <p:cNvPicPr/>
          <p:nvPr/>
        </p:nvPicPr>
        <p:blipFill>
          <a:blip r:embed="rId1"/>
          <a:srcRect l="4134" t="34695" r="5315" b="40970"/>
          <a:stretch/>
        </p:blipFill>
        <p:spPr>
          <a:xfrm>
            <a:off x="395280" y="2133720"/>
            <a:ext cx="828036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Garamond"/>
              </a:rPr>
              <a:t>Punkt 3.3 </a:t>
            </a:r>
            <a:r>
              <a:rPr b="1" i="1" lang="pl-PL" sz="3200" spc="-1" strike="noStrike">
                <a:solidFill>
                  <a:srgbClr val="ff0000"/>
                </a:solidFill>
                <a:latin typeface="Garamond"/>
              </a:rPr>
              <a:t>Zadania</a:t>
            </a:r>
            <a:r>
              <a:rPr b="1" lang="pl-PL" sz="3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"/>
          <p:cNvPicPr/>
          <p:nvPr/>
        </p:nvPicPr>
        <p:blipFill>
          <a:blip r:embed="rId1"/>
          <a:srcRect l="2657" t="28421" r="3839" b="33957"/>
          <a:stretch/>
        </p:blipFill>
        <p:spPr>
          <a:xfrm>
            <a:off x="250920" y="2133720"/>
            <a:ext cx="856908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125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Garamond"/>
              </a:rPr>
              <a:t>Punkt 3.4 Ryzyko nieosiągnięcia założeń proje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1"/>
          <a:srcRect l="2362" t="30635" r="3543" b="9966"/>
          <a:stretch/>
        </p:blipFill>
        <p:spPr>
          <a:xfrm>
            <a:off x="395280" y="1700280"/>
            <a:ext cx="82090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Garamond"/>
              </a:rPr>
              <a:t>Punkt 3.5 Oddziaływanie proje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1258920" y="1268280"/>
            <a:ext cx="6769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3" descr=""/>
          <p:cNvPicPr/>
          <p:nvPr/>
        </p:nvPicPr>
        <p:blipFill>
          <a:blip r:embed="rId1"/>
          <a:srcRect l="2362" t="28421" r="3543" b="46137"/>
          <a:stretch/>
        </p:blipFill>
        <p:spPr>
          <a:xfrm>
            <a:off x="395280" y="1989000"/>
            <a:ext cx="8280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Garamond"/>
              </a:rPr>
              <a:t>Punkty 3.6 i 3.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rcRect l="5315" t="19193" r="7382" b="10704"/>
          <a:stretch/>
        </p:blipFill>
        <p:spPr>
          <a:xfrm>
            <a:off x="395280" y="1773360"/>
            <a:ext cx="828036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1285920" y="5857920"/>
            <a:ext cx="6697440" cy="642960"/>
          </a:xfrm>
          <a:prstGeom prst="rect">
            <a:avLst/>
          </a:prstGeom>
          <a:noFill/>
          <a:ln w="9360">
            <a:solidFill>
              <a:srgbClr val="c3cb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69920" indent="-169920" algn="ctr">
              <a:tabLst>
                <a:tab algn="l" pos="0"/>
                <a:tab algn="l" pos="169920"/>
                <a:tab algn="l" pos="895320"/>
                <a:tab algn="l" pos="1809720"/>
                <a:tab algn="l" pos="2724120"/>
                <a:tab algn="l" pos="3638520"/>
                <a:tab algn="l" pos="4552920"/>
                <a:tab algn="l" pos="5467320"/>
                <a:tab algn="l" pos="6381720"/>
                <a:tab algn="l" pos="7296120"/>
                <a:tab algn="l" pos="8210520"/>
                <a:tab algn="l" pos="9124920"/>
                <a:tab algn="l" pos="1003932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unkt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Konsultacyjny EF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działa w godzinach: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9.00 – 15.00 od poniedziałku do piątku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1079640" y="1071720"/>
            <a:ext cx="7021440" cy="46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Dodatkowych informacji udziela</a:t>
            </a:r>
            <a:r>
              <a:rPr b="1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ją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unkt Konsultacyjny E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ojewódzki Urz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 Pracy w Szczecinie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l.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ickiewicza 4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el. 91 42 56 163/16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pokl@wup.p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1" lang="pl-PL" sz="1400" spc="-1" strike="noStrike">
                <a:solidFill>
                  <a:srgbClr val="301800"/>
                </a:solidFill>
                <a:latin typeface="Arial"/>
              </a:rPr>
              <a:t>www.pokl.wup.p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unkt Konsultacyjny EFS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ojewódzki Urząd Pracy - f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li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a Koszalin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l. Słowiańska 15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el. 94 344 50 25/26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poklkoszalin@wup.p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1" lang="pl-PL" sz="1400" spc="-1" strike="noStrike" u="sng">
                <a:solidFill>
                  <a:srgbClr val="000000"/>
                </a:solidFill>
                <a:uFillTx/>
                <a:latin typeface="Arial"/>
              </a:rPr>
              <a:t>www.pokl.wup.p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ole tekstowe 3"/>
          <p:cNvSpPr/>
          <p:nvPr/>
        </p:nvSpPr>
        <p:spPr>
          <a:xfrm>
            <a:off x="3143160" y="5500800"/>
            <a:ext cx="292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c8c93"/>
                </a:solidFill>
                <a:latin typeface="Arial"/>
              </a:rPr>
              <a:t>SKYPE: WUP_SZCZEC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rostokąt 1"/>
          <p:cNvSpPr/>
          <p:nvPr/>
        </p:nvSpPr>
        <p:spPr>
          <a:xfrm>
            <a:off x="500040" y="1071720"/>
            <a:ext cx="7786800" cy="76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Instytucje, które pomogą Państwu przygotować projek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0000"/>
                </a:solidFill>
                <a:latin typeface="Arial"/>
              </a:rPr>
              <a:t>Regionalny Ośrodek EFS w Szczecin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Arial"/>
              </a:rPr>
              <a:t>Zachodniopomorska Agencja Rozwoju Regionalnego S.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ul. Św. Ducha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70-223 Szczec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tel. 91 432 93 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e-mail: info_szczecin@roefs.p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01800"/>
                </a:solidFill>
                <a:latin typeface="Arial"/>
              </a:rPr>
              <a:t>www.szczecin.roefs.p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oraz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0000"/>
                </a:solidFill>
                <a:latin typeface="Arial"/>
              </a:rPr>
              <a:t>Regionalny Ośrodek EFS w Koszalin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Arial"/>
              </a:rPr>
              <a:t>Koszalińska Agencja Rozwoju Regionalnego S.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ul. Przemysłowa 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75-216 Koszal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tel. 94 343 26 3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e-mail: info_koszalin@roefs.p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01800"/>
                </a:solidFill>
                <a:latin typeface="Arial"/>
              </a:rPr>
              <a:t>www.koszalin.roefs.p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ole tekstowe 4"/>
          <p:cNvSpPr/>
          <p:nvPr/>
        </p:nvSpPr>
        <p:spPr>
          <a:xfrm>
            <a:off x="214200" y="5857920"/>
            <a:ext cx="871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potkanie współfinansowane ze środków Unii Europejskiej – Europejskiego Funduszu Społecznego            w ramach Pomocy Technicznej Programu Operacyjnego Kapitał Ludz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ole tekstowe 5"/>
          <p:cNvSpPr/>
          <p:nvPr/>
        </p:nvSpPr>
        <p:spPr>
          <a:xfrm>
            <a:off x="2143080" y="2714760"/>
            <a:ext cx="47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Dziękujemy za uwagę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Arial"/>
              </a:rPr>
              <a:t>Konkurs Nr 1/8.1.2/1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68360" y="1125000"/>
            <a:ext cx="8424720" cy="43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3800" indent="-2538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Najważniejsze informacje 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53800" indent="-253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3800" indent="-2538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Konkurs otwar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53800" indent="-2538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Alokacja: 4 000 000,00 zł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53800" indent="-2538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Termin ogłoszenia konkursu: 30.09.2011 r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53800" indent="-2538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Nabór wniosków na posiedzenie KOP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53800" indent="-2538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- 15 listopada 2011 r. – termin złożenia projektu warunkujący przekazanie wniosku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do oceny merytorycznej na tym posiedzeniu Komisji upływa z dniem 25 października 2011 r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53800" indent="-2538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28 grudnia 2011 r. – termin złożenia projektu warunkujący przekazanie wniosku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do oceny merytorycznej na tym posiedzeniu Komisji upływa z dniem 8 grudnia 2011 r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53800" indent="-2538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53800" indent="-253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3800" indent="-25380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3800" indent="-25380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3800" indent="-253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3800" indent="-253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3800" indent="-253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3800" indent="-25380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10920" y="1125000"/>
            <a:ext cx="7848360" cy="498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l-PL" sz="1400" spc="-1" strike="noStrike">
                <a:solidFill>
                  <a:srgbClr val="ff0000"/>
                </a:solidFill>
                <a:latin typeface="Arial"/>
              </a:rPr>
              <a:t>Dopuszczalne typy projektów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395280" y="1419480"/>
            <a:ext cx="828036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sparcie dla osób zwolnionych, przewidzianych do zwolnienia lub zagrożonych zwolnieniem z pracy z przyczyn dotyczących zakładu pracy, zatrudnionych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u pracodawców przechodzących procesy adaptacyjne i modernizacyjne, realizowane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formie tworzenia i wdrażania programów zwolnień monitorowanych (outplacement), obejmujących łączni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a) szkolenia i poradnictwo zawodowe ora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b) poradnictwo psychologiczneg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a także wybrane działania spośród następujących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staże i praktyki zawodowe przygotowujące do podjęcia pracy w nowym zawodzi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subsydiowanie zatrudnienia uczestnika projektu u nowego pracodawc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10920" y="1125000"/>
            <a:ext cx="8001000" cy="498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l-PL" sz="1400" spc="-1" strike="noStrike">
                <a:solidFill>
                  <a:srgbClr val="ff0000"/>
                </a:solidFill>
                <a:latin typeface="Arial"/>
              </a:rPr>
              <a:t>Dopuszczalne typy projektów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395280" y="1568520"/>
            <a:ext cx="828036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sparcie dla osób zamierzających rozpocząć działalność gospodarczą poprzez zastosowanie co najmniej jednego z następujących instrumentów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doradztwo (indywidualne i grupowe) oraz szkolenia umożliwiające uzyskanie wiedzy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i umiejętności potrzebnych do założenia i prowadzenia działalności gospodarczej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rzyznanie środków finansowych na rozwój przedsiębiorczości do wysokości 40 tys. PLN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a osobę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- wsparcie pomostowe w okresie do 6 (lub do 12) miesięcy od dnia zawarcia umowy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o udzielenie wsparcia pomostowego, obejmujące finansowe wsparcie pomostowe wypłacane miesięcznie w kwocie nie wyższej niż równowartość minimalnego wynagrodzenia obowiązującego w dniu wypłacenia dotacji, połączone z doradztwem oraz pomocą w efektywnym wykorzystaniu dotacji (wyłącznie dla osób, które rozpoczęły działalność w ramach danego projektu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642600" y="1357200"/>
            <a:ext cx="792972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Wymagania odnośnie grupy docelowej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racodawcy i pracownicy pracodawców przechodzących procesy adaptacyjne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i modernizacyjne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osoby, które utraciły pracę z przyczyn dotyczących zakładu pracy w okresie nie dłuższym niż 6 miesięcy przed dniem przystąpienia do projektu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rostokąt 3"/>
          <p:cNvSpPr/>
          <p:nvPr/>
        </p:nvSpPr>
        <p:spPr>
          <a:xfrm>
            <a:off x="928800" y="1060560"/>
            <a:ext cx="82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9640" indent="-2667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28760" y="1142640"/>
            <a:ext cx="8229600" cy="53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Szczegółowe </a:t>
            </a:r>
            <a:r>
              <a:rPr b="1" lang="pl-PL" sz="1600" spc="-1" strike="noStrike">
                <a:solidFill>
                  <a:srgbClr val="ff0000"/>
                </a:solidFill>
                <a:latin typeface="Arial"/>
                <a:ea typeface="Arial"/>
              </a:rPr>
              <a:t>kryteria dostępu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pl-PL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kryterium obligatoryjne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Okres realizacji projektu nie przekracza 24 miesięcy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Minimalna wartość projektu wynosi 200 tysięcy złotych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Projekt outplacementowy musi obowiązkowo zawierać przynajmniej dwa instrumenty z zakresu wsparcia towarzyszącego, w skład którego wchodzą: pomoc w zmianie miejsca pracy,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np. dodatek relokacyjny (mobilnościowy), pomoc w znalezieniu nowej pracy, np. dodatek motywacyjny12, wsparcie dla osób zamierzających rozpocząć działalność gospodarczą, staże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i praktyki zawodowe przygotowujące do podjęcia pracy w nowym zawodzie, subsydiowanie zatrudnienia uczestnika u nowego pracodawcy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Wskaźnik efektywności zatrudnieniowej uczestników projektu mierzony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na zakończenie jego realizacji wynosi co najmniej 50% (uczestnicy, którzy podejmą pracę lub rozpoczną prowadzenie działalności gospodarczej)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2T08:01:27Z</dcterms:created>
  <dc:creator>leszek.teszka</dc:creator>
  <dc:description/>
  <dc:language>en-US</dc:language>
  <cp:lastModifiedBy>justyna.klonowska</cp:lastModifiedBy>
  <dcterms:modified xsi:type="dcterms:W3CDTF">2011-10-06T07:31:09Z</dcterms:modified>
  <cp:revision>657</cp:revision>
  <dc:subject/>
  <dc:title>Slajd 1</dc:title>
</cp:coreProperties>
</file>