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652A-5296-4F08-ABC2-B7AF97C07D8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9E29-9B95-4242-98F0-6CECC1D06E7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C6FD6D18-204B-4C9E-A7EA-E49C0AF4224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2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C5EE-887D-480F-98AA-7A8EC0EC8D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917640" y="743040"/>
            <a:ext cx="49672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2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50CF-DEAF-451A-9812-BE5FE1C6D0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917640" y="743040"/>
            <a:ext cx="49672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0" y="65977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Arial"/>
              </a:rPr>
              <a:t>Wojewódzki Urząd Pracy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611280" y="1052640"/>
            <a:ext cx="7993080" cy="0"/>
          </a:xfrm>
          <a:prstGeom prst="line">
            <a:avLst/>
          </a:prstGeom>
          <a:ln w="25560">
            <a:solidFill>
              <a:srgbClr val="2449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4" descr="listownik_PO_KL"/>
          <p:cNvPicPr/>
          <p:nvPr/>
        </p:nvPicPr>
        <p:blipFill>
          <a:blip r:embed="rId2"/>
          <a:stretch/>
        </p:blipFill>
        <p:spPr>
          <a:xfrm>
            <a:off x="971640" y="149400"/>
            <a:ext cx="7272360" cy="75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1"/>
          <p:cNvSpPr/>
          <p:nvPr/>
        </p:nvSpPr>
        <p:spPr>
          <a:xfrm>
            <a:off x="684360" y="1700280"/>
            <a:ext cx="784836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Spotkanie informacyj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okumentacja konkurs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nr 1/8.1.2/IN/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nr 1/9.2/IN/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ojekty innowacyjne testując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 K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 możliwością realizacji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mponentu ponadnarodow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zczecin, 19 kwietnia 2011 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ole tekstowe 2"/>
          <p:cNvSpPr/>
          <p:nvPr/>
        </p:nvSpPr>
        <p:spPr>
          <a:xfrm>
            <a:off x="214200" y="5857920"/>
            <a:ext cx="871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tkanie współfinansowane ze środków Unii Europejskiej – Europejskiego Funduszu Społecznego            w ramach Pomocy Technicznej Programu Operacyjnego Kapitał Ludz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193320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PRODUKT FINAL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Efektem realizacji projektu innowacyjnego musi być PRODUKT rozumiany jako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MODEL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system założeń, pojęć i zależności między nimi pozwalający opisać (zamodelować) w przybliżony sposób jakiś aspekt rzeczywistości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NARZĘDZIE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– umożliwia i/lub ułatwia realizację określonych działań, zadań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INSTRUMENT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– element narzędzia, wspierający jego skuteczność i efektywność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GRUPA DOCELOWA (I wymiar innowacyjnośc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osoby, grupy, środowiska, które wymagają wypracowania nowych, lepszych, skuteczniejszych rozwiązań czy podejść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jekt innowacyjny moż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być skierowany do grup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pomijanych lub wykluczanych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ponować aktywne metody wsparcia skierowane do grup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dotychczas wspieranych biernie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kierować działania do grup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dobrze znanych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i dotychczas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szeroko i aktywnie wspieranych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, oferując jedynie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modyfikację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dotychczasowych form wsparci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GRUPA DOCELOWA (I wymiar innowacyjnośc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Użytkownicy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– to ci, którzy otrzymują do rąk nowe metody działania, nowe technologie, nowe narzędzi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Mogą mieć charakter instytucjonalny bądź pozainstytucjonalny, np. powiatowe urzędy pracy, agencje zatrudnienia, ośrodki pomocy społecznej, instruktorzy, pośrednicy pracy, nauczycie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Odbiorcy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to ci, których problemy będą mogły być złagodzone lub skutecznie rozwiązane dzięki nowej metodzi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Wymiary grup docelowych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docelowy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upowszechnienia i włączenia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testowani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PROBLEM (II wymiar innowacyjnośc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 projekcie innowacyjnym skupiamy się na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poszukiwaniu rozwiązania problemu, który do tej pory nie był przedmiotem polityki państwa, a więc problemu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nieznanego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znanego, lecz niedostrzeganego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dobrze znaneg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FORMA WSPARCIA (III wymiar innowacyjnośc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ypracowanie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nowatorskich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metod działania, innowacyjnych instrumentów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i narzędzi, lu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ponowanie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znanych, sprawdzonych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metod wobec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innych grup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niż te, które dotychczas były objęte daną metodą, lu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doskonalenie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dotychczasowych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metod, wprowadzając do nich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korekty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, stosując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je wobec tych samych co dotychczas grup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6836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Uwaga!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arunkiem przejścia do drugiego etapu projektu jest opracowanie oraz uzyskanie akceptacji „Strategii wdrażania projektu innowacyjnego”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rostokąt 3"/>
          <p:cNvSpPr/>
          <p:nvPr/>
        </p:nvSpPr>
        <p:spPr>
          <a:xfrm>
            <a:off x="2484360" y="1125360"/>
            <a:ext cx="3311640" cy="721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Faza: DIAGNOZA I ANALIZA PROBLE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rostokąt 5"/>
          <p:cNvSpPr/>
          <p:nvPr/>
        </p:nvSpPr>
        <p:spPr>
          <a:xfrm>
            <a:off x="2484360" y="2421000"/>
            <a:ext cx="3313080" cy="7920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Faza: TWORZENIE PARTNERSTWA (jeśli jest przewidzia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rostokąt 7"/>
          <p:cNvSpPr/>
          <p:nvPr/>
        </p:nvSpPr>
        <p:spPr>
          <a:xfrm>
            <a:off x="539640" y="1052640"/>
            <a:ext cx="1368360" cy="504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ETAP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rostokąt 8"/>
          <p:cNvSpPr/>
          <p:nvPr/>
        </p:nvSpPr>
        <p:spPr>
          <a:xfrm>
            <a:off x="2484360" y="3860640"/>
            <a:ext cx="3311640" cy="1440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Faza: OPRACOWANIE WSTĘPNEJ WERSJI PRODUKTU ORAZ STRATEGII WDRAŻANIA PROJEKTU INNOWACYJ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załka w prawo 9"/>
          <p:cNvSpPr/>
          <p:nvPr/>
        </p:nvSpPr>
        <p:spPr>
          <a:xfrm>
            <a:off x="5796000" y="4581360"/>
            <a:ext cx="863640" cy="3589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załka zakrzywiona w lewo 10"/>
          <p:cNvSpPr/>
          <p:nvPr/>
        </p:nvSpPr>
        <p:spPr>
          <a:xfrm>
            <a:off x="5796000" y="1773360"/>
            <a:ext cx="649080" cy="936360"/>
          </a:xfrm>
          <a:custGeom>
            <a:avLst/>
            <a:gdLst>
              <a:gd name="textAreaLeft" fmla="*/ 86760 w 649080"/>
              <a:gd name="textAreaRight" fmla="*/ 562320 w 649080"/>
              <a:gd name="textAreaTop" fmla="*/ 173160 h 936360"/>
              <a:gd name="textAreaBottom" fmla="*/ 68220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93" stAng="-5400000" swAng="5400000"/>
                <a:lnTo>
                  <a:pt x="21600" y="11736"/>
                </a:lnTo>
                <a:arcTo wR="21600" hR="7993" stAng="0" swAng="3305580"/>
                <a:lnTo>
                  <a:pt x="5400" y="21346"/>
                </a:lnTo>
                <a:lnTo>
                  <a:pt x="0" y="17857"/>
                </a:lnTo>
                <a:lnTo>
                  <a:pt x="5400" y="13859"/>
                </a:lnTo>
                <a:lnTo>
                  <a:pt x="5400" y="15731"/>
                </a:lnTo>
                <a:arcTo wR="21600" hR="7993" stAng="3305580" swAng="-3000011"/>
                <a:lnTo>
                  <a:pt x="20999" y="9864"/>
                </a:lnTo>
                <a:arcTo wR="21600" hR="7993" stAng="-305569" swAng="-5094431"/>
                <a:close/>
              </a:path>
              <a:path fill="darkenLess" w="21600" h="21600">
                <a:moveTo>
                  <a:pt x="0" y="0"/>
                </a:moveTo>
                <a:arcTo wR="21600" hR="7993" stAng="-5400000" swAng="5400000"/>
                <a:lnTo>
                  <a:pt x="21600" y="11736"/>
                </a:lnTo>
                <a:arcTo wR="21600" hR="7993" stAng="0" swAng="-305569"/>
                <a:lnTo>
                  <a:pt x="20999" y="9864"/>
                </a:lnTo>
                <a:arcTo wR="21600" hR="7993" stAng="-305569" swAng="-5094431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załka w górę i w dół 11"/>
          <p:cNvSpPr/>
          <p:nvPr/>
        </p:nvSpPr>
        <p:spPr>
          <a:xfrm>
            <a:off x="3995640" y="1844640"/>
            <a:ext cx="289080" cy="576360"/>
          </a:xfrm>
          <a:prstGeom prst="upDownArrow">
            <a:avLst>
              <a:gd name="adj1" fmla="val 50000"/>
              <a:gd name="adj2" fmla="val 499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załka w górę i w dół 14"/>
          <p:cNvSpPr/>
          <p:nvPr/>
        </p:nvSpPr>
        <p:spPr>
          <a:xfrm>
            <a:off x="3995640" y="3213000"/>
            <a:ext cx="287280" cy="611280"/>
          </a:xfrm>
          <a:prstGeom prst="upDownArrow">
            <a:avLst>
              <a:gd name="adj1" fmla="val 50000"/>
              <a:gd name="adj2" fmla="val 5001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załka zakrzywiona w lewo 16"/>
          <p:cNvSpPr/>
          <p:nvPr/>
        </p:nvSpPr>
        <p:spPr>
          <a:xfrm>
            <a:off x="5796000" y="2997360"/>
            <a:ext cx="649080" cy="1152360"/>
          </a:xfrm>
          <a:custGeom>
            <a:avLst/>
            <a:gdLst>
              <a:gd name="textAreaLeft" fmla="*/ 86760 w 649080"/>
              <a:gd name="textAreaRight" fmla="*/ 562320 w 649080"/>
              <a:gd name="textAreaTop" fmla="*/ 227160 h 1152360"/>
              <a:gd name="textAreaBottom" fmla="*/ 84420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19" stAng="-5400000" swAng="5400000"/>
                <a:lnTo>
                  <a:pt x="21600" y="11561"/>
                </a:lnTo>
                <a:arcTo wR="21600" hR="8519" stAng="0" swAng="3407224"/>
                <a:lnTo>
                  <a:pt x="5400" y="21330"/>
                </a:lnTo>
                <a:lnTo>
                  <a:pt x="0" y="18558"/>
                </a:lnTo>
                <a:lnTo>
                  <a:pt x="5400" y="15246"/>
                </a:lnTo>
                <a:lnTo>
                  <a:pt x="5400" y="16767"/>
                </a:lnTo>
                <a:arcTo wR="21600" hR="8519" stAng="3407224" swAng="-3161615"/>
                <a:lnTo>
                  <a:pt x="21253" y="10040"/>
                </a:lnTo>
                <a:arcTo wR="21600" hR="8519" stAng="-245610" swAng="-5154390"/>
                <a:close/>
              </a:path>
              <a:path fill="darkenLess" w="21600" h="21600">
                <a:moveTo>
                  <a:pt x="0" y="0"/>
                </a:moveTo>
                <a:arcTo wR="21600" hR="8519" stAng="-5400000" swAng="5400000"/>
                <a:lnTo>
                  <a:pt x="21600" y="11561"/>
                </a:lnTo>
                <a:arcTo wR="21600" hR="8519" stAng="0" swAng="-245610"/>
                <a:lnTo>
                  <a:pt x="21253" y="10040"/>
                </a:lnTo>
                <a:arcTo wR="21600" hR="8519" stAng="-245610" swAng="-515439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lipsa 12"/>
          <p:cNvSpPr/>
          <p:nvPr/>
        </p:nvSpPr>
        <p:spPr>
          <a:xfrm>
            <a:off x="6659640" y="4292640"/>
            <a:ext cx="2016000" cy="10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UPOWSZECHNIANIE I WŁĄCZANIE DO GŁÓWNEGO NURT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rostokąt 3"/>
          <p:cNvSpPr/>
          <p:nvPr/>
        </p:nvSpPr>
        <p:spPr>
          <a:xfrm>
            <a:off x="2484360" y="1341360"/>
            <a:ext cx="3311640" cy="719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Faza: TESTOWANIE OPRACOWANEGO PRODU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rostokąt 5"/>
          <p:cNvSpPr/>
          <p:nvPr/>
        </p:nvSpPr>
        <p:spPr>
          <a:xfrm>
            <a:off x="2411280" y="2637000"/>
            <a:ext cx="3313080" cy="7920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Faza: ANALIZA RZECZYWISTYCH EFEKTÓW TESTOWANEGO PRODU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rostokąt 7"/>
          <p:cNvSpPr/>
          <p:nvPr/>
        </p:nvSpPr>
        <p:spPr>
          <a:xfrm>
            <a:off x="468360" y="1341360"/>
            <a:ext cx="1366920" cy="503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ETAP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rostokąt 8"/>
          <p:cNvSpPr/>
          <p:nvPr/>
        </p:nvSpPr>
        <p:spPr>
          <a:xfrm>
            <a:off x="2484360" y="5373720"/>
            <a:ext cx="3311640" cy="8636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Faza: UPOWSZECHNIENIE I WŁĄCZENIE DO GŁÓWNEGO NUR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załka zakrzywiona w lewo 10"/>
          <p:cNvSpPr/>
          <p:nvPr/>
        </p:nvSpPr>
        <p:spPr>
          <a:xfrm>
            <a:off x="5867280" y="1844640"/>
            <a:ext cx="649440" cy="936720"/>
          </a:xfrm>
          <a:custGeom>
            <a:avLst/>
            <a:gdLst>
              <a:gd name="textAreaLeft" fmla="*/ 86760 w 649440"/>
              <a:gd name="textAreaRight" fmla="*/ 562680 w 649440"/>
              <a:gd name="textAreaTop" fmla="*/ 173160 h 936720"/>
              <a:gd name="textAreaBottom" fmla="*/ 6822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93" stAng="-5400000" swAng="5400000"/>
                <a:lnTo>
                  <a:pt x="21600" y="11736"/>
                </a:lnTo>
                <a:arcTo wR="21600" hR="7993" stAng="0" swAng="3305580"/>
                <a:lnTo>
                  <a:pt x="5400" y="21346"/>
                </a:lnTo>
                <a:lnTo>
                  <a:pt x="0" y="17857"/>
                </a:lnTo>
                <a:lnTo>
                  <a:pt x="5400" y="13859"/>
                </a:lnTo>
                <a:lnTo>
                  <a:pt x="5400" y="15731"/>
                </a:lnTo>
                <a:arcTo wR="21600" hR="7993" stAng="3305580" swAng="-3000011"/>
                <a:lnTo>
                  <a:pt x="20999" y="9864"/>
                </a:lnTo>
                <a:arcTo wR="21600" hR="7993" stAng="-305569" swAng="-5094431"/>
                <a:close/>
              </a:path>
              <a:path fill="darkenLess" w="21600" h="21600">
                <a:moveTo>
                  <a:pt x="0" y="0"/>
                </a:moveTo>
                <a:arcTo wR="21600" hR="7993" stAng="-5400000" swAng="5400000"/>
                <a:lnTo>
                  <a:pt x="21600" y="11736"/>
                </a:lnTo>
                <a:arcTo wR="21600" hR="7993" stAng="0" swAng="-305569"/>
                <a:lnTo>
                  <a:pt x="20999" y="9864"/>
                </a:lnTo>
                <a:arcTo wR="21600" hR="7993" stAng="-305569" swAng="-5094431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załka w górę i w dół 11"/>
          <p:cNvSpPr/>
          <p:nvPr/>
        </p:nvSpPr>
        <p:spPr>
          <a:xfrm>
            <a:off x="3995640" y="2060640"/>
            <a:ext cx="289080" cy="576360"/>
          </a:xfrm>
          <a:prstGeom prst="upDownArrow">
            <a:avLst>
              <a:gd name="adj1" fmla="val 50000"/>
              <a:gd name="adj2" fmla="val 499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załka w górę i w dół 14"/>
          <p:cNvSpPr/>
          <p:nvPr/>
        </p:nvSpPr>
        <p:spPr>
          <a:xfrm>
            <a:off x="3995640" y="3429000"/>
            <a:ext cx="289080" cy="612720"/>
          </a:xfrm>
          <a:prstGeom prst="upDownArrow">
            <a:avLst>
              <a:gd name="adj1" fmla="val 50000"/>
              <a:gd name="adj2" fmla="val 4996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załka zakrzywiona w lewo 16"/>
          <p:cNvSpPr/>
          <p:nvPr/>
        </p:nvSpPr>
        <p:spPr>
          <a:xfrm>
            <a:off x="5867280" y="3213000"/>
            <a:ext cx="649440" cy="1152720"/>
          </a:xfrm>
          <a:custGeom>
            <a:avLst/>
            <a:gdLst>
              <a:gd name="textAreaLeft" fmla="*/ 86760 w 649440"/>
              <a:gd name="textAreaRight" fmla="*/ 562680 w 649440"/>
              <a:gd name="textAreaTop" fmla="*/ 227160 h 1152720"/>
              <a:gd name="textAreaBottom" fmla="*/ 84420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19" stAng="-5400000" swAng="5400000"/>
                <a:lnTo>
                  <a:pt x="21600" y="11561"/>
                </a:lnTo>
                <a:arcTo wR="21600" hR="8519" stAng="0" swAng="3407224"/>
                <a:lnTo>
                  <a:pt x="5400" y="21330"/>
                </a:lnTo>
                <a:lnTo>
                  <a:pt x="0" y="18558"/>
                </a:lnTo>
                <a:lnTo>
                  <a:pt x="5400" y="15246"/>
                </a:lnTo>
                <a:lnTo>
                  <a:pt x="5400" y="16767"/>
                </a:lnTo>
                <a:arcTo wR="21600" hR="8519" stAng="3407224" swAng="-3161615"/>
                <a:lnTo>
                  <a:pt x="21253" y="10040"/>
                </a:lnTo>
                <a:arcTo wR="21600" hR="8519" stAng="-245610" swAng="-5154390"/>
                <a:close/>
              </a:path>
              <a:path fill="darkenLess" w="21600" h="21600">
                <a:moveTo>
                  <a:pt x="0" y="0"/>
                </a:moveTo>
                <a:arcTo wR="21600" hR="8519" stAng="-5400000" swAng="5400000"/>
                <a:lnTo>
                  <a:pt x="21600" y="11561"/>
                </a:lnTo>
                <a:arcTo wR="21600" hR="8519" stAng="0" swAng="-245610"/>
                <a:lnTo>
                  <a:pt x="21253" y="10040"/>
                </a:lnTo>
                <a:arcTo wR="21600" hR="8519" stAng="-245610" swAng="-515439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lipsa 12"/>
          <p:cNvSpPr/>
          <p:nvPr/>
        </p:nvSpPr>
        <p:spPr>
          <a:xfrm>
            <a:off x="6659640" y="2060640"/>
            <a:ext cx="2089080" cy="4032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ahoma"/>
              </a:rPr>
              <a:t>UPOWSZECHNIANIE I WŁĄCZANIE DO GŁÓWNEGO NUR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rostokąt 13"/>
          <p:cNvSpPr/>
          <p:nvPr/>
        </p:nvSpPr>
        <p:spPr>
          <a:xfrm>
            <a:off x="2484360" y="4076640"/>
            <a:ext cx="3311640" cy="792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Faza: OPRACOWANIE PRODUKTU FINAL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załka zakrzywiona w lewo 15"/>
          <p:cNvSpPr/>
          <p:nvPr/>
        </p:nvSpPr>
        <p:spPr>
          <a:xfrm>
            <a:off x="5940360" y="4797360"/>
            <a:ext cx="647640" cy="1079640"/>
          </a:xfrm>
          <a:custGeom>
            <a:avLst/>
            <a:gdLst>
              <a:gd name="textAreaLeft" fmla="*/ 86760 w 647640"/>
              <a:gd name="textAreaRight" fmla="*/ 560880 w 647640"/>
              <a:gd name="textAreaTop" fmla="*/ 209160 h 1079640"/>
              <a:gd name="textAreaBottom" fmla="*/ 7894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70" stAng="-5400000" swAng="5400000"/>
                <a:lnTo>
                  <a:pt x="21600" y="11610"/>
                </a:lnTo>
                <a:arcTo wR="21600" hR="8370" stAng="0" swAng="3379422"/>
                <a:lnTo>
                  <a:pt x="5400" y="21334"/>
                </a:lnTo>
                <a:lnTo>
                  <a:pt x="0" y="18360"/>
                </a:lnTo>
                <a:lnTo>
                  <a:pt x="5400" y="14854"/>
                </a:lnTo>
                <a:lnTo>
                  <a:pt x="5400" y="16474"/>
                </a:lnTo>
                <a:arcTo wR="21600" hR="8370" stAng="3379422" swAng="-3117132"/>
                <a:lnTo>
                  <a:pt x="21192" y="9990"/>
                </a:lnTo>
                <a:arcTo wR="21600" hR="8370" stAng="-262290" swAng="-5137710"/>
                <a:close/>
              </a:path>
              <a:path fill="darkenLess" w="21600" h="21600">
                <a:moveTo>
                  <a:pt x="0" y="0"/>
                </a:moveTo>
                <a:arcTo wR="21600" hR="8370" stAng="-5400000" swAng="5400000"/>
                <a:lnTo>
                  <a:pt x="21600" y="11610"/>
                </a:lnTo>
                <a:arcTo wR="21600" hR="8370" stAng="0" swAng="-262290"/>
                <a:lnTo>
                  <a:pt x="21192" y="9990"/>
                </a:lnTo>
                <a:arcTo wR="21600" hR="8370" stAng="-262290" swAng="-513771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załka w górę i w dół 19"/>
          <p:cNvSpPr/>
          <p:nvPr/>
        </p:nvSpPr>
        <p:spPr>
          <a:xfrm>
            <a:off x="3995640" y="4869000"/>
            <a:ext cx="289080" cy="504720"/>
          </a:xfrm>
          <a:prstGeom prst="upDownArrow">
            <a:avLst>
              <a:gd name="adj1" fmla="val 50000"/>
              <a:gd name="adj2" fmla="val 4996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rostokąt 1"/>
          <p:cNvSpPr/>
          <p:nvPr/>
        </p:nvSpPr>
        <p:spPr>
          <a:xfrm>
            <a:off x="468360" y="1305000"/>
            <a:ext cx="8136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Realizacja projektów we współpracy ponadnarodow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 konkursach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nr 1/8.1.2/IN/11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az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 nr 1/9.2/IN/11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przewiduje się możliwość realizacji projektów innowacyjnych z komponentem ponadnarodowym zaplanowanym do realizacji na etapie opracowania wniosku o dofinansowanie w rozumieniu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</a:rPr>
              <a:t>Wytycznych Ministra Rozwoju Regionalnego w zakresie wdrażania projektów innowacyjnych i współpracy ponadnarodowej w ramach Programu Operacyjnego Kapitał Ludzki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Nie przewiduje się natomiast realizacji wyodrębnionych projektów współpracy ponadnarodowe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ole tekstowe 1"/>
          <p:cNvSpPr/>
          <p:nvPr/>
        </p:nvSpPr>
        <p:spPr>
          <a:xfrm>
            <a:off x="468360" y="765000"/>
            <a:ext cx="7920000" cy="69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O czym należy pamięta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WA 6.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kumentacja konkursow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żne dokumen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mpowerme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aliza ryzyk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rtość dodan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kspertyzy i doświadczenia PIW Equ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kładka Innowacyjność i ponadnarodowość http://www.wup.pl/index.php?id=8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onkurs nr 1/8.1.2/IN/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428760" y="1928880"/>
            <a:ext cx="822960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 wdrażania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gramu Operacyjnego Kapitał Ludzki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 województwie zachodniopomorskim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an na dzień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03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.201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r.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00040" y="107172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Najważniejsze informacje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Konkurs otwa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Alokacja: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9 500 000 z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Termin ogłoszenia konkursu: 31.03.2011 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Nabór wniosków:  od 01.07.2011 r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osiedzenia Komisji Oceny Projektów zaplanowano kolejno n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just">
              <a:spcBef>
                <a:spcPts val="3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11 sierpnia 2011 r. termin złożenia projektu warunkujący przekazanie wniosku do oceny merytorycznej na tym posiedzeniu Komisji upływa z dniem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25 lipca 2011 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just">
              <a:spcBef>
                <a:spcPts val="3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22 września 2011 r. termin złożenia projektu warunkujący przekazanie wniosku do oceny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merytorycznej na tym posiedzeniu Komisji upływa z dniem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5 września 2011 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 ramach konkursu przewiduje się możliwość realizacji projektów innowacyjnych testujących, które wpisują się w temat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spcBef>
                <a:spcPts val="400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Wzmocnienie współpracy przedsiębiorców z sektorem nauki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spcBef>
                <a:spcPts val="400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spcBef>
                <a:spcPts val="400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Metody utrzymania aktywności zawodowej pracowników w grupie wiekowej 50+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spcBef>
                <a:spcPts val="400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spcBef>
                <a:spcPts val="400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Poszukiwanie metod zwiększenia zaangażowania partnerów społecznych </a:t>
            </a:r>
            <a:br>
              <a:rPr sz="1600"/>
            </a:b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i gospodarczych na rzecz wzmocnienia potencjału adaptacyjnego przedsiębiorstw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68360" y="1052640"/>
            <a:ext cx="7929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kty</a:t>
            </a:r>
            <a:r>
              <a:rPr b="1" lang="pl-PL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 MOGĄ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yć skierowane bezpośrednio do następujących grup docelowy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uczelni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jednostki naukow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acownicy naukowi jednostek naukowy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acownicy naukowi i naukowo-dydaktyczni uczelni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doktoranci, absolwenci uczelni (w okresie 12 miesięcy od daty ukończenia studiów) i studenci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zedsiębiorcy i ich pracownicy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acujące osoby dorosłe, które ukończyły 50 la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acodawcy i pracownicy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rostokąt 3"/>
          <p:cNvSpPr/>
          <p:nvPr/>
        </p:nvSpPr>
        <p:spPr>
          <a:xfrm>
            <a:off x="928800" y="106056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266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kty </a:t>
            </a:r>
            <a:r>
              <a:rPr b="1" lang="pl-PL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MOGĄ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być skierowane bezpośrednio do następujących grup docelowych c.d.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cje pracodawców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wiązki zawodow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jednostki samorządu terytorialnego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instytucje rynku pracy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połeczność lokalna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cje pozarządow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Uwaga!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 projektach innowacyjnych grupy docelowe powinny być tak dobrane, aby wpisywały się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 cele i zakres Priorytetu VIII PO KL oraz sformułowane zgodnie z obszarem interwencji Europejskiego Funduszu Społecznego. Wybór grupy docelowej m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zyczyniać się do realizacji celów Priorytetu VIII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, przy czym adresatami wsparcia mogą być osoby/podmioty wskazane powyżej, jak również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zersze grupy odbiorców i użytkowników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42600" y="1285560"/>
            <a:ext cx="792972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gólne kryteria horyzontaln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godność z właściwymi politykami i zasadami wspólnotowymi (w tym: polityką równych szans i koncepcją zrównoważonego rozwoju) oraz prawodawstwem wspólnotowy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godność z prawodawstwem krajowy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rak możliwości finansowania projektu w ramach innych typów operacji PO K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Tahoma"/>
              </a:rPr>
              <a:t>Uwaga!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Jeśli projekt nie jest zgodny ze standardem minimum,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nie oznacza to automatycznie, że jest niezgodny z pozostałymi politykami i zasadami wspólnotowymi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. A zatem pytania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ahoma"/>
              </a:rPr>
              <a:t>Czy projekt jest zgodny z zasadą równości szans kobiet i mężczyzn ? oraz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ahoma"/>
              </a:rPr>
              <a:t>Czy projekt jest zgodny z pozostałymi politykami i zasadami wspólnotowymi (w tym polityką równości szans i koncepcją zrównoważonego rozwoju)?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zawarte w Karty oceny merytorycznej wniosku o dofinansowanie projektu innowacyjnego PO KL składanego w trybie konkursowym </a:t>
            </a:r>
            <a:r>
              <a:rPr b="1" lang="pl-PL" sz="1400" spc="-1" strike="noStrike">
                <a:solidFill>
                  <a:srgbClr val="ff0000"/>
                </a:solidFill>
                <a:latin typeface="Tahoma"/>
              </a:rPr>
              <a:t>traktowane są rozłączni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Arial"/>
              </a:rPr>
              <a:t>Szczegółowe kryteria dostępu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inimaln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wartość projektu wynosi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1 000 000 złotych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res realizacji projektu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ie przekracza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48 miesięc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eneficjent pochodzi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z kraju członkowskiego Unii Europejskiej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natomiast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okresie realizacji projektu prowadzi biuro projektu (lub posiada siedzibę, filię, delegaturę, oddział czy inną prawnie dozwoloną formę organizacyjną działalności podmiotu) na terenie województwa zachodniopomorskiego z możliwością udostępnienia pełnej dokumentacji wdrażanego projektu oraz zapewniające uczestnikom projektu możliwość osobistego kontaktu z kadrą projekt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jekt jest skierowany do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grup odbiorców z obszaru województwa zachodniopomorskieg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w przypadku osób fizycznych uczą się, pracują lub zamieszkują one na obszarze województwa zachodniopomorskiego w rozumieniu przepisów Kodeksu Cywilnego, w przypadku innych podmiotów posiadają one jednostkę organizacyjną na obszarze województwa zachodniopomorskiego)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24000" y="1025280"/>
            <a:ext cx="8208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strategiczn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. Projekt z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mponentem ponadnarodowym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planowanym do realizacji na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etapie opracowania wniosku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 dofinansowanie realizacji projekt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. Wypracowane metody będą uwzględniać instrumenty wspierające utrzymani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aktywności zawodowej kobie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3. Wypracowane metody będą uwzględniać instrumenty wspierające i promujące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worzenie partnerstw organizacji pracodawców i związków zawodowych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4. Wypracowanie instrumentów i metod wspierających zawierani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artnerstw technologicznych i/lub wypracowanie instrumentów i metod wspierających tworzenie przedsiębiorczości technologicznej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05228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ojekty innowacyjne w innych województwach </a:t>
            </a:r>
            <a:br>
              <a:rPr sz="1600"/>
            </a:b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emat: Metody utrzymania aktywności zawodowej pracowników w grupie wiekowej 50+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528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http://www.kiw-pokl.org.pl/pl/baza-beneficjentow-i-produktow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39640" y="2205000"/>
          <a:ext cx="7834320" cy="3456000"/>
        </p:xfrm>
        <a:graphic>
          <a:graphicData uri="http://schemas.openxmlformats.org/drawingml/2006/table">
            <a:tbl>
              <a:tblPr/>
              <a:tblGrid>
                <a:gridCol w="749520"/>
                <a:gridCol w="3247920"/>
                <a:gridCol w="2478240"/>
                <a:gridCol w="1358640"/>
              </a:tblGrid>
              <a:tr h="636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Typ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Tytuł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Beneficj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ia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416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Innowacje 50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yższa Szkola Ekonomicz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Bialyst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racuję - rozwijam kompetencje. Innowacyjny model wsparcia pracowników 50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BS DGA Sp. Z o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op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ruga szan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Caritas Archidiecezji Gdańskie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Gdań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0+doświadcze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Caritas Pol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arszaw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Transformacja - projekt dla osób 50+ zatrudnionych w branży reklamowe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TUDIO KOLPORPRESS Sp. z o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Kiel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irtualny System Nauczania 50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rofutura s.c. Monika Nowakowska-Twaróg, Mikołaj Nowakowsk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ozna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onkurs nr 1/9.2/IN/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00040" y="1071720"/>
            <a:ext cx="82296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Najważniejsze informacje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Konkurs otwa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Alokacja: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2 589 810 z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Termin ogłoszenia konkursu: 31.03.2011 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Nabór wniosków:  od 01.07.2011 r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osiedzenia Komisji Oceny Projektów zaplanowano kolejno n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1 sierpnia 2011 r. - termin złożenia projektu warunkujący przekazanie wniosku do oceny merytorycznej na tym posiedzeniu Komisji upływa z dniem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22 lipca 2011 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23 września 2011 r.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 złożenia projektu warunkujący przekazanie wniosku do oceny merytorycznej na tym posiedzeniu Komisji upływa z dniem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2 września 2011 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ole tekstowe 4"/>
          <p:cNvSpPr/>
          <p:nvPr/>
        </p:nvSpPr>
        <p:spPr>
          <a:xfrm>
            <a:off x="1428840" y="1143000"/>
            <a:ext cx="57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opień wykorzystania alokacji 2007-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ole tekstowe 3"/>
          <p:cNvSpPr/>
          <p:nvPr/>
        </p:nvSpPr>
        <p:spPr>
          <a:xfrm>
            <a:off x="539640" y="6381720"/>
            <a:ext cx="46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*Stan na dzień 31.03.2011 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Wykres 5" descr=""/>
          <p:cNvPicPr/>
          <p:nvPr/>
        </p:nvPicPr>
        <p:blipFill>
          <a:blip r:embed="rId1"/>
          <a:stretch/>
        </p:blipFill>
        <p:spPr>
          <a:xfrm>
            <a:off x="244440" y="1620720"/>
            <a:ext cx="858204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528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 ramach konkursu przewiduje się możliwość realizacji projektów innowacyjnych testujących, które wpisują się w tema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400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Modernizacja oferty kształcenia zawodowego w powiązaniu z potrzebami lokalnego / regionalnego rynku prac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400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9280" y="691920"/>
            <a:ext cx="7929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kty</a:t>
            </a:r>
            <a:r>
              <a:rPr b="1" lang="pl-PL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 MOGĄ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yć skierowane bezpośrednio do następujących grup docelowy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uczniów i słuchaczy szkół i placówek oświatowych prowadzących kształcenie zawodowe (z wyłączeniem słuchaczy szkół dla dorosłyc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kół i placówek (instytucje i kadra pedagogiczna) prowadzących kształcenie zawodowe (z wyłączeniem szkół dla dorosłyc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kół policealny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artnerów społeczno – gospodarczy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acodawców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Tahoma"/>
              </a:rPr>
              <a:t>Uwaga!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 projektach innowacyjnych grupy docelowe powinny być tak dobrane, aby wpisywały się w cele i zakres Priorytetu IX PO KL oraz sformułowane zgodnie z obszarem interwencji Europejskiego Funduszu Społecznego. Wybór grupy docelowej ma przyczyniać się do realizacji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celów Priorytetu IX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, przy czym adresatami wsparcia mogą być osoby/podmioty wskazane powyżej, jak również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szersze grupy odbiorców i użytkowników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rostokąt 3"/>
          <p:cNvSpPr/>
          <p:nvPr/>
        </p:nvSpPr>
        <p:spPr>
          <a:xfrm>
            <a:off x="928800" y="106056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266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42600" y="1285920"/>
            <a:ext cx="792972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gólne kryteria horyzontaln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godność z właściwymi politykami i zasadami wspólnotowymi (w tym: polityką równych szans i koncepcją zrównoważonego rozwoju) oraz prawodawstwem wspólnotowy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godność z prawodawstwem krajowy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rak możliwości finansowania projektu w ramach innych typów operacji PO K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Tahoma"/>
              </a:rPr>
              <a:t>Uwaga!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Jeśli projekt nie jest zgodny ze standardem minimum,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nie oznacza to automatycznie, że jest niezgodny z pozostałymi politykami i zasadami wspólnotowymi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. A zatem pytania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ahoma"/>
              </a:rPr>
              <a:t>Czy projekt jest zgodny z zasadą równości szans kobiet i mężczyzn ? oraz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ahoma"/>
              </a:rPr>
              <a:t>Czy projekt jest zgodny z pozostałymi politykami i zasadami wspólnotowymi (w tym polityką równości szans i koncepcją zrównoważonego rozwoju)?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zawarte w Karty oceny merytorycznej wniosku o dofinansowanie projektu innowacyjnego PO KL składanego w trybie konkursowym </a:t>
            </a:r>
            <a:r>
              <a:rPr b="1" lang="pl-PL" sz="1400" spc="-1" strike="noStrike">
                <a:solidFill>
                  <a:srgbClr val="ff0000"/>
                </a:solidFill>
                <a:latin typeface="Tahoma"/>
              </a:rPr>
              <a:t>traktowane są rozłączni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Arial"/>
              </a:rPr>
              <a:t>Szczegółowe kryteria dostępu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Okres realizacji projektu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nie przekracza 48 miesięcy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Grupę docelową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 projekcie stanowią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osoby uczące się, mające miejsce zamieszkania na terenie województwa zachodniopomorskiego w rozumieniu Kodeksu Cywilnego, lu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odmioty działające w obszarze edukacji, realizujące kształcenie zawodowe - zlokalizowane na terenie województwa zachodniopomorskiego, lu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artnerzy społeczno – gospodarczy i pracodawcy mający swoją siedzibę lub filię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na terenie województwa zachodniopomorskiego, lu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odmioty działające w obszarze związanym z badaniem i analizą lokalnego/regionalnego rynku pracy, zlokalizowane na terenie województwa zachodniopomorskieg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141264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400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Arial"/>
              </a:rPr>
              <a:t>Szczegółowe kryteria dostępu c.d.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spcBef>
                <a:spcPts val="400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spcBef>
                <a:spcPts val="400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Beneficjent pochodzi z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kraju członkowskiego Unii Europejskiej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, natomiast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 okresie realizacji projektu prowadzi biuro projektu (lub posiada siedzibę, filię, delegaturę, oddział czy inną prawnie dozwoloną formę organizacyjną działalności podmiotu) na terenie województwa zachodniopomorskiego z możliwością udostępnienia pełnej dokumentacji wdrażanego projektu oraz zapewniające uczestnikom projektu możliwość osobistego kontaktu z kadrą projekt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spcBef>
                <a:spcPts val="400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spcBef>
                <a:spcPts val="400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jekt zakłada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współpracę szkół i placówek prowadzących kształcenie zawodowe z pracodawcami i/ lub instytucjami rynku pracy z terenu województwa zachodniopomorskiego</a:t>
            </a:r>
            <a:r>
              <a:rPr b="0" lang="pl-PL" sz="1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służącą podnoszeniu kwalifikacji zawodowych uczniów jako przyszłych absolwentów i wzmacnianie ich zdolnośc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do zatrudnienia w zakresie wdrażania programów rozwojowych lub/i w zakresie praktycznych form nauczania np. staże i praktyki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24000" y="1412640"/>
            <a:ext cx="8208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kryteria strategiczn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1. Realizacja projektu z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komponentem ponadnarodowym</a:t>
            </a:r>
            <a:r>
              <a:rPr b="0" lang="pl-PL" sz="1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zaplanowanym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do realizacji na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etapie opracowania wniosku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o dofinansowanie realizacji projekt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2.  Projekt zakłada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kształcenie w branżach stanowiących szansę rozwoju województwa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, tj.: przemysłu drzewno-meblarskiego, logistyczno - spedycyjnych, sektora turystycznego, obsługi portów, spożywczego (w tym przetwórstwa), sektora ICT oraz energetyki odnawialnej branży budowlano – montażowej, przemysłu chemiczneg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ojekty innowacyjne w innych województwach </a:t>
            </a:r>
            <a:br>
              <a:rPr sz="1600"/>
            </a:b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emat: Modernizacja oferty kształcenia zawodowego w powiązaniu z potrzebami lokalnego / regionalnego rynku pracy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200"/>
            </a:b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  http://www.kiw-pokl.org.pl/pl/baza-beneficjentow-i-produktow/ 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8360" y="2349360"/>
          <a:ext cx="8137440" cy="3272040"/>
        </p:xfrm>
        <a:graphic>
          <a:graphicData uri="http://schemas.openxmlformats.org/drawingml/2006/table">
            <a:tbl>
              <a:tblPr/>
              <a:tblGrid>
                <a:gridCol w="652320"/>
                <a:gridCol w="3998880"/>
                <a:gridCol w="2416320"/>
                <a:gridCol w="1069920"/>
              </a:tblGrid>
              <a:tr h="457200"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Typ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Tytuł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Beneficj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ia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5511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Innowacyjny program przygotowania do wykonywania pracy zawodowej dla młodzieży z niepełnosprawności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EUROPERSPEKTYWA, Beata Romejk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Lub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76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INNOWACJE EDUKACYJNE - program testowania i wdrażania nowych metod modernizacji ofert kształcenia zawodowego w woj. Podlask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Forum Inicjatyw Rozwojow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Białyst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6880"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odernizacja oferty kształcenia zawodowego w powiązaniu z potrzebami lokalnego / regionalnego rynku pra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ojewództwo Podkarpackie/UM Woj. Podkarpackie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zeszó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Faber - Rzemiosło motorem tworzenia zawodów kreatywn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iasto Stołeczne Warszaw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arszaw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ielkopolski system monitorowania i prognozow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olitechnika Poznań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ozna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Indywidualne konsultacje projektów innowacyjnych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z pracownikami WUP w Szczecini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000" y="1844640"/>
            <a:ext cx="3598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1320" indent="-2113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Spotkania odbywać się będą w Punkcie Konsultacyjnym EFS w Szczecinie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pierwsze wtorki każdego miesiąca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(w okresie trwania naboru wniosków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o dofinansowanie)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1320" indent="-2113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Uczestnikami konsultacji ze strony Instytucji Pośredniczącej będą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pracownicy Punktu Konsultacyjnego EFS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 Szczecinie oraz pracownicy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właściwych Wydziałów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. W spotkaniu ze strony beneficjenta mogą brać udział maksymalnie trzy osoby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1320" indent="-2113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Z uwagi na duże zainteresowanie konsultacjami indywidualnymi w roku poprzednim, przygotowaliśmy krótki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formularz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, który ułatwi proces zgłoszenia na spotkania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1320" indent="-2113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1320" indent="-2113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Formularz dostępny będzie na stronie www.wup.pl w Aktualnościach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1320" indent="-211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1320" indent="-211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1320" indent="-211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1320" indent="-211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1320" indent="-211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1320" indent="-211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1320" indent="-211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Formularz dostępny będzie na stornie www.wup.pl w Aktualności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067280" y="1844640"/>
            <a:ext cx="468792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1285920" y="5857920"/>
            <a:ext cx="6697440" cy="642960"/>
          </a:xfrm>
          <a:prstGeom prst="rect">
            <a:avLst/>
          </a:prstGeom>
          <a:noFill/>
          <a:ln w="9360">
            <a:solidFill>
              <a:srgbClr val="c3c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69920" indent="-169920" algn="ctr">
              <a:tabLst>
                <a:tab algn="l" pos="0"/>
                <a:tab algn="l" pos="16992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nkt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Konsultacyjny EF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ziała w godzinach: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9.00 – 15.00 od poniedziałku do piątku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1042920" y="981000"/>
            <a:ext cx="702144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datkowych informacji udziela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ją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unkt Konsultacyjny 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jewódzki Ur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 Pracy w Szczecini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l.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ckiewicza 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l. 91 42 56 163/164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/2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okl@wup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pokl.wup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ładka Innowacyjność i ponadnarodow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unkt Konsultacyjny EF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ojewódzki Urząd Pracy - f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l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 Koszali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l. Słowiańska 15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l. 94 344 50 25/2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oklkoszalin@wup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www.pokl.wup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ole tekstowe 3"/>
          <p:cNvSpPr/>
          <p:nvPr/>
        </p:nvSpPr>
        <p:spPr>
          <a:xfrm>
            <a:off x="3143160" y="5500800"/>
            <a:ext cx="29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c8c93"/>
                </a:solidFill>
                <a:latin typeface="Arial"/>
              </a:rPr>
              <a:t>SKYPE: WUP_SZCZEC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rostokąt 1"/>
          <p:cNvSpPr/>
          <p:nvPr/>
        </p:nvSpPr>
        <p:spPr>
          <a:xfrm>
            <a:off x="500040" y="1071720"/>
            <a:ext cx="7786800" cy="76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nstytucje, które pomogą Państwu przygotować projek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Regionalny Ośrodek EFS w Szczeci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Zachodniopomorska Agencja Rozwoju Regionalnego S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l. Św. Ducha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0-223 Szczec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el. 91 432 93 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-mail: info_szczecin@roefs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szczecin.roefs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a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Regionalny Ośrodek EFS w Koszali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Koszalińska Agencja Rozwoju Regionalnego S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l. Przemysłowa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5-216 Kosza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el. 94 343 26 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-mail: info_koszalin@roefs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koszalin.roefs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nkursy ogłoszone w ramach projektów innowacyjnych w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2009 ro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 okresie od 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13 października do 30 grudnia 2009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r. Wojewódzki Urząd Pracy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 Szczecinie prowadził nabór wniosków o dofinansowanie projektów innowacyjn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z komponentem ponadnarodowym w tematach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Priorytet VI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Działania służące wydłużeniu aktywności zawodowej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Priorytet IX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Modernizacja oferty kształcenia zawodowego w powiązaniu z potrzebami lokalnego/regionalnego rynku pracy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rostokąt zaokrąglony 3"/>
          <p:cNvSpPr/>
          <p:nvPr/>
        </p:nvSpPr>
        <p:spPr>
          <a:xfrm>
            <a:off x="468360" y="5084640"/>
            <a:ext cx="842472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Łącznie złożono </a:t>
            </a:r>
            <a:r>
              <a:rPr b="1" lang="pl-PL" sz="1400" spc="-1" strike="noStrike">
                <a:solidFill>
                  <a:srgbClr val="ff0000"/>
                </a:solidFill>
                <a:latin typeface="Tahoma"/>
              </a:rPr>
              <a:t>6 wniosków o dofinansowanie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. Żaden wniosek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nie został rekomendowany do dofinansowani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ole tekstowe 4"/>
          <p:cNvSpPr/>
          <p:nvPr/>
        </p:nvSpPr>
        <p:spPr>
          <a:xfrm>
            <a:off x="214200" y="5857920"/>
            <a:ext cx="871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tkanie współfinansowane ze środków Unii Europejskiej – Europejskiego Funduszu Społecznego            w ramach Pomocy Technicznej Programu Operacyjnego Kapitał Ludz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ole tekstowe 5"/>
          <p:cNvSpPr/>
          <p:nvPr/>
        </p:nvSpPr>
        <p:spPr>
          <a:xfrm>
            <a:off x="2143080" y="271476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ziękujemy za uwagę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nkursy ogłoszone w ramach projektów innowacyjnych w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2010 ro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4000" y="1557360"/>
            <a:ext cx="8532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Priorytet VII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szukiwanie metod wczesnej interwencji socjalnej i przeciwdziałania wykluczeniu społecznemu dzieci i młodzież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większenie oferty istniejących, wykreowanie nowych instytucji działających na rzecz integracji społecznej grup marginalizowanych, wykluczonych bądź zagrożonych wykluczeniem społecznym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Priorytet VIII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worzenie i wdrażanie systemowych rozwiązań podwyższających innowacyjność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 adaptacyjność pracowników i przedsiębiorstw na poziomie regionalnym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sparcie świadczenia w jednym miejscu kompleksowych usług - informacyjnych, doradczych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 finansowych - dla przedsiębiorców i osób zamierzających rozpocząć prowadzenie działalności gospodarczej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naliza, testowanie i wdrażanie idei flexicurit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rostokąt zaokrąglony 3"/>
          <p:cNvSpPr/>
          <p:nvPr/>
        </p:nvSpPr>
        <p:spPr>
          <a:xfrm>
            <a:off x="324000" y="5445000"/>
            <a:ext cx="842472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rzy wnioski spośród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22 złożonych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odpowiedzi na konkursy innowacyjne w ramach Priorytetu VI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 VIII zostały odrzucone na etapie oceny formalnej. Pięć wniosków zostało skierowanych do korekty bądź uzupełnienia. Z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9 beneficjentami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ostała podpisana umowa o dofinansowanie (w tym 1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Priorytetu VIII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36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Czym jest projekt innowacyjny testując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jekty innowacyjne poszukują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NOWYCH SPOSOBÓW</a:t>
            </a:r>
            <a:r>
              <a:rPr b="0" lang="pl-PL" sz="1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ROZWIĄZYWANIA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problemów. Projekty standardowe nastawione są na rozwiązywanie problemów przy pomocy znanych, sprawdzonych sposobów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Przykład projektu standardowego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zorganizowanie tradycyjnego kursu szkoleniowego dla grupy pracowników 50+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 zakresie zastosowania technologii IT w oparciu o zdiagnozowany deficyt wiedzy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u pracowników tej grupy, co w konsekwencji zwiększy ich szanse na rynku pracy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odbiorcy działań: grupa 50 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Przykład projektu innowacyjnego testującego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ypracowanie nowego podejścia do nauczania grupy 50+ w zakresie stosowania IT nowego programu, nowej metodyki nauczania ze względu na specyfikę tej grupy; grupa docelowa użytkowników: trenerzy, instytucje szkoleniowe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grupa docelowa odbiorców: grupa 50+ (wymiar docelowy, wymiar testowania, wymiar upowszechniania i włączania)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upowszechnianie i włączanie 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Co stanowi o innowacyjności projektu w ramach PO KL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c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dukt final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grupa docelowa, problem, forma wsparcia (wymiary innowacyjnośc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etapowość realizacj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C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Celem projektu innowacyjnego testującego jest poszukiwani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Tahoma"/>
              </a:rPr>
              <a:t>nowych, lepszych, efektywniejszych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Tahoma"/>
              </a:rPr>
              <a:t>sposobów rozwiązywan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roblemów mieszczących się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w obszarach wsparcia EF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8:01:27Z</dcterms:created>
  <dc:creator>leszek.teszka</dc:creator>
  <dc:description/>
  <dc:language>en-US</dc:language>
  <cp:lastModifiedBy>alina.szydlowska</cp:lastModifiedBy>
  <dcterms:modified xsi:type="dcterms:W3CDTF">2011-04-19T06:54:39Z</dcterms:modified>
  <cp:revision>855</cp:revision>
  <dc:subject/>
  <dc:title>Slajd 1</dc:title>
</cp:coreProperties>
</file>