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5D31-CC61-415F-A3D3-D1AEF7D40E3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F65D-6E6D-4B18-8B4A-92B96E823D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"/>
          <p:cNvSpPr/>
          <p:nvPr/>
        </p:nvSpPr>
        <p:spPr>
          <a:xfrm>
            <a:off x="917640" y="74304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2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19B5-9CA7-4A21-9528-309FE536D1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917640" y="74304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0" y="6597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Wojewódzki Urząd Pracy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611280" y="1052640"/>
            <a:ext cx="7993080" cy="0"/>
          </a:xfrm>
          <a:prstGeom prst="line">
            <a:avLst/>
          </a:prstGeom>
          <a:ln w="25560">
            <a:solidFill>
              <a:srgbClr val="2449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listownik_PO_KL"/>
          <p:cNvPicPr/>
          <p:nvPr/>
        </p:nvPicPr>
        <p:blipFill>
          <a:blip r:embed="rId2"/>
          <a:stretch/>
        </p:blipFill>
        <p:spPr>
          <a:xfrm>
            <a:off x="971640" y="149400"/>
            <a:ext cx="7272360" cy="75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"/>
          <p:cNvSpPr/>
          <p:nvPr/>
        </p:nvSpPr>
        <p:spPr>
          <a:xfrm>
            <a:off x="684360" y="1700280"/>
            <a:ext cx="784836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potkanie informacyj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kumentacja konkurs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r 1/9.1.2/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zczecin, 21 marca 2011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ole tekstowe 2"/>
          <p:cNvSpPr/>
          <p:nvPr/>
        </p:nvSpPr>
        <p:spPr>
          <a:xfrm>
            <a:off x="214200" y="5857920"/>
            <a:ext cx="871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e współfinansowane ze środków Unii Europejskiej – Europejskiego Funduszu Społecznego            w ramach Pomocy Technicznej Programu Operacyjnego Kapitał Ludz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760" y="11426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yterium obligatoryj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 realizacji projektu nie przekracza 24 miesięc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inimalna wartość projektu wynosi  500 tysięcy złotych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jekt jest realizowany w szkołach lub placówkach oświatowych, w których w 2010 r. uczniowie osiągnęli średni wynik w ramach egzaminów zewnętrznych niższ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d średniej województwa zachodniopomorskiego z danego egzamin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z poszczególnej jego części)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jektodawca zobligowany jest do założenia w projekcie w stosunku do ogólnej liczby realizowanych godzin zajęć w danej szkol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Sześcioletniej szkoły podstawowe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- minimum 30% zajęć z zakresu  matematyki i przyrody oraz minimum 20% zajęć z zakresu czytania, pisania, rozumowania, korzystania z informacji  oraz wykorzystania wiedzy w prakty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Trzyletniego gimnazjum -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minimum 50% godzin zajęć z zakresu matematyki, fizyki, biologii, chemii, geografii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Szkoły ponadgimnazjalne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realizującej kształcenie  ogólne - minimum 50% godzin zajęć z zakresu matematyki, fizyki, biologii, chemii, geografii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jekt jest skierowany do grup docelowych z obszaru województwa zachodniopomorskiego (osoby fizyczne, które  uczą się, pracują lub zamieszkuj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 obszarze województwa zachodniopomorskiego w rozumieniu przepisów Kodeksu Cywilnego, w przypadku innych podmiotów posiadają one jednostkę organizacyjną na obszarze województwa zachodniopomorskiego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odawcą jest jeden z następujących podmiotów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- szkoła, placówka oświatowa (instytucje, kadra) i ich organ prowadzący realizujące kształcenie ogólne (z wyłączeniem szkół dla dorosłych)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- organizacja pozarządowa prowadząca działalność statutową w zakresie edukacj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   partnerstwie z organem prowadzącym szkołę lub placówkę oświatową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7.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odawca w okresie realizacji projektu prowadzi biuro projektu (lub posiada siedzibę, filię, delegaturę, oddział czy inną prawnie dozwoloną formę organizacyjną działalności podmiotu) na terenie województwa zachodniopomorskiego z możliwością udostępnienia pełnej dokumentacji wdrażanego projektu oraz zapewniające uczestnikom projektu możliwość osobistego kontaktu z kadrą projektu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05264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premia punktowa - kryterium fakultatywne)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jekt jest realizowany w szkołach, placówkach oświatowych prowadzących kształcenie ogólne mających swoją siedzibę na obszarach wiejski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Waga punktowa : 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jekt jest komplementarny z inwestycjami zrealizowanymi/ realizowanymi bądź planowanymi do realizacji finansowanymi ze źródeł innych niż EFS. Jako planowane należy traktować inwestycje, w przypadku których na dzień składania wnios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 dofinansowanie Beneficjent dysponuje oficjalnym stanowiskiem instytucji przyznającej dofinansowanie, o którym mowa  w kryterium o zakwalifikowaniu inwestycji do otrzymania dofinansowani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Waga punktowa : 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jekt zakłada objecie wsparciem i uwzględnienie potrzeb uczniów niepełnosprawnych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Waga punktowa : 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le tekstowe 1"/>
          <p:cNvSpPr/>
          <p:nvPr/>
        </p:nvSpPr>
        <p:spPr>
          <a:xfrm>
            <a:off x="539640" y="1700280"/>
            <a:ext cx="79200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O czym należy pamięt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WA 6.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kumentacja konkursow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żne dokumen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ole tekstowe 1"/>
          <p:cNvSpPr/>
          <p:nvPr/>
        </p:nvSpPr>
        <p:spPr>
          <a:xfrm>
            <a:off x="1258920" y="2205000"/>
            <a:ext cx="626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enerator Wniosków Aplikacyjnych - wersja 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96472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Garamond"/>
              </a:rPr>
              <a:t>Punkt 3.1 Uzasadnienie potrzeby realizacji i cel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1"/>
          <a:srcRect l="4724" t="12918" r="8563" b="11811"/>
          <a:stretch/>
        </p:blipFill>
        <p:spPr>
          <a:xfrm>
            <a:off x="324000" y="1773360"/>
            <a:ext cx="8497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2 </a:t>
            </a:r>
            <a:r>
              <a:rPr b="1" i="1" lang="pl-PL" sz="3200" spc="-1" strike="noStrike">
                <a:solidFill>
                  <a:srgbClr val="ff0000"/>
                </a:solidFill>
                <a:latin typeface="Garamond"/>
              </a:rPr>
              <a:t>Grupy docel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1"/>
          <a:srcRect l="4134" t="34695" r="5315" b="40970"/>
          <a:stretch/>
        </p:blipFill>
        <p:spPr>
          <a:xfrm>
            <a:off x="395280" y="2133720"/>
            <a:ext cx="82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3 </a:t>
            </a:r>
            <a:r>
              <a:rPr b="1" i="1" lang="pl-PL" sz="3200" spc="-1" strike="noStrike">
                <a:solidFill>
                  <a:srgbClr val="ff0000"/>
                </a:solidFill>
                <a:latin typeface="Garamond"/>
              </a:rPr>
              <a:t>Zadania</a:t>
            </a:r>
            <a:r>
              <a:rPr b="1" lang="pl-PL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2657" t="28421" r="3839" b="33957"/>
          <a:stretch/>
        </p:blipFill>
        <p:spPr>
          <a:xfrm>
            <a:off x="250920" y="2133720"/>
            <a:ext cx="8569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4 Ryzyko nieosiągnięcia założeń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rcRect l="2362" t="30635" r="3543" b="9966"/>
          <a:stretch/>
        </p:blipFill>
        <p:spPr>
          <a:xfrm>
            <a:off x="395280" y="1700280"/>
            <a:ext cx="820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5 Oddziaływani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1258920" y="1268280"/>
            <a:ext cx="676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3" descr=""/>
          <p:cNvPicPr/>
          <p:nvPr/>
        </p:nvPicPr>
        <p:blipFill>
          <a:blip r:embed="rId1"/>
          <a:srcRect l="2362" t="28421" r="3543" b="46137"/>
          <a:stretch/>
        </p:blipFill>
        <p:spPr>
          <a:xfrm>
            <a:off x="395280" y="1989000"/>
            <a:ext cx="8280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tan wdrażani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gramu Operacyjnego Kapitał Ludzki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 województwie zachodniopomorskim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Stan na dzień 28.02.2011 r.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y 3.6 i 3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rcRect l="5315" t="19193" r="7382" b="10704"/>
          <a:stretch/>
        </p:blipFill>
        <p:spPr>
          <a:xfrm>
            <a:off x="395280" y="1773360"/>
            <a:ext cx="828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1285920" y="5857920"/>
            <a:ext cx="6697440" cy="642960"/>
          </a:xfrm>
          <a:prstGeom prst="rect">
            <a:avLst/>
          </a:prstGeom>
          <a:noFill/>
          <a:ln w="9360">
            <a:solidFill>
              <a:srgbClr val="c3c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69920" indent="-169920" algn="ctr">
              <a:tabLst>
                <a:tab algn="l" pos="0"/>
                <a:tab algn="l" pos="16992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nkt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Konsultacyjny EF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ziała w godzinach: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9.00 – 15.00 od poniedziałku do piątku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079640" y="1071720"/>
            <a:ext cx="702144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datkowych informacji udziela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ją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unkt Konsultacyjny 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jewódzki Ur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 Pracy w Szczecini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l.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ckiewicza 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 91 42 56 163/1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kl@wup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pokl.wup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unkt Konsultacyjny EF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ojewódzki Urząd Pracy - 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 Koszal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l. Słowiańska 15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 94 344 50 25/2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klkoszalin@wup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www.pokl.wup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ole tekstowe 3"/>
          <p:cNvSpPr/>
          <p:nvPr/>
        </p:nvSpPr>
        <p:spPr>
          <a:xfrm>
            <a:off x="3143160" y="550080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c8c93"/>
                </a:solidFill>
                <a:latin typeface="Arial"/>
              </a:rPr>
              <a:t>SKYPE: WUP_SZCZE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rostokąt 1"/>
          <p:cNvSpPr/>
          <p:nvPr/>
        </p:nvSpPr>
        <p:spPr>
          <a:xfrm>
            <a:off x="500040" y="1071720"/>
            <a:ext cx="7786800" cy="76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stytucje, które pomogą Państwu przygotować projek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gionalny Ośrodek EFS w Szczeci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Zachodniopomorska Agencja Rozwoju Regional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l. Św. Ducha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0-223 Szczec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l. 91 432 93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-mail: info_szczecin@roefs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szczecin.roefs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gionalny Ośrodek EFS w Koszali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Koszalińska Agencja Rozwoju Regionalnego S.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l. Przemysłowa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5-216 Kosz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l. 94 343 26 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-mail: info_koszalin@roefs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koszalin.roefs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ole tekstowe 4"/>
          <p:cNvSpPr/>
          <p:nvPr/>
        </p:nvSpPr>
        <p:spPr>
          <a:xfrm>
            <a:off x="214200" y="5857920"/>
            <a:ext cx="871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e współfinansowane ze środków Unii Europejskiej – Europejskiego Funduszu Społecznego            w ramach Pomocy Technicznej Programu Operacyjnego Kapitał Ludz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ole tekstowe 5"/>
          <p:cNvSpPr/>
          <p:nvPr/>
        </p:nvSpPr>
        <p:spPr>
          <a:xfrm>
            <a:off x="2143080" y="27147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ziękujemy za uwagę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ole tekstowe 4"/>
          <p:cNvSpPr/>
          <p:nvPr/>
        </p:nvSpPr>
        <p:spPr>
          <a:xfrm>
            <a:off x="1428840" y="1143000"/>
            <a:ext cx="57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opień wykorzystania alokacji 2007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ole tekstowe 3"/>
          <p:cNvSpPr/>
          <p:nvPr/>
        </p:nvSpPr>
        <p:spPr>
          <a:xfrm>
            <a:off x="539640" y="638172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*Stan na dzień 28.02.2011 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ykres 4" descr=""/>
          <p:cNvPicPr/>
          <p:nvPr/>
        </p:nvPicPr>
        <p:blipFill>
          <a:blip r:embed="rId1"/>
          <a:stretch/>
        </p:blipFill>
        <p:spPr>
          <a:xfrm>
            <a:off x="171360" y="1547640"/>
            <a:ext cx="880128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onkurs nr 1/9.1.2/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00040" y="10717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ajważniejsze informacj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Konkurs zamknię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lokacja: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14 825 385,00 z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Termin ogłoszenia konkursu: 15.03.2011 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abór wniosków:  15.03.2011 r. – 26.04.2011 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71320" y="1143000"/>
            <a:ext cx="8001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ff0000"/>
                </a:solidFill>
                <a:latin typeface="Arial"/>
              </a:rPr>
              <a:t>Dopuszczalne typy proje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  Wsparciem mogą zostać objęte następujące typy projektów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gramy rozwojowe szkół i placówek oświatowych prowadzących kształcenie ogólne, ukierunkowane na wyrównywanie szans edukacyjnych uczniów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zmniejszanie dysproporcji w ich osiągnięciach edukacyjnych oraz podnoszenie jakości procesu kształcenia (z wyłączeniem działań dotyczących indywidualizacji nauczania i wychowania uczniów klas I – III szkół podstawowych), w szczególności obejmując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dodatkowe zajęcia dydaktyczno - wyrównawcze oraz specjalistyczne służące wyrównywaniu dysproporcji edukacyjnych w trakcie procesu kształcenia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doradztwo i opiekę pedagogiczno – psychologiczną dla uczniów wykazujących problemy w nauce lub z innych przyczyn zagrożonych przedwczesnym wypadnięciem z systemu oświaty (np. wsparcie dla uczniów z obszarów wiejskich, wsparcie dla uczniów niepełnosprawnych, przeciwdziałanie uzależnieniom, programy prewencyjne, przeciwdziałanie patologiom społecznym)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9528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gramy skierowane do dzieci i młodzieży, które znajdują się poza systemem szkolnictwa podstawowego, gimnazjalnego i ponadgimnazjalnego (przedwcześnie opuszczający system szkolnictwa), umożliwiające ukończenie danego etapu kształcenia oraz kontynuację nauki)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datkowe zajęcia (pozalekcyjne i pozaszkolne) dla uczniów, ukierunkowa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 rozwój kompetencji kluczowych, ze szczególnym uwzględnieniem ICT, języków obcych, przedsiębiorczości, nauk przyrodniczo – matematycznych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 rozszerzanie oferty szkół o zagadnienia związane z poradnictwem i doradztwem edukacyjno - zawodowym, informowaniem uczniów o korzyściach płynąc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wyboru danej ścieżki edukacyjnej oraz możliwościach dalszego kształce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kontekście uwarunkowań lokalnego i regionalnego rynku pracy (szkolne ośrodki kariery)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drożenie nowych, innowacyjnych form nauczania i oceniania cechujących się wyższą skutecznością niż formy tradycyjne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drażanie programów i narzędzi efektywnego zarządzania placówką oświatową przyczyniających się do poprawy jakości nauczan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42600" y="1052280"/>
            <a:ext cx="79297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Wymagania odnośnie grupy docelowej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y muszą być skierowane bezpośrednio do następujących grup odbiorców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zkoły, placówki oświatowe (instytucje, kadra) realizujące kształcenie ogól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z wyłączeniem szkół dla dorosłych) i ich organy prowadząc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uczniowie i wychowankowie szkół i placówek oświatowych prowadzących kształcenie ogólne (z wyłączeniem słuchaczy szkół dla dorosłyc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osoby, które przedwcześnie opuściły system oświat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rostokąt 3"/>
          <p:cNvSpPr/>
          <p:nvPr/>
        </p:nvSpPr>
        <p:spPr>
          <a:xfrm>
            <a:off x="928800" y="10605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266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42600" y="1285920"/>
            <a:ext cx="7929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góln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kryteria horyzontal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 właściwymi politykami i zasadami wspólnotowymi (w tym: polityką równych szans i koncepcją zrównoważonego rozwoju) oraz prawodawstwem wspólnotowy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 prawodawstwem krajowy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e Szczegółowym Opisem Priorytetów PO K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8:01:27Z</dcterms:created>
  <dc:creator>leszek.teszka</dc:creator>
  <dc:description/>
  <dc:language>en-US</dc:language>
  <cp:lastModifiedBy>justyna.hawelka</cp:lastModifiedBy>
  <dcterms:modified xsi:type="dcterms:W3CDTF">2011-03-17T08:14:52Z</dcterms:modified>
  <cp:revision>569</cp:revision>
  <dc:subject/>
  <dc:title>Slajd 1</dc:title>
</cp:coreProperties>
</file>