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4055-9E63-464B-9CA0-C2823FB52C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3E91-152F-4A2E-BBE1-2F0130816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FF6-8948-4136-A2EC-776846018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pokl@wup.p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700280"/>
            <a:ext cx="7848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a konkurs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9.1.1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5 kwietni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052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zawiera elementy dostosowania budynku przedszkola do potrzeb osób niepełnosprawny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Waga punktowa : 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ziałalność placówki wychowania przedszkolnego, otworzonej w ramach realizacji projektu będzie kontynuowana przynajmniej przez kolejne 12 miesięcy od daty zakończenia realizacji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Waga punktowa : 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1"/>
          <p:cNvSpPr/>
          <p:nvPr/>
        </p:nvSpPr>
        <p:spPr>
          <a:xfrm>
            <a:off x="539640" y="1700280"/>
            <a:ext cx="79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ole tekstowe 1"/>
          <p:cNvSpPr/>
          <p:nvPr/>
        </p:nvSpPr>
        <p:spPr>
          <a:xfrm>
            <a:off x="1258920" y="22050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nerator Wniosków Aplikacyjnych - wersja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6472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Garamond"/>
              </a:rPr>
              <a:t>Punkt 3.1 Uzasadnienie potrzeby realizacji i 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rcRect l="4724" t="12918" r="8563" b="11811"/>
          <a:stretch/>
        </p:blipFill>
        <p:spPr>
          <a:xfrm>
            <a:off x="324000" y="1773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2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Grupy doce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1"/>
          <a:srcRect l="4134" t="34695" r="5315" b="40970"/>
          <a:stretch/>
        </p:blipFill>
        <p:spPr>
          <a:xfrm>
            <a:off x="395280" y="2133720"/>
            <a:ext cx="82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3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Zadania</a:t>
            </a:r>
            <a:r>
              <a:rPr b="1" lang="pl-PL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rcRect l="2657" t="28421" r="3839" b="33957"/>
          <a:stretch/>
        </p:blipFill>
        <p:spPr>
          <a:xfrm>
            <a:off x="250920" y="213372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4 Ryzyko nieosiągnięcia założeń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rcRect l="2362" t="30635" r="3543" b="9966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5 Oddziaływani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1258920" y="1268280"/>
            <a:ext cx="67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3" descr=""/>
          <p:cNvPicPr/>
          <p:nvPr/>
        </p:nvPicPr>
        <p:blipFill>
          <a:blip r:embed="rId1"/>
          <a:srcRect l="2362" t="28421" r="3543" b="46137"/>
          <a:stretch/>
        </p:blipFill>
        <p:spPr>
          <a:xfrm>
            <a:off x="395280" y="1989000"/>
            <a:ext cx="82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y 3.6 i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5315" t="19193" r="7382" b="10704"/>
          <a:stretch/>
        </p:blipFill>
        <p:spPr>
          <a:xfrm>
            <a:off x="395280" y="177336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079640" y="1071720"/>
            <a:ext cx="70214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an na dzień 28.02.2011 r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28840" y="114300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28.02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4" descr=""/>
          <p:cNvPicPr/>
          <p:nvPr/>
        </p:nvPicPr>
        <p:blipFill>
          <a:blip r:embed="rId1"/>
          <a:stretch/>
        </p:blipFill>
        <p:spPr>
          <a:xfrm>
            <a:off x="171360" y="1547640"/>
            <a:ext cx="880128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kurs nr 1/9.1.1/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1071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zamknię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lokacja: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12 273 325,00 z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1.03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:  31.03.2011 r. – 12.05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7132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worzenie przedszkoli (w tym również uruchamianie innych form wychowania przedszkolnego na obszarach i w środowiskach o niskim stopniu upowszechnienia edukacji przedszkolnej (w szczególności na obszarach wiejski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42600" y="1052280"/>
            <a:ext cx="79297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y muszą być skierowane bezpośrednio do następujących grup odbiorców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zieci w wieku przedszkolnym (3-5 lat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dzice dzieci w wieku przedszkolnym (3-5 la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42600" y="1285920"/>
            <a:ext cx="7929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kryteria horyzontal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e Szczegółowym Opisem Priorytetów PO 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1426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 realizacji projektu nie przekracza 24 miesię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ramach projektu wymagany jest wkład własny w wysokości 15% wartości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jest realizowany na terenie z gmin województwa zachodniopomorskieg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 wskaźniku upowszechniania edukacji przedszkolnej poniżej 30%, zgodnie z danymi zawartymi w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estawieniu wskaźników upowszechniania edukacji przedszkolnej </a:t>
            </a:r>
            <a:br>
              <a:rPr sz="1600"/>
            </a:b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na terenie województwa zachodniopomorskiego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odawca w okresie realizacji projektu prowadzi biuro projektu (lub posiada siedzibę, filię, delegaturę, oddział czy inną prawnie dozwoloną formę organizacyjną działalności podmiotu) na terenie województwa zachodniopomorskiego z możliwością udostępnienia pełnej dokumentacji wdrażanego projektu oraz zapewniające uczestnikom projektu możliwość osobistego kontaktu z kadrą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justyna.klonowska</cp:lastModifiedBy>
  <dcterms:modified xsi:type="dcterms:W3CDTF">2011-03-31T10:05:55Z</dcterms:modified>
  <cp:revision>575</cp:revision>
  <dc:subject/>
  <dc:title>Slajd 1</dc:title>
</cp:coreProperties>
</file>