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E792-BA48-4F68-820D-5B24CBCF26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ADC-B9EA-4F87-BD34-0AC40432D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7897-6C36-4644-9AED-DD87D86C4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9.5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9 sierp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</a:t>
            </a:r>
            <a:br>
              <a:rPr sz="1400"/>
            </a:b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W projektach dotyczących oddolnych inicjatyw na obszarach wiejskich projektodawca wypełni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1.1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Uzasadnienie potrzeby realizacji projektu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ierwszą kolumnę punktu 3.1.2 (cel główny projektu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ierwszą kolumnę punktu 3.1.3 (cele szczegółowe projektu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abelę 3.2.1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Przewidywana liczba osób/ instytucji objętych wsparciem w ramach projektu i ich statu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3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Zadani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6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Potencjał i doświadczenie projektodawcy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ra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7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Opis sposobu zarządzania projektem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Tabela 3.2.1 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Przewidywania liczba osób/instytucji objętych wsparc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00120" y="2000160"/>
          <a:ext cx="6096240" cy="4143600"/>
        </p:xfrm>
        <a:graphic>
          <a:graphicData uri="http://schemas.openxmlformats.org/drawingml/2006/table">
            <a:tbl>
              <a:tblPr/>
              <a:tblGrid>
                <a:gridCol w="5138640"/>
                <a:gridCol w="319320"/>
                <a:gridCol w="320760"/>
                <a:gridCol w="317520"/>
              </a:tblGrid>
              <a:tr h="47556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.1 Przewidywana liczba osób/instytucji objętych wsparciem EFS w ramach projektu i ich status  (ilościowe) </a:t>
                      </a:r>
                      <a:r>
                        <a:rPr b="0" i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nie dotyczy projektów informacyjnych i badawczych, w których nie jest udzielane bezpośrednie wsparcie dla osó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us uczestni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czba osó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0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zrobot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długotrwale bezrobot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oby nieaktywne zawodow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uczące lub kształcące się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trudnie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rolni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samozatrudnie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mikro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małych 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średnich 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dużych 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administracji publicznej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organizacjach pozarządowy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gół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należące do mniejszości narodowych i etniczny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migran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niepełnospraw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z terenów wiejsk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zedsiębiorstwa objęte wsparcie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czb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kro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łe 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Średnie 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uże 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0.06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5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244440" y="1481040"/>
            <a:ext cx="86551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zamknię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4 271 923,16 z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02.08.2011 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02.08.2011 - 13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.09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186192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dolne inicjatywy lokalne obejmu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ziałania o charakterze informacyjnym, promocyjnym, szkoleniowym lub doradczym przyczyniające się do poprawy warunków rozwoju edukacji na obszarach wiejski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wój dialogu, partnerstwa publiczno – społecznego i współpracy na rzecz promowania edukacji na obszarach wiejsk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42600" y="1052280"/>
            <a:ext cx="7929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rupę docelową w projekcie stanowią mieszkańcy gmin wiejskich, miejsko – wiejskich oraz miast do 25 tys. mieszkań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ołeczności lokalne aktywnie działające na obszarach wiejskich na rzecz rozwoju edukacji na terenach wiejskich i podnoszenia poziomu wykształcenia mieszkańców obszarów wiejski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mioty działające na obszarach wiejskich na rzecz przeciwdziałania ich marginalizacji i zapewnienia ich odpowiedniego rozwoj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skierowany do osób mających miejsce zamieszkania na terenie gmin wiejskich do 15 tys. mieszkańców, miejsko – wiejskich do 15 tyś. mieszkańców oraz miast do 15 tys. mieszkańców z terenu województwa zachodniopomorskieg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ozumieniu przepisów Kodeksu Cywilnego oraz podmioty działające na tych terenach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odawca w okresie realizacji projektu prowadzi biuro projektu (lub posiada siedzibę, filię, delegaturę, oddział czy inną prawnie dozwolona formę organizacyjną działalności podmiotu) na terenie województwa zachodniopomorskiego, z możliwością udostępnienia pełnej dokumentacji wdrażanego projektu oraz zapewniające uczestnikom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odawca w wyniku ogłaszanych dotychczas konkursów, nie otrzymał dofinansowania projektu w ramach Działania 9.5 w województwie zachodniopomorski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realizowany na obszarze gmin lub skierowany do mieszkańców gmin wymienionych z załączniku nr 6 do Regionalnego Programu Operacyjnego Województwa Zachodniopomorskiego tj. gmin w szczególnie niekorzystnej sytuacji społeczno-ekonomiczne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c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zapewnia wykorzystanie modelu aktywizacji środowisk lokalnych    wypracowanego na podstawie zwalidowanych rezultatów PIW EQU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emiowanie projektów, w których zaplanowano współpracę partnerów publicznych, społecznych i gospodarczych w ramach lokalnych grup dział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hawelka</cp:lastModifiedBy>
  <dcterms:modified xsi:type="dcterms:W3CDTF">2011-08-09T06:50:06Z</dcterms:modified>
  <cp:revision>645</cp:revision>
  <dc:subject/>
  <dc:title>Slajd 1</dc:title>
</cp:coreProperties>
</file>