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B2D3-4560-40B0-8BA5-C51D4EFC86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5945-F5AA-48B1-9C66-FAD6EF285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C328-E54C-45C4-9620-04FFD740F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700280"/>
            <a:ext cx="7848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a konkurs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9.4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12 lipc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1142640"/>
            <a:ext cx="85359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 realizacji projektu nie przekracza 36 miesię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nimalna wartość projektu wynosi 200 tys. z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ramach projektu wymagany jest wkład własny w wysokości 15% wartości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jest skierowany do grup docelowych z obszaru województwa zachodniopomorskiego (osoby fizyczne, które uczą się, pracują lub zamieszkuj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obszarze województwa zachodniopomorskiego w rozumieniu przepisów Kodeksu Cywilnego, w przypadku innych podmiotów posiadają one jednostkę organizacyjn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obszarze województwa zachodniopomorskiego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c.d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odawca w okresie realizacji projektu prowadzi biuro projektu (lub posiada siedzibę, filię, delegaturę, oddział czy inną prawnie dozwoloną formę organizacyjną działalności podmiotu) na terenie województwa zachodniopomorskiego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 możliwością udostępnienia pełnej dokumentacji wdrażanego projekt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az zapewniające uczestnikom projektu możliwość osobistego kontaktu z kadrą projektu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052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Grupę docelową projektu stanowią pracujący na obszarach wiejskich: nauczyciel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 pracownicy dydaktyczni szkół i placówek oświatowych, instruktorzy praktycznej nauki zawodu, kadra administracyjna i zarządzająca oświatą w szkołach i placówkach oświatowych i ich organach prowadzących, w tym co najmniej 80% grupy docelowej muszą stanowić nauczycie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 projektów 1, 2 ,3, 4, 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realizację krótkich form szkoleniowych (kursy, warsztaty, szkolenia) doskonalących nauczycieli oraz kadrę administracyjną i zarządzającą szkó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 projektów 1, 2 ,3, 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c.d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wzrost umiejętności nauczycieli w zakresie pracy na rzecz podniesienia umiejętności i kwalifikacji nauczycieli w zakresie realizacji programów ukierunkowanych na zaspokojenie indywidualnych potrzeb uczniów oraz rozwijanie ich zdolności i talentów, a także w zakresie współpracy z podmiotami i instytucjami zewnętrznymi wobec szkoł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 projektu 1,2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kształcenie nauczycieli w zakresie pedagogiki specjalnej oraz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zakresie potrzeb dzieci ze środowisk zagrożonych wykluczeniem społeczn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aga punktowa: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tosuje się do typu projektu 1,2,3,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1"/>
          <p:cNvSpPr/>
          <p:nvPr/>
        </p:nvSpPr>
        <p:spPr>
          <a:xfrm>
            <a:off x="539640" y="1700280"/>
            <a:ext cx="79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ole tekstowe 1"/>
          <p:cNvSpPr/>
          <p:nvPr/>
        </p:nvSpPr>
        <p:spPr>
          <a:xfrm>
            <a:off x="1258920" y="22050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nerator Wniosków Aplikacyjnych - wersja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6472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Garamond"/>
              </a:rPr>
              <a:t>Punkt 3.1 Uzasadnienie potrzeby realizacji i 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1"/>
          <a:srcRect l="4724" t="12918" r="8563" b="11811"/>
          <a:stretch/>
        </p:blipFill>
        <p:spPr>
          <a:xfrm>
            <a:off x="324000" y="1773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2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Grupy doce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1"/>
          <a:srcRect l="4134" t="34695" r="5315" b="40970"/>
          <a:stretch/>
        </p:blipFill>
        <p:spPr>
          <a:xfrm>
            <a:off x="395280" y="2133720"/>
            <a:ext cx="82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3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Zadania</a:t>
            </a:r>
            <a:r>
              <a:rPr b="1" lang="pl-PL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2657" t="28421" r="3839" b="33957"/>
          <a:stretch/>
        </p:blipFill>
        <p:spPr>
          <a:xfrm>
            <a:off x="250920" y="213372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4 Ryzyko nieosiągnięcia założeń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2362" t="30635" r="3543" b="9966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an na dzień 31.05.2011 r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5 Oddziaływani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258920" y="1268280"/>
            <a:ext cx="67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3" descr=""/>
          <p:cNvPicPr/>
          <p:nvPr/>
        </p:nvPicPr>
        <p:blipFill>
          <a:blip r:embed="rId1"/>
          <a:srcRect l="2362" t="28421" r="3543" b="46137"/>
          <a:stretch/>
        </p:blipFill>
        <p:spPr>
          <a:xfrm>
            <a:off x="395280" y="1989000"/>
            <a:ext cx="82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y 3.6 i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5315" t="19193" r="7382" b="10704"/>
          <a:stretch/>
        </p:blipFill>
        <p:spPr>
          <a:xfrm>
            <a:off x="395280" y="177336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079640" y="1071720"/>
            <a:ext cx="70214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28840" y="114300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31.05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5" descr=""/>
          <p:cNvPicPr/>
          <p:nvPr/>
        </p:nvPicPr>
        <p:blipFill>
          <a:blip r:embed="rId1"/>
          <a:stretch/>
        </p:blipFill>
        <p:spPr>
          <a:xfrm>
            <a:off x="171360" y="1547640"/>
            <a:ext cx="880128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kurs nr 1/9.4/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107136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onkurs zamknię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lokacja: 3 970 876,00 z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1.07.2011 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: 1.07- 12.08.2011 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udia podyplomowe, kursy kwalifikacyjne i doskonalące oraz inne formy podwyższania kwalifikacji dla nauczycieli w zakresie zgodnym z lokaln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regionalną polityką edukacyjną (w tym przygotowanie do nauczania drugiego przedmiotu lub rodzaju prowadzonych zajęć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udia podyplomowe, kursy i szkolenia oraz inne formy podwyższania kwalifikacji pracowników placówek kształcenia ustawicznego, praktycznego i doskonalenia zawodowego oraz instruktorów praktycznej nauki zawod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udia wyższe oraz kursy kwalifikacyjne dla nauczycieli zainteresowanych podwyższeniem lub uzupełnieniem posiadanego wykształce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Dopuszczalne typy projektów c.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udia podyplomowe i kursy doskonalące dla nauczycieli i pracowników administracji oświatowej w zakresie organizacji, zarządzania, finansowania oraz monitoringu działalności oświatowej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gramy przekwalifikowania nauczycieli szkolnych w związku ze zmieniającą się sytuacją demograficzną (niż szkolny) w kierunku kształcenia ustawicznego (osób dorosły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42600" y="1052280"/>
            <a:ext cx="79297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y muszą być skierowane bezpośrednio do następujących grup odbiorców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uczycieli i pracowników dydaktycznych szkół i placówek oświatow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nstruktorów praktycznej nauki zawodu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kadry administracyjnej i zarządzającej oświatą w szkołach i placówkach oświatowych i ich organach prowadzący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42600" y="1285920"/>
            <a:ext cx="7929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e Szczegółowym Opisem Priorytetó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awarte w Karty oceny merytorycznej wniosku o dofinansowanie projektu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traktowane </a:t>
            </a:r>
            <a:br>
              <a:rPr sz="1400"/>
            </a:b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justyna.klonowska</cp:lastModifiedBy>
  <dcterms:modified xsi:type="dcterms:W3CDTF">2011-07-07T08:00:14Z</dcterms:modified>
  <cp:revision>614</cp:revision>
  <dc:subject/>
  <dc:title>Slajd 1</dc:title>
</cp:coreProperties>
</file>