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F73-F280-4173-A3BD-062FB9B845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658-FCFF-4F5F-BD7B-0F6AC8134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6DF2-D79C-45FF-9281-A023118AB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r 1/9.2/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18 maj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11426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 realizacji projektu nie przekracza 24 miesię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ramach projektu wymagany jest wkład własny w wysokości 15% wartośc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nimalna wartość projektu wynosi 200 tysięcy z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odawca 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112500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dostęp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yterium obligatoryj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jest skierowany do grup docelowych z obszaru województwa zachodniopomorskiego (osoby fizyczne, które uczą się, pracują lub zamieszkuj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obszarze województwa zachodniopomorskiego w rozumieniu przepisów Kodeksu Cywilnego, w przypadku innych podmiotów posiadają one jednostkę organizacyjną na obszarze województwa zachodniopomorskiego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6.   Projektodawcą jest jeden z następujących podmiotów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oła, placówka oświatowa (instytucje, kadra) i ich organ prowadzący, realizujące kształcenie zawodowe (z wyłączeniem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a pozarządowa prowadząca działalność statutową w zakresie eduk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partnerstwie z organem prowadzącym szkołę lub placówkę oświatow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współpracę szkół i placówek prowadzących kształcenie zawodow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 pracodawcami i/ lub instytucjami rynku pracy z terenu województwa zachodniopomorskiego służącą podnoszeniu kwalifikacji zawodowych uczniów jako przyszłych absolwentów i wzmacnianie ich zdolności do zatrudnienia w zakresie wdrażania programów rozwojowych lub/i w zakresie praktycznych form naucz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p. staże i praktyk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realizację poradnictwa i doradztwa edukacyjno – zawodowego (obejmującego ocenę predyspozycji osobowych do wykonywania poszczególnych zawodów, planowanie ścieżki kariery zawodowej, ścieżki podnoszenia kwalifikacji zawodowy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 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realizację poradnictwa i doradztwa w zakresie przygotow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prowadzenia własnej działalności gospodarcze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 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05264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premia punktowa - kryterium fakultatywne)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 zakłada kształcenie w zawodach związanych z zieloną gospodark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(np. technik architektury krajobrazu, technik mechanik, technik ochrony środowiska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 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Projekt zakłada objecie wsparciem i uwzględnia potrzeby uczniów niepełnosprawny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aga punktowa : 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1"/>
          <p:cNvSpPr/>
          <p:nvPr/>
        </p:nvSpPr>
        <p:spPr>
          <a:xfrm>
            <a:off x="539640" y="1700280"/>
            <a:ext cx="79200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ole tekstowe 1"/>
          <p:cNvSpPr/>
          <p:nvPr/>
        </p:nvSpPr>
        <p:spPr>
          <a:xfrm>
            <a:off x="1258920" y="2205000"/>
            <a:ext cx="626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enerator Wniosków Aplikacyjnych - wersja 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96472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Garamond"/>
              </a:rPr>
              <a:t>Punkt 3.1 Uzasadnienie potrzeby realizacji i 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rcRect l="4724" t="12918" r="8563" b="11811"/>
          <a:stretch/>
        </p:blipFill>
        <p:spPr>
          <a:xfrm>
            <a:off x="324000" y="1773360"/>
            <a:ext cx="8497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2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Grupy docel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rcRect l="4134" t="34695" r="5315" b="40970"/>
          <a:stretch/>
        </p:blipFill>
        <p:spPr>
          <a:xfrm>
            <a:off x="395280" y="2133720"/>
            <a:ext cx="82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3 </a:t>
            </a:r>
            <a:r>
              <a:rPr b="1" i="1" lang="pl-PL" sz="3200" spc="-1" strike="noStrike">
                <a:solidFill>
                  <a:srgbClr val="ff0000"/>
                </a:solidFill>
                <a:latin typeface="Garamond"/>
              </a:rPr>
              <a:t>Zadania</a:t>
            </a:r>
            <a:r>
              <a:rPr b="1" lang="pl-PL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2657" t="28421" r="3839" b="33957"/>
          <a:stretch/>
        </p:blipFill>
        <p:spPr>
          <a:xfrm>
            <a:off x="250920" y="2133720"/>
            <a:ext cx="85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4 Ryzyko nieosiągnięcia założeń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2362" t="30635" r="3543" b="9966"/>
          <a:stretch/>
        </p:blipFill>
        <p:spPr>
          <a:xfrm>
            <a:off x="395280" y="1700280"/>
            <a:ext cx="820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tan na dzień 31.03.2011 r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 3.5 Oddziaływani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258920" y="1268280"/>
            <a:ext cx="676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3" descr=""/>
          <p:cNvPicPr/>
          <p:nvPr/>
        </p:nvPicPr>
        <p:blipFill>
          <a:blip r:embed="rId1"/>
          <a:srcRect l="2362" t="28421" r="3543" b="46137"/>
          <a:stretch/>
        </p:blipFill>
        <p:spPr>
          <a:xfrm>
            <a:off x="395280" y="1989000"/>
            <a:ext cx="8280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Garamond"/>
              </a:rPr>
              <a:t>Punkty 3.6 i 3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5315" t="19193" r="7382" b="10704"/>
          <a:stretch/>
        </p:blipFill>
        <p:spPr>
          <a:xfrm>
            <a:off x="395280" y="177336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079640" y="1071720"/>
            <a:ext cx="70214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3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5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85820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9.2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00040" y="1071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zamknię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7 459 033,00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10.05.2011 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10.05.2011 r. - 21.06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10920" y="1125000"/>
            <a:ext cx="800100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Programy rozwojowe szkół i placówek oświatowych prowadzących kształcenie zawodowe ukierunkowane na zmniejszanie dysproporcji w osiągnięciach uczniów w trakcie procesu kształcenia oraz podnoszenie jakości procesu kształc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szczególności obejmując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datkowe zajęcia dydaktyczno - wyrównawcze oraz specjalistyczne służące wyrównywaniu dysproporcji edukacyjnych w trakcie procesu kształceni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radztwo i opiekę pedagogiczno – psychologiczną dla uczniów wykazujących problemy w nauce lub z innych przyczyn zagrożonych przedwczesnym wypadnięciem z systemu szkolnictwa (np. wsparcie dla uczniów z obszarów wiejskich, wsparcie dla uczniów niepełnosprawnych, przeciwdziałanie uzależnieniom, programy prewencyjne, przeciwdziałanie patologiom społeczny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datkowe zajęcia (pozalekcyjne i pozaszkolne) dla uczniów ukierunkow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rozwój kompetencji kluczowych, ze szczególnym uwzględnieniem ICT, języków obcych, przedsiębiorczości, nauk przyrodniczo – matematyczn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efektywne programy doradztwa edukacyjno – zawodow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7132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ff0000"/>
                </a:solidFill>
                <a:latin typeface="Arial"/>
              </a:rPr>
              <a:t>Dopuszczalne typy projektó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odernizację oferty kształcenia zawodowego i dostosowanie jej do potrzeb lokalnego i regionalnego rynku pracy (wprowadzanie nowych kierunków kształcenia, modyfikacja programów nauczania na kierunkach istniejąc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półpracę szkół i placówek prowadzących kształcenie zawodow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 pracodawcami i instytucjami rynku pracy służącą podnoszeniu kwalifikacji zawodowych uczniów jako przyszłych absolwentów i wzmacnianie ich zdo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zatrudnienia (w tym zwłaszcza w zakresie praktycznych form nauczania – staże i praktyk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yposażenie szkół i placówek prowadzących kształcenie zawodow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nowoczesne materiały dydaktyczne (w tym podręczniki szkolne) zapewniające wysoką jakość kształceni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 nowych, innowacyjnych form nauczania i oceniania cechujących się wyższą skutecznością niż formy tradycyjn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ażanie programów i narzędzi efektywnego zarządzania placówką oświatową przyczyniających się do poprawy jakośc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42600" y="1052280"/>
            <a:ext cx="79297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ymagania odnośnie grupy docelowej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y muszą być skierowane bezpośrednio do następujących grup odbiorców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czniów i słuchaczy szkół i placówek oświatowych prowadzących kształcenie zawodowe (z wyłączeniem słuchaczy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ół i placówek (instytucje i kadra pedagogiczna) prowadzących kształcenie zawodowe (z wyłączeniem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ół policealn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artnerów społeczno – gospodarcz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ów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42600" y="1285920"/>
            <a:ext cx="7929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kryteria horyzontal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e Szczegółowym Opisem Priorytetów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justyna.klonowska</cp:lastModifiedBy>
  <dcterms:modified xsi:type="dcterms:W3CDTF">2011-05-10T11:44:58Z</dcterms:modified>
  <cp:revision>588</cp:revision>
  <dc:subject/>
  <dc:title>Slajd 1</dc:title>
</cp:coreProperties>
</file>