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.xml.rels" ContentType="application/vnd.openxmlformats-package.relationships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7BB17-6E08-4899-B0AF-E342C5513C15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Symbol zastępczy numeru slajd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3F84C-8D28-4057-87E8-A2346E9BF06B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10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fld id="{112FC0D0-8C0E-4A63-8E09-DD32D19D68EB}" type="slidenum">
              <a:rPr b="0" lang="en-GB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1"/>
          <p:cNvSpPr/>
          <p:nvPr/>
        </p:nvSpPr>
        <p:spPr>
          <a:xfrm>
            <a:off x="917640" y="744480"/>
            <a:ext cx="49640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body"/>
          </p:nvPr>
        </p:nvSpPr>
        <p:spPr>
          <a:xfrm>
            <a:off x="678960" y="4714920"/>
            <a:ext cx="543564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12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4B531-2843-4BD5-AA18-B83C716430E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"/>
          <p:cNvSpPr/>
          <p:nvPr/>
        </p:nvSpPr>
        <p:spPr>
          <a:xfrm>
            <a:off x="917640" y="743040"/>
            <a:ext cx="4967280" cy="3724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7520" bIns="47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body"/>
          </p:nvPr>
        </p:nvSpPr>
        <p:spPr>
          <a:xfrm>
            <a:off x="678960" y="4716360"/>
            <a:ext cx="543420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12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C617F-0EC3-4AFA-8F44-C1F11E0B969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"/>
          <p:cNvSpPr/>
          <p:nvPr/>
        </p:nvSpPr>
        <p:spPr>
          <a:xfrm>
            <a:off x="917640" y="743040"/>
            <a:ext cx="4967280" cy="3724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7520" bIns="47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body"/>
          </p:nvPr>
        </p:nvSpPr>
        <p:spPr>
          <a:xfrm>
            <a:off x="678960" y="4716360"/>
            <a:ext cx="543420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10"/>
          <p:cNvSpPr/>
          <p:nvPr/>
        </p:nvSpPr>
        <p:spPr>
          <a:xfrm>
            <a:off x="0" y="6597720"/>
            <a:ext cx="9144000" cy="26028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9"/>
          <p:cNvSpPr/>
          <p:nvPr/>
        </p:nvSpPr>
        <p:spPr>
          <a:xfrm>
            <a:off x="0" y="659772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ffffff"/>
                </a:solidFill>
                <a:latin typeface="Arial"/>
              </a:rPr>
              <a:t>Wojewódzki Urząd Pracy w Szczecin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1"/>
          <p:cNvSpPr/>
          <p:nvPr/>
        </p:nvSpPr>
        <p:spPr>
          <a:xfrm>
            <a:off x="611280" y="1052640"/>
            <a:ext cx="7993080" cy="0"/>
          </a:xfrm>
          <a:prstGeom prst="line">
            <a:avLst/>
          </a:prstGeom>
          <a:ln w="25560">
            <a:solidFill>
              <a:srgbClr val="24496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14" descr="listownik_PO_KL"/>
          <p:cNvPicPr/>
          <p:nvPr/>
        </p:nvPicPr>
        <p:blipFill>
          <a:blip r:embed="rId2"/>
          <a:stretch/>
        </p:blipFill>
        <p:spPr>
          <a:xfrm>
            <a:off x="971640" y="149400"/>
            <a:ext cx="7272360" cy="758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11"/>
          <p:cNvSpPr/>
          <p:nvPr/>
        </p:nvSpPr>
        <p:spPr>
          <a:xfrm>
            <a:off x="684360" y="1700280"/>
            <a:ext cx="7848360" cy="40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Spotkanie informacyj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Dokumentacja konkursow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ff0000"/>
                </a:solidFill>
                <a:latin typeface="Arial"/>
              </a:rPr>
              <a:t>nr 1/8.1.2/IN/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ff0000"/>
                </a:solidFill>
                <a:latin typeface="Arial"/>
              </a:rPr>
              <a:t>nr 1/9.2/IN/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na 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projekty innowacyjne testujące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PO K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z możliwością realizacji 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komponentu ponadnarodoweg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Szczecin, 19 kwietnia 2011 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ole tekstowe 2"/>
          <p:cNvSpPr/>
          <p:nvPr/>
        </p:nvSpPr>
        <p:spPr>
          <a:xfrm>
            <a:off x="214200" y="5857920"/>
            <a:ext cx="8715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Spotkanie współfinansowane ze środków Unii Europejskiej – Europejskiego Funduszu Społecznego            w ramach Pomocy Technicznej Programu Operacyjnego Kapitał Ludzk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68360" y="193320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Tahoma"/>
              </a:rPr>
              <a:t>PRODUKT FINALN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Efektem realizacji projektu innowacyjnego musi być PRODUKT rozumiany jako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ff0000"/>
                </a:solidFill>
                <a:latin typeface="Tahoma"/>
              </a:rPr>
              <a:t>MODEL</a:t>
            </a:r>
            <a:r>
              <a:rPr b="1" lang="pl-P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1" lang="pl-P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system założeń, pojęć i zależności między nimi pozwalający opisać (zamodelować) w przybliżony sposób jakiś aspekt rzeczywistości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ff0000"/>
                </a:solidFill>
                <a:latin typeface="Tahoma"/>
              </a:rPr>
              <a:t>NARZĘDZIE</a:t>
            </a:r>
            <a:r>
              <a:rPr b="1" lang="pl-P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– umożliwia i/lub ułatwia realizację określonych działań, zadań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ff0000"/>
                </a:solidFill>
                <a:latin typeface="Tahoma"/>
              </a:rPr>
              <a:t>INSTRUMENT</a:t>
            </a:r>
            <a:r>
              <a:rPr b="1" lang="pl-P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– element narzędzia, wspierający jego skuteczność i efektywność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Tahoma"/>
              </a:rPr>
              <a:t>GRUPA DOCELOWA (I wymiar innowacyjności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osoby, grupy, środowiska, które wymagają wypracowania nowych, lepszych, skuteczniejszych rozwiązań czy podejść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Projekt innowacyjny może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być skierowany do grup </a:t>
            </a:r>
            <a:r>
              <a:rPr b="1" lang="pl-PL" sz="1600" spc="-1" strike="noStrike">
                <a:solidFill>
                  <a:srgbClr val="ff0000"/>
                </a:solidFill>
                <a:latin typeface="Tahoma"/>
              </a:rPr>
              <a:t>pomijanych lub wykluczanych</a:t>
            </a: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proponować aktywne metody wsparcia skierowane do grup </a:t>
            </a:r>
            <a:r>
              <a:rPr b="1" lang="pl-PL" sz="1600" spc="-1" strike="noStrike">
                <a:solidFill>
                  <a:srgbClr val="ff0000"/>
                </a:solidFill>
                <a:latin typeface="Tahoma"/>
              </a:rPr>
              <a:t>dotychczas wspieranych biernie</a:t>
            </a: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kierować działania do grup </a:t>
            </a:r>
            <a:r>
              <a:rPr b="1" lang="pl-PL" sz="1600" spc="-1" strike="noStrike">
                <a:solidFill>
                  <a:srgbClr val="ff0000"/>
                </a:solidFill>
                <a:latin typeface="Tahoma"/>
              </a:rPr>
              <a:t>dobrze znanych</a:t>
            </a: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 i dotychczas </a:t>
            </a:r>
            <a:r>
              <a:rPr b="1" lang="pl-PL" sz="1600" spc="-1" strike="noStrike">
                <a:solidFill>
                  <a:srgbClr val="ff0000"/>
                </a:solidFill>
                <a:latin typeface="Tahoma"/>
              </a:rPr>
              <a:t>szeroko i aktywnie wspieranych</a:t>
            </a: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, oferując jedynie </a:t>
            </a:r>
            <a:r>
              <a:rPr b="1" lang="pl-PL" sz="1600" spc="-1" strike="noStrike">
                <a:solidFill>
                  <a:srgbClr val="ff0000"/>
                </a:solidFill>
                <a:latin typeface="Tahoma"/>
              </a:rPr>
              <a:t>modyfikację </a:t>
            </a: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dotychczasowych form wsparcia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53964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Tahoma"/>
              </a:rPr>
              <a:t>GRUPA DOCELOWA (I wymiar innowacyjności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ff0000"/>
                </a:solidFill>
                <a:latin typeface="Tahoma"/>
              </a:rPr>
              <a:t>Użytkownicy</a:t>
            </a:r>
            <a:r>
              <a:rPr b="1" lang="pl-P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– to ci, którzy otrzymują do rąk nowe metody działania, nowe technologie, nowe narzędzia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Mogą mieć charakter instytucjonalny bądź pozainstytucjonalny, np. powiatowe urzędy pracy, agencje zatrudnienia, ośrodki pomocy społecznej, instruktorzy, pośrednicy pracy, nauczyciele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ff0000"/>
                </a:solidFill>
                <a:latin typeface="Tahoma"/>
              </a:rPr>
              <a:t>Odbiorcy</a:t>
            </a:r>
            <a:r>
              <a:rPr b="1" lang="pl-P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pl-P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to ci, których problemy będą mogły być złagodzone lub skutecznie rozwiązane dzięki nowej metodzie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ff0000"/>
                </a:solidFill>
                <a:latin typeface="Tahoma"/>
              </a:rPr>
              <a:t>Wymiary grup docelowych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docelowy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upowszechnienia i włączenia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testowania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6836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Tahoma"/>
              </a:rPr>
              <a:t>PROBLEM (II wymiar innowacyjności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W projekcie innowacyjnym skupiamy się na </a:t>
            </a:r>
            <a:r>
              <a:rPr b="1" lang="pl-PL" sz="1600" spc="-1" strike="noStrike">
                <a:solidFill>
                  <a:srgbClr val="ff0000"/>
                </a:solidFill>
                <a:latin typeface="Tahoma"/>
              </a:rPr>
              <a:t>poszukiwaniu rozwiązania problemu, który do tej pory nie był przedmiotem polityki państwa, a więc problemu</a:t>
            </a:r>
            <a:r>
              <a:rPr b="1" lang="pl-PL" sz="16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nieznanego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znanego, lecz niedostrzeganego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dobrze znanego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46836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Tahoma"/>
              </a:rPr>
              <a:t>FORMA WSPARCIA (III wymiar innowacyjności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wypracowanie </a:t>
            </a:r>
            <a:r>
              <a:rPr b="1" lang="pl-PL" sz="1600" spc="-1" strike="noStrike">
                <a:solidFill>
                  <a:srgbClr val="ff0000"/>
                </a:solidFill>
                <a:latin typeface="Tahoma"/>
              </a:rPr>
              <a:t>nowatorskich</a:t>
            </a: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 metod działania, innowacyjnych instrumentów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i narzędzi, lub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proponowanie </a:t>
            </a:r>
            <a:r>
              <a:rPr b="1" lang="pl-PL" sz="1600" spc="-1" strike="noStrike">
                <a:solidFill>
                  <a:srgbClr val="ff0000"/>
                </a:solidFill>
                <a:latin typeface="Tahoma"/>
              </a:rPr>
              <a:t>znanych, sprawdzonych</a:t>
            </a: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 metod wobec </a:t>
            </a:r>
            <a:r>
              <a:rPr b="1" lang="pl-PL" sz="1600" spc="-1" strike="noStrike">
                <a:solidFill>
                  <a:srgbClr val="ff0000"/>
                </a:solidFill>
                <a:latin typeface="Tahoma"/>
              </a:rPr>
              <a:t>innych grup</a:t>
            </a: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 niż te, które dotychczas były objęte daną metodą, lub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doskonalenie </a:t>
            </a:r>
            <a:r>
              <a:rPr b="1" lang="pl-PL" sz="1600" spc="-1" strike="noStrike">
                <a:solidFill>
                  <a:srgbClr val="ff0000"/>
                </a:solidFill>
                <a:latin typeface="Tahoma"/>
              </a:rPr>
              <a:t>dotychczasowych</a:t>
            </a: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 metod, wprowadzając do nich </a:t>
            </a:r>
            <a:r>
              <a:rPr b="1" lang="pl-PL" sz="1600" spc="-1" strike="noStrike">
                <a:solidFill>
                  <a:srgbClr val="ff0000"/>
                </a:solidFill>
                <a:latin typeface="Tahoma"/>
              </a:rPr>
              <a:t>korekty</a:t>
            </a: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, stosując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je wobec tych samych co dotychczas grup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468360" y="1052640"/>
            <a:ext cx="822960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Tahoma"/>
              </a:rPr>
              <a:t>Uwaga! </a:t>
            </a: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Warunkiem przejścia do drugiego etapu projektu jest opracowanie oraz uzyskanie akceptacji „Strategii wdrażania projektu innowacyjnego”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rostokąt 3"/>
          <p:cNvSpPr/>
          <p:nvPr/>
        </p:nvSpPr>
        <p:spPr>
          <a:xfrm>
            <a:off x="2484360" y="1125360"/>
            <a:ext cx="3311640" cy="7210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Faza: DIAGNOZA I ANALIZA PROBLEM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rostokąt 5"/>
          <p:cNvSpPr/>
          <p:nvPr/>
        </p:nvSpPr>
        <p:spPr>
          <a:xfrm>
            <a:off x="2484360" y="2421000"/>
            <a:ext cx="3313080" cy="792000"/>
          </a:xfrm>
          <a:prstGeom prst="rect">
            <a:avLst/>
          </a:prstGeom>
          <a:gradFill rotWithShape="0">
            <a:gsLst>
              <a:gs pos="0">
                <a:srgbClr val="acace1"/>
              </a:gs>
              <a:gs pos="100000">
                <a:srgbClr val="e9e9f7"/>
              </a:gs>
            </a:gsLst>
            <a:lin ang="16200000"/>
          </a:gradFill>
          <a:ln w="9360">
            <a:solidFill>
              <a:srgbClr val="29298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Faza: TWORZENIE PARTNERSTWA (jeśli jest przewidzian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rostokąt 7"/>
          <p:cNvSpPr/>
          <p:nvPr/>
        </p:nvSpPr>
        <p:spPr>
          <a:xfrm>
            <a:off x="539640" y="1052640"/>
            <a:ext cx="1368360" cy="50472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ahoma"/>
              </a:rPr>
              <a:t>ETAP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rostokąt 8"/>
          <p:cNvSpPr/>
          <p:nvPr/>
        </p:nvSpPr>
        <p:spPr>
          <a:xfrm>
            <a:off x="2484360" y="3860640"/>
            <a:ext cx="3311640" cy="1440000"/>
          </a:xfrm>
          <a:prstGeom prst="rect">
            <a:avLst/>
          </a:prstGeom>
          <a:gradFill rotWithShape="0">
            <a:gsLst>
              <a:gs pos="0">
                <a:srgbClr val="cfffff"/>
              </a:gs>
              <a:gs pos="100000">
                <a:srgbClr val="f0ffff"/>
              </a:gs>
            </a:gsLst>
            <a:lin ang="16200000"/>
          </a:gradFill>
          <a:ln w="9360">
            <a:solidFill>
              <a:srgbClr val="b6dcd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Faza: OPRACOWANIE WSTĘPNEJ WERSJI PRODUKTU ORAZ STRATEGII WDRAŻANIA PROJEKTU INNOWACYJNEG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Strzałka w prawo 9"/>
          <p:cNvSpPr/>
          <p:nvPr/>
        </p:nvSpPr>
        <p:spPr>
          <a:xfrm>
            <a:off x="5796000" y="4581360"/>
            <a:ext cx="863640" cy="358920"/>
          </a:xfrm>
          <a:prstGeom prst="rightArrow">
            <a:avLst>
              <a:gd name="adj1" fmla="val 50000"/>
              <a:gd name="adj2" fmla="val 49985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Strzałka zakrzywiona w lewo 10"/>
          <p:cNvSpPr/>
          <p:nvPr/>
        </p:nvSpPr>
        <p:spPr>
          <a:xfrm>
            <a:off x="5796000" y="1773360"/>
            <a:ext cx="649080" cy="936360"/>
          </a:xfrm>
          <a:custGeom>
            <a:avLst/>
            <a:gdLst>
              <a:gd name="textAreaLeft" fmla="*/ 86760 w 649080"/>
              <a:gd name="textAreaRight" fmla="*/ 562320 w 649080"/>
              <a:gd name="textAreaTop" fmla="*/ 173160 h 936360"/>
              <a:gd name="textAreaBottom" fmla="*/ 68220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993" stAng="-5400000" swAng="5400000"/>
                <a:lnTo>
                  <a:pt x="21600" y="11736"/>
                </a:lnTo>
                <a:arcTo wR="21600" hR="7993" stAng="0" swAng="3305580"/>
                <a:lnTo>
                  <a:pt x="5400" y="21346"/>
                </a:lnTo>
                <a:lnTo>
                  <a:pt x="0" y="17857"/>
                </a:lnTo>
                <a:lnTo>
                  <a:pt x="5400" y="13859"/>
                </a:lnTo>
                <a:lnTo>
                  <a:pt x="5400" y="15731"/>
                </a:lnTo>
                <a:arcTo wR="21600" hR="7993" stAng="3305580" swAng="-3000011"/>
                <a:lnTo>
                  <a:pt x="20999" y="9864"/>
                </a:lnTo>
                <a:arcTo wR="21600" hR="7993" stAng="-305569" swAng="-5094431"/>
                <a:close/>
              </a:path>
              <a:path fill="darkenLess" w="21600" h="21600">
                <a:moveTo>
                  <a:pt x="0" y="0"/>
                </a:moveTo>
                <a:arcTo wR="21600" hR="7993" stAng="-5400000" swAng="5400000"/>
                <a:lnTo>
                  <a:pt x="21600" y="11736"/>
                </a:lnTo>
                <a:arcTo wR="21600" hR="7993" stAng="0" swAng="-305569"/>
                <a:lnTo>
                  <a:pt x="20999" y="9864"/>
                </a:lnTo>
                <a:arcTo wR="21600" hR="7993" stAng="-305569" swAng="-5094431"/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Strzałka w górę i w dół 11"/>
          <p:cNvSpPr/>
          <p:nvPr/>
        </p:nvSpPr>
        <p:spPr>
          <a:xfrm>
            <a:off x="3995640" y="1844640"/>
            <a:ext cx="289080" cy="576360"/>
          </a:xfrm>
          <a:prstGeom prst="upDownArrow">
            <a:avLst>
              <a:gd name="adj1" fmla="val 50000"/>
              <a:gd name="adj2" fmla="val 49982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Strzałka w górę i w dół 14"/>
          <p:cNvSpPr/>
          <p:nvPr/>
        </p:nvSpPr>
        <p:spPr>
          <a:xfrm>
            <a:off x="3995640" y="3213000"/>
            <a:ext cx="287280" cy="611280"/>
          </a:xfrm>
          <a:prstGeom prst="upDownArrow">
            <a:avLst>
              <a:gd name="adj1" fmla="val 50000"/>
              <a:gd name="adj2" fmla="val 50013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Strzałka zakrzywiona w lewo 16"/>
          <p:cNvSpPr/>
          <p:nvPr/>
        </p:nvSpPr>
        <p:spPr>
          <a:xfrm>
            <a:off x="5796000" y="2997360"/>
            <a:ext cx="649080" cy="1152360"/>
          </a:xfrm>
          <a:custGeom>
            <a:avLst/>
            <a:gdLst>
              <a:gd name="textAreaLeft" fmla="*/ 86760 w 649080"/>
              <a:gd name="textAreaRight" fmla="*/ 562320 w 649080"/>
              <a:gd name="textAreaTop" fmla="*/ 227160 h 1152360"/>
              <a:gd name="textAreaBottom" fmla="*/ 844200 h 115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519" stAng="-5400000" swAng="5400000"/>
                <a:lnTo>
                  <a:pt x="21600" y="11561"/>
                </a:lnTo>
                <a:arcTo wR="21600" hR="8519" stAng="0" swAng="3407224"/>
                <a:lnTo>
                  <a:pt x="5400" y="21330"/>
                </a:lnTo>
                <a:lnTo>
                  <a:pt x="0" y="18558"/>
                </a:lnTo>
                <a:lnTo>
                  <a:pt x="5400" y="15246"/>
                </a:lnTo>
                <a:lnTo>
                  <a:pt x="5400" y="16767"/>
                </a:lnTo>
                <a:arcTo wR="21600" hR="8519" stAng="3407224" swAng="-3161615"/>
                <a:lnTo>
                  <a:pt x="21253" y="10040"/>
                </a:lnTo>
                <a:arcTo wR="21600" hR="8519" stAng="-245610" swAng="-5154390"/>
                <a:close/>
              </a:path>
              <a:path fill="darkenLess" w="21600" h="21600">
                <a:moveTo>
                  <a:pt x="0" y="0"/>
                </a:moveTo>
                <a:arcTo wR="21600" hR="8519" stAng="-5400000" swAng="5400000"/>
                <a:lnTo>
                  <a:pt x="21600" y="11561"/>
                </a:lnTo>
                <a:arcTo wR="21600" hR="8519" stAng="0" swAng="-245610"/>
                <a:lnTo>
                  <a:pt x="21253" y="10040"/>
                </a:lnTo>
                <a:arcTo wR="21600" hR="8519" stAng="-245610" swAng="-5154390"/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Elipsa 12"/>
          <p:cNvSpPr/>
          <p:nvPr/>
        </p:nvSpPr>
        <p:spPr>
          <a:xfrm>
            <a:off x="6659640" y="4292640"/>
            <a:ext cx="2016000" cy="10080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ahoma"/>
              </a:rPr>
              <a:t>UPOWSZECHNIANIE I WŁĄCZANIE DO GŁÓWNEGO NURT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rostokąt 3"/>
          <p:cNvSpPr/>
          <p:nvPr/>
        </p:nvSpPr>
        <p:spPr>
          <a:xfrm>
            <a:off x="2484360" y="1341360"/>
            <a:ext cx="3311640" cy="7192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Faza: TESTOWANIE OPRACOWANEGO PRODUKT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rostokąt 5"/>
          <p:cNvSpPr/>
          <p:nvPr/>
        </p:nvSpPr>
        <p:spPr>
          <a:xfrm>
            <a:off x="2411280" y="2637000"/>
            <a:ext cx="3313080" cy="792000"/>
          </a:xfrm>
          <a:prstGeom prst="rect">
            <a:avLst/>
          </a:prstGeom>
          <a:gradFill rotWithShape="0">
            <a:gsLst>
              <a:gs pos="0">
                <a:srgbClr val="acace1"/>
              </a:gs>
              <a:gs pos="100000">
                <a:srgbClr val="e9e9f7"/>
              </a:gs>
            </a:gsLst>
            <a:lin ang="16200000"/>
          </a:gradFill>
          <a:ln w="9360">
            <a:solidFill>
              <a:srgbClr val="29298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Faza: ANALIZA RZECZYWISTYCH EFEKTÓW TESTOWANEGO PRODUKT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rostokąt 7"/>
          <p:cNvSpPr/>
          <p:nvPr/>
        </p:nvSpPr>
        <p:spPr>
          <a:xfrm>
            <a:off x="468360" y="1341360"/>
            <a:ext cx="1366920" cy="5032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ahoma"/>
              </a:rPr>
              <a:t>ETAP 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rostokąt 8"/>
          <p:cNvSpPr/>
          <p:nvPr/>
        </p:nvSpPr>
        <p:spPr>
          <a:xfrm>
            <a:off x="2484360" y="5373720"/>
            <a:ext cx="3311640" cy="863640"/>
          </a:xfrm>
          <a:prstGeom prst="rect">
            <a:avLst/>
          </a:prstGeom>
          <a:gradFill rotWithShape="0">
            <a:gsLst>
              <a:gs pos="0">
                <a:srgbClr val="cfffff"/>
              </a:gs>
              <a:gs pos="100000">
                <a:srgbClr val="f0ffff"/>
              </a:gs>
            </a:gsLst>
            <a:lin ang="16200000"/>
          </a:gradFill>
          <a:ln w="9360">
            <a:solidFill>
              <a:srgbClr val="b6dcd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Faza: UPOWSZECHNIENIE I WŁĄCZENIE DO GŁÓWNEGO NURT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trzałka zakrzywiona w lewo 10"/>
          <p:cNvSpPr/>
          <p:nvPr/>
        </p:nvSpPr>
        <p:spPr>
          <a:xfrm>
            <a:off x="5867280" y="1844640"/>
            <a:ext cx="649440" cy="936720"/>
          </a:xfrm>
          <a:custGeom>
            <a:avLst/>
            <a:gdLst>
              <a:gd name="textAreaLeft" fmla="*/ 86760 w 649440"/>
              <a:gd name="textAreaRight" fmla="*/ 562680 w 649440"/>
              <a:gd name="textAreaTop" fmla="*/ 173160 h 936720"/>
              <a:gd name="textAreaBottom" fmla="*/ 682200 h 93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993" stAng="-5400000" swAng="5400000"/>
                <a:lnTo>
                  <a:pt x="21600" y="11736"/>
                </a:lnTo>
                <a:arcTo wR="21600" hR="7993" stAng="0" swAng="3305580"/>
                <a:lnTo>
                  <a:pt x="5400" y="21346"/>
                </a:lnTo>
                <a:lnTo>
                  <a:pt x="0" y="17857"/>
                </a:lnTo>
                <a:lnTo>
                  <a:pt x="5400" y="13859"/>
                </a:lnTo>
                <a:lnTo>
                  <a:pt x="5400" y="15731"/>
                </a:lnTo>
                <a:arcTo wR="21600" hR="7993" stAng="3305580" swAng="-3000011"/>
                <a:lnTo>
                  <a:pt x="20999" y="9864"/>
                </a:lnTo>
                <a:arcTo wR="21600" hR="7993" stAng="-305569" swAng="-5094431"/>
                <a:close/>
              </a:path>
              <a:path fill="darkenLess" w="21600" h="21600">
                <a:moveTo>
                  <a:pt x="0" y="0"/>
                </a:moveTo>
                <a:arcTo wR="21600" hR="7993" stAng="-5400000" swAng="5400000"/>
                <a:lnTo>
                  <a:pt x="21600" y="11736"/>
                </a:lnTo>
                <a:arcTo wR="21600" hR="7993" stAng="0" swAng="-305569"/>
                <a:lnTo>
                  <a:pt x="20999" y="9864"/>
                </a:lnTo>
                <a:arcTo wR="21600" hR="7993" stAng="-305569" swAng="-5094431"/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Strzałka w górę i w dół 11"/>
          <p:cNvSpPr/>
          <p:nvPr/>
        </p:nvSpPr>
        <p:spPr>
          <a:xfrm>
            <a:off x="3995640" y="2060640"/>
            <a:ext cx="289080" cy="576360"/>
          </a:xfrm>
          <a:prstGeom prst="upDownArrow">
            <a:avLst>
              <a:gd name="adj1" fmla="val 50000"/>
              <a:gd name="adj2" fmla="val 49982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Strzałka w górę i w dół 14"/>
          <p:cNvSpPr/>
          <p:nvPr/>
        </p:nvSpPr>
        <p:spPr>
          <a:xfrm>
            <a:off x="3995640" y="3429000"/>
            <a:ext cx="289080" cy="612720"/>
          </a:xfrm>
          <a:prstGeom prst="upDownArrow">
            <a:avLst>
              <a:gd name="adj1" fmla="val 50000"/>
              <a:gd name="adj2" fmla="val 4996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trzałka zakrzywiona w lewo 16"/>
          <p:cNvSpPr/>
          <p:nvPr/>
        </p:nvSpPr>
        <p:spPr>
          <a:xfrm>
            <a:off x="5867280" y="3213000"/>
            <a:ext cx="649440" cy="1152720"/>
          </a:xfrm>
          <a:custGeom>
            <a:avLst/>
            <a:gdLst>
              <a:gd name="textAreaLeft" fmla="*/ 86760 w 649440"/>
              <a:gd name="textAreaRight" fmla="*/ 562680 w 649440"/>
              <a:gd name="textAreaTop" fmla="*/ 227160 h 1152720"/>
              <a:gd name="textAreaBottom" fmla="*/ 844200 h 1152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519" stAng="-5400000" swAng="5400000"/>
                <a:lnTo>
                  <a:pt x="21600" y="11561"/>
                </a:lnTo>
                <a:arcTo wR="21600" hR="8519" stAng="0" swAng="3407224"/>
                <a:lnTo>
                  <a:pt x="5400" y="21330"/>
                </a:lnTo>
                <a:lnTo>
                  <a:pt x="0" y="18558"/>
                </a:lnTo>
                <a:lnTo>
                  <a:pt x="5400" y="15246"/>
                </a:lnTo>
                <a:lnTo>
                  <a:pt x="5400" y="16767"/>
                </a:lnTo>
                <a:arcTo wR="21600" hR="8519" stAng="3407224" swAng="-3161615"/>
                <a:lnTo>
                  <a:pt x="21253" y="10040"/>
                </a:lnTo>
                <a:arcTo wR="21600" hR="8519" stAng="-245610" swAng="-5154390"/>
                <a:close/>
              </a:path>
              <a:path fill="darkenLess" w="21600" h="21600">
                <a:moveTo>
                  <a:pt x="0" y="0"/>
                </a:moveTo>
                <a:arcTo wR="21600" hR="8519" stAng="-5400000" swAng="5400000"/>
                <a:lnTo>
                  <a:pt x="21600" y="11561"/>
                </a:lnTo>
                <a:arcTo wR="21600" hR="8519" stAng="0" swAng="-245610"/>
                <a:lnTo>
                  <a:pt x="21253" y="10040"/>
                </a:lnTo>
                <a:arcTo wR="21600" hR="8519" stAng="-245610" swAng="-5154390"/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Elipsa 12"/>
          <p:cNvSpPr/>
          <p:nvPr/>
        </p:nvSpPr>
        <p:spPr>
          <a:xfrm>
            <a:off x="6659640" y="2060640"/>
            <a:ext cx="2089080" cy="40323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Tahoma"/>
              </a:rPr>
              <a:t>UPOWSZECHNIANIE I WŁĄCZANIE DO GŁÓWNEGO NURT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rostokąt 13"/>
          <p:cNvSpPr/>
          <p:nvPr/>
        </p:nvSpPr>
        <p:spPr>
          <a:xfrm>
            <a:off x="2484360" y="4076640"/>
            <a:ext cx="3311640" cy="79236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Faza: OPRACOWANIE PRODUKTU FINALNEG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trzałka zakrzywiona w lewo 15"/>
          <p:cNvSpPr/>
          <p:nvPr/>
        </p:nvSpPr>
        <p:spPr>
          <a:xfrm>
            <a:off x="5940360" y="4797360"/>
            <a:ext cx="647640" cy="1079640"/>
          </a:xfrm>
          <a:custGeom>
            <a:avLst/>
            <a:gdLst>
              <a:gd name="textAreaLeft" fmla="*/ 86760 w 647640"/>
              <a:gd name="textAreaRight" fmla="*/ 560880 w 647640"/>
              <a:gd name="textAreaTop" fmla="*/ 209160 h 1079640"/>
              <a:gd name="textAreaBottom" fmla="*/ 789480 h 107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70" stAng="-5400000" swAng="5400000"/>
                <a:lnTo>
                  <a:pt x="21600" y="11610"/>
                </a:lnTo>
                <a:arcTo wR="21600" hR="8370" stAng="0" swAng="3379422"/>
                <a:lnTo>
                  <a:pt x="5400" y="21334"/>
                </a:lnTo>
                <a:lnTo>
                  <a:pt x="0" y="18360"/>
                </a:lnTo>
                <a:lnTo>
                  <a:pt x="5400" y="14854"/>
                </a:lnTo>
                <a:lnTo>
                  <a:pt x="5400" y="16474"/>
                </a:lnTo>
                <a:arcTo wR="21600" hR="8370" stAng="3379422" swAng="-3117132"/>
                <a:lnTo>
                  <a:pt x="21192" y="9990"/>
                </a:lnTo>
                <a:arcTo wR="21600" hR="8370" stAng="-262290" swAng="-5137710"/>
                <a:close/>
              </a:path>
              <a:path fill="darkenLess" w="21600" h="21600">
                <a:moveTo>
                  <a:pt x="0" y="0"/>
                </a:moveTo>
                <a:arcTo wR="21600" hR="8370" stAng="-5400000" swAng="5400000"/>
                <a:lnTo>
                  <a:pt x="21600" y="11610"/>
                </a:lnTo>
                <a:arcTo wR="21600" hR="8370" stAng="0" swAng="-262290"/>
                <a:lnTo>
                  <a:pt x="21192" y="9990"/>
                </a:lnTo>
                <a:arcTo wR="21600" hR="8370" stAng="-262290" swAng="-5137710"/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Strzałka w górę i w dół 19"/>
          <p:cNvSpPr/>
          <p:nvPr/>
        </p:nvSpPr>
        <p:spPr>
          <a:xfrm>
            <a:off x="3995640" y="4869000"/>
            <a:ext cx="289080" cy="504720"/>
          </a:xfrm>
          <a:prstGeom prst="upDownArrow">
            <a:avLst>
              <a:gd name="adj1" fmla="val 50000"/>
              <a:gd name="adj2" fmla="val 49961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rostokąt 1"/>
          <p:cNvSpPr/>
          <p:nvPr/>
        </p:nvSpPr>
        <p:spPr>
          <a:xfrm>
            <a:off x="468360" y="1305000"/>
            <a:ext cx="813600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Tahoma"/>
              </a:rPr>
              <a:t>Realizacja projektów we współpracy ponadnarodowe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W konkursach </a:t>
            </a:r>
            <a:r>
              <a:rPr b="1" lang="pl-PL" sz="1600" spc="-1" strike="noStrike">
                <a:solidFill>
                  <a:srgbClr val="ff0000"/>
                </a:solidFill>
                <a:latin typeface="Arial"/>
              </a:rPr>
              <a:t>nr 1/8.1.2/IN/11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oraz</a:t>
            </a:r>
            <a:r>
              <a:rPr b="1" lang="pl-PL" sz="1600" spc="-1" strike="noStrike">
                <a:solidFill>
                  <a:srgbClr val="ff0000"/>
                </a:solidFill>
                <a:latin typeface="Arial"/>
              </a:rPr>
              <a:t> nr 1/9.2/IN/11</a:t>
            </a: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 przewiduje się możliwość realizacji projektów innowacyjnych z komponentem ponadnarodowym zaplanowanym do realizacji na etapie opracowania wniosku o dofinansowanie w rozumieniu </a:t>
            </a:r>
            <a:r>
              <a:rPr b="0" i="1" lang="pl-PL" sz="1600" spc="-1" strike="noStrike">
                <a:solidFill>
                  <a:srgbClr val="000000"/>
                </a:solidFill>
                <a:latin typeface="Tahoma"/>
              </a:rPr>
              <a:t>Wytycznych Ministra Rozwoju Regionalnego w zakresie wdrażania projektów innowacyjnych i współpracy ponadnarodowej w ramach Programu Operacyjnego Kapitał Ludzki</a:t>
            </a: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Nie przewiduje się natomiast realizacji wyodrębnionych projektów współpracy ponadnarodowej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ole tekstowe 1"/>
          <p:cNvSpPr/>
          <p:nvPr/>
        </p:nvSpPr>
        <p:spPr>
          <a:xfrm>
            <a:off x="468360" y="765000"/>
            <a:ext cx="7920000" cy="69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 u="sng">
                <a:solidFill>
                  <a:srgbClr val="ff0000"/>
                </a:solidFill>
                <a:uFillTx/>
                <a:latin typeface="Arial"/>
              </a:rPr>
              <a:t>O czym należy pamiętać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GWA 6.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Dokumentacja konkursowa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ażne dokumenty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Empowermen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Analiza ryzyka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artość dodana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Ekspertyzy i doświadczenia PIW Equal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Zakładka Innowacyjność i ponadnarodowość http://www.wup.pl/index.php?id=8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Konkurs nr 1/8.1.2/IN/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1"/>
          <p:cNvSpPr/>
          <p:nvPr/>
        </p:nvSpPr>
        <p:spPr>
          <a:xfrm>
            <a:off x="428760" y="1928880"/>
            <a:ext cx="8229600" cy="35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br>
              <a:rPr sz="36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an wdrażania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gramu Operacyjnego Kapitał Ludzki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 województwie zachodniopomorskim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Stan na dzień </a:t>
            </a:r>
            <a:r>
              <a:rPr b="0" i="1" lang="pl-PL" sz="1800" spc="-1" strike="noStrike">
                <a:solidFill>
                  <a:srgbClr val="000000"/>
                </a:solidFill>
                <a:latin typeface="Arial"/>
              </a:rPr>
              <a:t>31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i="1" lang="pl-PL" sz="1800" spc="-1" strike="noStrike">
                <a:solidFill>
                  <a:srgbClr val="000000"/>
                </a:solidFill>
                <a:latin typeface="Arial"/>
              </a:rPr>
              <a:t>03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.201</a:t>
            </a:r>
            <a:r>
              <a:rPr b="0" i="1" lang="pl-PL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 r.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500040" y="1071720"/>
            <a:ext cx="8229600" cy="55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0000"/>
                </a:solidFill>
                <a:latin typeface="Arial"/>
              </a:rPr>
              <a:t>Najważniejsze informacje 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Konkurs otwar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Alokacja: </a:t>
            </a: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9 500 000 zł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Termin ogłoszenia konkursu: 31.03.2011 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Nabór wniosków:  od 01.07.2011 r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Posiedzenia Komisji Oceny Projektów zaplanowano kolejno na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 algn="just">
              <a:spcBef>
                <a:spcPts val="349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11 sierpnia 2011 r. termin złożenia projektu warunkujący przekazanie wniosku do oceny merytorycznej na tym posiedzeniu Komisji upływa z dniem </a:t>
            </a:r>
            <a:r>
              <a:rPr b="1" lang="pl-PL" sz="1400" spc="-1" strike="noStrike">
                <a:solidFill>
                  <a:srgbClr val="000000"/>
                </a:solidFill>
                <a:latin typeface="Tahoma"/>
              </a:rPr>
              <a:t>25 lipca 2011 r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 algn="just">
              <a:spcBef>
                <a:spcPts val="349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22 września 2011 r. termin złożenia projektu warunkujący przekazanie wniosku do oceny</a:t>
            </a:r>
            <a:r>
              <a:rPr b="1" lang="pl-PL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merytorycznej na tym posiedzeniu Komisji upływa z dniem </a:t>
            </a:r>
            <a:r>
              <a:rPr b="1" lang="pl-PL" sz="1400" spc="-1" strike="noStrike">
                <a:solidFill>
                  <a:srgbClr val="000000"/>
                </a:solidFill>
                <a:latin typeface="Tahoma"/>
              </a:rPr>
              <a:t>5 września 2011 r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9528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W ramach konkursu przewiduje się możliwość realizacji projektów innowacyjnych testujących, które wpisują się w tematy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 algn="just">
              <a:spcBef>
                <a:spcPts val="400"/>
              </a:spcBef>
              <a:buClr>
                <a:srgbClr val="ff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ff0000"/>
                </a:solidFill>
                <a:latin typeface="Tahoma"/>
              </a:rPr>
              <a:t>Wzmocnienie współpracy przedsiębiorców z sektorem nauki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 algn="just">
              <a:spcBef>
                <a:spcPts val="400"/>
              </a:spcBef>
              <a:buClr>
                <a:srgbClr val="ff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 algn="just">
              <a:spcBef>
                <a:spcPts val="400"/>
              </a:spcBef>
              <a:buClr>
                <a:srgbClr val="ff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ff0000"/>
                </a:solidFill>
                <a:latin typeface="Tahoma"/>
              </a:rPr>
              <a:t>Metody utrzymania aktywności zawodowej pracowników w grupie wiekowej 50+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 algn="just">
              <a:spcBef>
                <a:spcPts val="400"/>
              </a:spcBef>
              <a:buClr>
                <a:srgbClr val="ff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 algn="just">
              <a:spcBef>
                <a:spcPts val="400"/>
              </a:spcBef>
              <a:buClr>
                <a:srgbClr val="ff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ff0000"/>
                </a:solidFill>
                <a:latin typeface="Tahoma"/>
              </a:rPr>
              <a:t>Poszukiwanie metod zwiększenia zaangażowania partnerów społecznych </a:t>
            </a:r>
            <a:br>
              <a:rPr sz="1600"/>
            </a:br>
            <a:r>
              <a:rPr b="1" lang="pl-PL" sz="1600" spc="-1" strike="noStrike">
                <a:solidFill>
                  <a:srgbClr val="ff0000"/>
                </a:solidFill>
                <a:latin typeface="Tahoma"/>
              </a:rPr>
              <a:t>i gospodarczych na rzecz wzmocnienia potencjału adaptacyjnego przedsiębiorstw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468360" y="1052640"/>
            <a:ext cx="792936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Projekty</a:t>
            </a:r>
            <a:r>
              <a:rPr b="1" lang="pl-PL" sz="14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 MOGĄ </a:t>
            </a:r>
            <a:r>
              <a:rPr b="1" lang="pl-PL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być skierowane bezpośrednio do następujących grup docelowych: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87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uczelnie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87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87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jednostki naukowe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87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87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pracownicy naukowi jednostek naukowych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87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87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pracownicy naukowi i naukowo-dydaktyczni uczelni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87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87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doktoranci, absolwenci uczelni (w okresie 12 miesięcy od daty ukończenia studiów) i studenci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87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87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przedsiębiorcy i ich pracownicy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87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87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pracujące osoby dorosłe, które ukończyły 50 lat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87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87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pracodawcy i pracownicy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87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87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rostokąt 3"/>
          <p:cNvSpPr/>
          <p:nvPr/>
        </p:nvSpPr>
        <p:spPr>
          <a:xfrm>
            <a:off x="928800" y="1060560"/>
            <a:ext cx="821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79640" indent="-26676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324000" y="119700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Projekty </a:t>
            </a:r>
            <a:r>
              <a:rPr b="1" lang="pl-PL" sz="14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MOGĄ</a:t>
            </a:r>
            <a:r>
              <a:rPr b="1" lang="pl-PL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być skierowane bezpośrednio do następujących grup docelowych c.d.: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organizacje pracodawców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związki zawodowe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jednostki samorządu terytorialnego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instytucje rynku pracy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społeczność lokalna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organizacje pozarządowe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ff0000"/>
                </a:solidFill>
                <a:latin typeface="Arial"/>
                <a:ea typeface="Arial"/>
              </a:rPr>
              <a:t>Uwaga! 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W projektach innowacyjnych grupy docelowe powinny być tak dobrane, aby wpisywały się 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w cele i zakres Priorytetu VIII PO KL oraz sformułowane zgodnie z obszarem interwencji Europejskiego Funduszu Społecznego. Wybór grupy docelowej ma 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przyczyniać się do realizacji celów Priorytetu VIII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, przy czym adresatami wsparcia mogą być osoby/podmioty wskazane powyżej, jak również 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szersze grupy odbiorców i użytkowników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642600" y="1285560"/>
            <a:ext cx="7929720" cy="509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Ogólne kryteria horyzontalne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Zgodność z właściwymi politykami i zasadami wspólnotowymi (w tym: polityką równych szans i koncepcją zrównoważonego rozwoju) oraz prawodawstwem wspólnotowym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Zgodność z prawodawstwem krajowym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Brak możliwości finansowania projektu w ramach innych typów operacji PO KL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ff0000"/>
                </a:solidFill>
                <a:latin typeface="Tahoma"/>
              </a:rPr>
              <a:t>Uwaga!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Jeśli projekt nie jest zgodny ze standardem minimum, </a:t>
            </a:r>
            <a:r>
              <a:rPr b="1" lang="pl-PL" sz="1400" spc="-1" strike="noStrike">
                <a:solidFill>
                  <a:srgbClr val="000000"/>
                </a:solidFill>
                <a:latin typeface="Tahoma"/>
              </a:rPr>
              <a:t>nie oznacza to automatycznie, że jest niezgodny z pozostałymi politykami i zasadami wspólnotowymi</a:t>
            </a: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. A zatem pytania: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00000"/>
                </a:solidFill>
                <a:latin typeface="Tahoma"/>
              </a:rPr>
              <a:t>Czy projekt jest zgodny z zasadą równości szans kobiet i mężczyzn ? oraz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00000"/>
                </a:solidFill>
                <a:latin typeface="Tahoma"/>
              </a:rPr>
              <a:t>Czy projekt jest zgodny z pozostałymi politykami i zasadami wspólnotowymi (w tym polityką równości szans i koncepcją zrównoważonego rozwoju)? </a:t>
            </a: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zawarte w Karty oceny merytorycznej wniosku o dofinansowanie projektu innowacyjnego PO KL składanego w trybie konkursowym </a:t>
            </a:r>
            <a:r>
              <a:rPr b="1" lang="pl-PL" sz="1400" spc="-1" strike="noStrike">
                <a:solidFill>
                  <a:srgbClr val="ff0000"/>
                </a:solidFill>
                <a:latin typeface="Tahoma"/>
              </a:rPr>
              <a:t>traktowane są rozłącznie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468360" y="1341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Tahoma"/>
                <a:ea typeface="Arial"/>
              </a:rPr>
              <a:t>Szczegółowe kryteria dostępu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Minimalna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wartość projektu wynosi </a:t>
            </a:r>
            <a:r>
              <a:rPr b="1" lang="pl-PL" sz="1600" spc="-1" strike="noStrike">
                <a:solidFill>
                  <a:srgbClr val="ff0000"/>
                </a:solidFill>
                <a:latin typeface="Arial"/>
              </a:rPr>
              <a:t>1 000 000 złotych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Okres realizacji projektu 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nie przekracza </a:t>
            </a:r>
            <a:r>
              <a:rPr b="1" lang="pl-PL" sz="1600" spc="-1" strike="noStrike">
                <a:solidFill>
                  <a:srgbClr val="ff0000"/>
                </a:solidFill>
                <a:latin typeface="Arial"/>
              </a:rPr>
              <a:t>48 miesięcy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Beneficjent pochodzi </a:t>
            </a:r>
            <a:r>
              <a:rPr b="1" lang="pl-PL" sz="1600" spc="-1" strike="noStrike">
                <a:solidFill>
                  <a:srgbClr val="ff0000"/>
                </a:solidFill>
                <a:latin typeface="Arial"/>
              </a:rPr>
              <a:t>z kraju członkowskiego Unii Europejskiej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, natomiast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w okresie realizacji projektu prowadzi biuro projektu (lub posiada siedzibę, filię, delegaturę, oddział czy inną prawnie dozwoloną formę organizacyjną działalności podmiotu) na terenie województwa zachodniopomorskiego z możliwością udostępnienia pełnej dokumentacji wdrażanego projektu oraz zapewniające uczestnikom projektu możliwość osobistego kontaktu z kadrą projektu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Projekt jest skierowany do </a:t>
            </a:r>
            <a:r>
              <a:rPr b="1" lang="pl-PL" sz="1600" spc="-1" strike="noStrike">
                <a:solidFill>
                  <a:srgbClr val="ff0000"/>
                </a:solidFill>
                <a:latin typeface="Arial"/>
              </a:rPr>
              <a:t>grup odbiorców z obszaru województwa zachodniopomorskiego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(w przypadku osób fizycznych uczą się, pracują lub zamieszkują one na obszarze województwa zachodniopomorskiego w rozumieniu przepisów Kodeksu Cywilnego, w przypadku innych podmiotów posiadają one jednostkę organizacyjną na obszarze województwa zachodniopomorskiego)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324000" y="1025280"/>
            <a:ext cx="820872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Szczegółowe </a:t>
            </a:r>
            <a:r>
              <a:rPr b="1" lang="pl-PL" sz="1600" spc="-1" strike="noStrike">
                <a:solidFill>
                  <a:srgbClr val="ff0000"/>
                </a:solidFill>
                <a:latin typeface="Arial"/>
                <a:ea typeface="Arial"/>
              </a:rPr>
              <a:t>kryteria strategiczne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1. Projekt z 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komponentem ponadnarodowym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zaplanowanym do realizacji na 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etapie opracowania wniosku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o dofinansowanie realizacji projektu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2. Wypracowane metody będą uwzględniać instrumenty wspierające utrzymanie 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aktywności zawodowej kobiet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3. Wypracowane metody będą uwzględniać instrumenty wspierające i promujące   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tworzenie partnerstw organizacji pracodawców i związków zawodowych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4. Wypracowanie instrumentów i metod wspierających zawieranie 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partnerstw technologicznych i/lub wypracowanie instrumentów i metod wspierających tworzenie przedsiębiorczości technologicznej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50560" y="1052280"/>
            <a:ext cx="889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Projekty innowacyjne w innych województwach </a:t>
            </a:r>
            <a:br>
              <a:rPr sz="1600"/>
            </a:br>
            <a:br>
              <a:rPr sz="1600"/>
            </a:b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Temat: Metody utrzymania aktywności zawodowej pracowników w grupie wiekowej 50+</a:t>
            </a: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95280" y="1557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ff0000"/>
                </a:solidFill>
                <a:latin typeface="Tahoma"/>
              </a:rPr>
              <a:t>http://www.kiw-pokl.org.pl/pl/baza-beneficjentow-i-produktow/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539640" y="2205000"/>
          <a:ext cx="7834320" cy="3456000"/>
        </p:xfrm>
        <a:graphic>
          <a:graphicData uri="http://schemas.openxmlformats.org/drawingml/2006/table">
            <a:tbl>
              <a:tblPr/>
              <a:tblGrid>
                <a:gridCol w="749520"/>
                <a:gridCol w="3247920"/>
                <a:gridCol w="2478240"/>
                <a:gridCol w="1358640"/>
              </a:tblGrid>
              <a:tr h="6364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Typ projekt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c09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Tytuł projekt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c09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Beneficjen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c09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Miast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c090"/>
                    </a:solidFill>
                  </a:tcPr>
                </a:tc>
              </a:tr>
              <a:tr h="4161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PI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Innowacje 50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Wyższa Szkola Ekonomicz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Bialysto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94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P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Pracuję - rozwijam kompetencje. Innowacyjny model wsparcia pracowników 50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PBS DGA Sp. Z o.o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Sopo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55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PI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Druga szans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Caritas Archidiecezji Gdańskiej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Gdańs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PI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50+doświadczen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Caritas Polsk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Warszaw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PI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Transformacja - projekt dla osób 50+ zatrudnionych w branży reklamowej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STUDIO KOLPORPRESS Sp. z o.o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Kiel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212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PI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Wirtualny System Nauczania 50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Profutura s.c. Monika Nowakowska-Twaróg, Mikołaj Nowakowsk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Pozna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Konkurs nr 1/9.2/IN/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500040" y="1071720"/>
            <a:ext cx="8229600" cy="531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0720" indent="-27072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0720" indent="-27072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0000"/>
                </a:solidFill>
                <a:latin typeface="Arial"/>
              </a:rPr>
              <a:t>Najważniejsze informacje 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720" indent="-27072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0720" indent="-27072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Konkurs otwar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720" indent="-27072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Alokacja: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12 589 810 zł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720" indent="-27072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Termin ogłoszenia konkursu: 31.03.2011 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720" indent="-27072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Nabór wniosków:  od 01.07.2011 r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720" indent="-27072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Posiedzenia Komisji Oceny Projektów zaplanowano kolejno na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720" indent="-2707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0720" indent="-270720"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11 sierpnia 2011 r. - termin złożenia projektu warunkujący przekazanie wniosku do oceny merytorycznej na tym posiedzeniu Komisji upływa z dniem 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22 lipca 2011 r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0720" indent="-270720"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23 września 2011 r. 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termin złożenia projektu warunkujący przekazanie wniosku do oceny merytorycznej na tym posiedzeniu Komisji upływa z dniem 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2 września 2011 r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0720" indent="-2707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720" indent="-27072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0720" indent="-27072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0720" indent="-27072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0720" indent="-2707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0720" indent="-2707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0720" indent="-2707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0720" indent="-27072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ole tekstowe 4"/>
          <p:cNvSpPr/>
          <p:nvPr/>
        </p:nvSpPr>
        <p:spPr>
          <a:xfrm>
            <a:off x="1428840" y="1143000"/>
            <a:ext cx="578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Stopień wykorzystania alokacji 2007-20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ole tekstowe 3"/>
          <p:cNvSpPr/>
          <p:nvPr/>
        </p:nvSpPr>
        <p:spPr>
          <a:xfrm>
            <a:off x="539640" y="6381720"/>
            <a:ext cx="468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Arial"/>
              </a:rPr>
              <a:t>*Stan na dzień 31.03.2011 r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800" spc="-1" strike="noStrike">
                <a:solidFill>
                  <a:srgbClr val="000000"/>
                </a:solidFill>
                <a:latin typeface="Arial"/>
              </a:rPr>
              <a:t>r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Wykres 5" descr=""/>
          <p:cNvPicPr/>
          <p:nvPr/>
        </p:nvPicPr>
        <p:blipFill>
          <a:blip r:embed="rId1"/>
          <a:stretch/>
        </p:blipFill>
        <p:spPr>
          <a:xfrm>
            <a:off x="244440" y="1620720"/>
            <a:ext cx="8582040" cy="476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95280" y="2565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W ramach konkursu przewiduje się możliwość realizacji projektów innowacyjnych testujących, które wpisują się w temat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spcBef>
                <a:spcPts val="400"/>
              </a:spcBef>
              <a:buClr>
                <a:srgbClr val="ff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ff0000"/>
                </a:solidFill>
                <a:latin typeface="Tahoma"/>
              </a:rPr>
              <a:t>Modernizacja oferty kształcenia zawodowego w powiązaniu z potrzebami lokalnego / regionalnego rynku prac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spcBef>
                <a:spcPts val="400"/>
              </a:spcBef>
              <a:buClr>
                <a:srgbClr val="ff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9280" y="691920"/>
            <a:ext cx="792972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Projekty</a:t>
            </a:r>
            <a:r>
              <a:rPr b="1" lang="pl-PL" sz="14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 MOGĄ </a:t>
            </a:r>
            <a:r>
              <a:rPr b="1" lang="pl-PL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być skierowane bezpośrednio do następujących grup docelowych: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uczniów i słuchaczy szkół i placówek oświatowych prowadzących kształcenie zawodowe (z wyłączeniem słuchaczy szkół dla dorosłych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szkół i placówek (instytucje i kadra pedagogiczna) prowadzących kształcenie zawodowe (z wyłączeniem szkół dla dorosłych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szkół policealnych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partnerów społeczno – gospodarczych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pracodawców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349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349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ff0000"/>
                </a:solidFill>
                <a:latin typeface="Tahoma"/>
              </a:rPr>
              <a:t>Uwaga! </a:t>
            </a: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 projektach innowacyjnych grupy docelowe powinny być tak dobrane, aby wpisywały się w cele i zakres Priorytetu IX PO KL oraz sformułowane zgodnie z obszarem interwencji Europejskiego Funduszu Społecznego. Wybór grupy docelowej ma przyczyniać się do realizacji </a:t>
            </a:r>
            <a:r>
              <a:rPr b="1" lang="pl-PL" sz="1400" spc="-1" strike="noStrike">
                <a:solidFill>
                  <a:srgbClr val="000000"/>
                </a:solidFill>
                <a:latin typeface="Tahoma"/>
              </a:rPr>
              <a:t>celów Priorytetu IX</a:t>
            </a: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, przy czym adresatami wsparcia mogą być osoby/podmioty wskazane powyżej, jak również </a:t>
            </a:r>
            <a:r>
              <a:rPr b="1" lang="pl-PL" sz="1400" spc="-1" strike="noStrike">
                <a:solidFill>
                  <a:srgbClr val="000000"/>
                </a:solidFill>
                <a:latin typeface="Tahoma"/>
              </a:rPr>
              <a:t>szersze grupy odbiorców i użytkowników</a:t>
            </a: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rostokąt 3"/>
          <p:cNvSpPr/>
          <p:nvPr/>
        </p:nvSpPr>
        <p:spPr>
          <a:xfrm>
            <a:off x="928800" y="1060560"/>
            <a:ext cx="821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79640" indent="-26676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42600" y="1285920"/>
            <a:ext cx="7929720" cy="51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Ogólne kryteria horyzontalne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Zgodność z właściwymi politykami i zasadami wspólnotowymi (w tym: polityką równych szans i koncepcją zrównoważonego rozwoju) oraz prawodawstwem wspólnotowym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Zgodność z prawodawstwem krajowym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Brak możliwości finansowania projektu w ramach innych typów operacji PO KL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ff0000"/>
                </a:solidFill>
                <a:latin typeface="Tahoma"/>
              </a:rPr>
              <a:t>Uwaga!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Jeśli projekt nie jest zgodny ze standardem minimum, </a:t>
            </a:r>
            <a:r>
              <a:rPr b="1" lang="pl-PL" sz="1400" spc="-1" strike="noStrike">
                <a:solidFill>
                  <a:srgbClr val="000000"/>
                </a:solidFill>
                <a:latin typeface="Tahoma"/>
              </a:rPr>
              <a:t>nie oznacza to automatycznie, że jest niezgodny z pozostałymi politykami i zasadami wspólnotowymi</a:t>
            </a: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. A zatem pytania: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00000"/>
                </a:solidFill>
                <a:latin typeface="Tahoma"/>
              </a:rPr>
              <a:t>Czy projekt jest zgodny z zasadą równości szans kobiet i mężczyzn ? oraz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00000"/>
                </a:solidFill>
                <a:latin typeface="Tahoma"/>
              </a:rPr>
              <a:t>Czy projekt jest zgodny z pozostałymi politykami i zasadami wspólnotowymi (w tym polityką równości szans i koncepcją zrównoważonego rozwoju)? </a:t>
            </a: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zawarte w Karty oceny merytorycznej wniosku o dofinansowanie projektu innowacyjnego PO KL składanego w trybie konkursowym </a:t>
            </a:r>
            <a:r>
              <a:rPr b="1" lang="pl-PL" sz="1400" spc="-1" strike="noStrike">
                <a:solidFill>
                  <a:srgbClr val="ff0000"/>
                </a:solidFill>
                <a:latin typeface="Tahoma"/>
              </a:rPr>
              <a:t>traktowane są rozłącznie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468360" y="119700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Tahoma"/>
                <a:ea typeface="Arial"/>
              </a:rPr>
              <a:t>Szczegółowe kryteria dostępu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Okres realizacji projektu </a:t>
            </a:r>
            <a:r>
              <a:rPr b="1" lang="pl-PL" sz="1600" spc="-1" strike="noStrike">
                <a:solidFill>
                  <a:srgbClr val="ff0000"/>
                </a:solidFill>
                <a:latin typeface="Tahoma"/>
              </a:rPr>
              <a:t>nie przekracza 48 miesięcy</a:t>
            </a: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00"/>
              </a:spcBef>
              <a:buClr>
                <a:srgbClr val="ff0000"/>
              </a:buClr>
              <a:buFont typeface="Tahom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ff0000"/>
                </a:solidFill>
                <a:latin typeface="Tahoma"/>
              </a:rPr>
              <a:t>Grupę docelową </a:t>
            </a: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w projekcie stanowią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Tahom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osoby uczące się, mające miejsce zamieszkania na terenie województwa zachodniopomorskiego w rozumieniu Kodeksu Cywilnego, lub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podmioty działające w obszarze edukacji, realizujące kształcenie zawodowe - zlokalizowane na terenie województwa zachodniopomorskiego, lub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partnerzy społeczno – gospodarczy i pracodawcy mający swoją siedzibę lub filię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na terenie województwa zachodniopomorskiego, lub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podmioty działające w obszarze związanym z badaniem i analizą lokalnego/regionalnego rynku pracy, zlokalizowane na terenie województwa zachodniopomorskiego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68360" y="1412640"/>
            <a:ext cx="8229600" cy="48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spcBef>
                <a:spcPts val="400"/>
              </a:spcBef>
              <a:buClr>
                <a:srgbClr val="000000"/>
              </a:buClr>
              <a:buFont typeface="Tahom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Tahoma"/>
                <a:ea typeface="Arial"/>
              </a:rPr>
              <a:t>Szczegółowe kryteria dostępu c.d.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 algn="just">
              <a:spcBef>
                <a:spcPts val="400"/>
              </a:spcBef>
              <a:buClr>
                <a:srgbClr val="000000"/>
              </a:buClr>
              <a:buFont typeface="Tahom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 algn="just">
              <a:spcBef>
                <a:spcPts val="400"/>
              </a:spcBef>
              <a:buClr>
                <a:srgbClr val="000000"/>
              </a:buClr>
              <a:buFont typeface="Tahom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Beneficjent pochodzi z </a:t>
            </a:r>
            <a:r>
              <a:rPr b="1" lang="pl-PL" sz="1600" spc="-1" strike="noStrike">
                <a:solidFill>
                  <a:srgbClr val="ff0000"/>
                </a:solidFill>
                <a:latin typeface="Tahoma"/>
              </a:rPr>
              <a:t>kraju członkowskiego Unii Europejskiej</a:t>
            </a: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, natomiast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w okresie realizacji projektu prowadzi biuro projektu (lub posiada siedzibę, filię, delegaturę, oddział czy inną prawnie dozwoloną formę organizacyjną działalności podmiotu) na terenie województwa zachodniopomorskiego z możliwością udostępnienia pełnej dokumentacji wdrażanego projektu oraz zapewniające uczestnikom projektu możliwość osobistego kontaktu z kadrą projektu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 algn="just">
              <a:spcBef>
                <a:spcPts val="400"/>
              </a:spcBef>
              <a:buClr>
                <a:srgbClr val="000000"/>
              </a:buClr>
              <a:buFont typeface="Tahom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 algn="just">
              <a:spcBef>
                <a:spcPts val="400"/>
              </a:spcBef>
              <a:buClr>
                <a:srgbClr val="000000"/>
              </a:buClr>
              <a:buFont typeface="Tahom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Projekt zakłada </a:t>
            </a:r>
            <a:r>
              <a:rPr b="1" lang="pl-PL" sz="1600" spc="-1" strike="noStrike">
                <a:solidFill>
                  <a:srgbClr val="ff0000"/>
                </a:solidFill>
                <a:latin typeface="Tahoma"/>
              </a:rPr>
              <a:t>współpracę szkół i placówek prowadzących kształcenie zawodowe z pracodawcami i/ lub instytucjami rynku pracy z terenu województwa zachodniopomorskiego</a:t>
            </a:r>
            <a:r>
              <a:rPr b="0" lang="pl-PL" sz="16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służącą podnoszeniu kwalifikacji zawodowych uczniów jako przyszłych absolwentów i wzmacnianie ich zdolności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do zatrudnienia w zakresie wdrażania programów rozwojowych lub/i w zakresie praktycznych form nauczania np. staże i praktyki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324000" y="1412640"/>
            <a:ext cx="820872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Szczegółowe kryteria strategiczne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1. Realizacja projektu z </a:t>
            </a:r>
            <a:r>
              <a:rPr b="1" lang="pl-PL" sz="1600" spc="-1" strike="noStrike">
                <a:solidFill>
                  <a:srgbClr val="ff0000"/>
                </a:solidFill>
                <a:latin typeface="Tahoma"/>
              </a:rPr>
              <a:t>komponentem ponadnarodowym</a:t>
            </a:r>
            <a:r>
              <a:rPr b="0" lang="pl-PL" sz="16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zaplanowanym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do realizacji na </a:t>
            </a:r>
            <a:r>
              <a:rPr b="1" lang="pl-PL" sz="1600" spc="-1" strike="noStrike">
                <a:solidFill>
                  <a:srgbClr val="ff0000"/>
                </a:solidFill>
                <a:latin typeface="Tahoma"/>
              </a:rPr>
              <a:t>etapie opracowania wniosku </a:t>
            </a: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o dofinansowanie realizacji projektu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2.  Projekt zakłada </a:t>
            </a:r>
            <a:r>
              <a:rPr b="1" lang="pl-PL" sz="1600" spc="-1" strike="noStrike">
                <a:solidFill>
                  <a:srgbClr val="ff0000"/>
                </a:solidFill>
                <a:latin typeface="Tahoma"/>
              </a:rPr>
              <a:t>kształcenie w branżach stanowiących szansę rozwoju województwa</a:t>
            </a: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, tj.: przemysłu drzewno-meblarskiego, logistyczno - spedycyjnych, sektora turystycznego, obsługi portów, spożywczego (w tym przetwórstwa), sektora ICT oraz energetyki odnawialnej branży budowlano – montażowej, przemysłu chemicznego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24000" y="1052280"/>
            <a:ext cx="822960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Projekty innowacyjne w innych województwach </a:t>
            </a:r>
            <a:br>
              <a:rPr sz="1600"/>
            </a:br>
            <a:br>
              <a:rPr sz="1600"/>
            </a:b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Temat: Modernizacja oferty kształcenia zawodowego w powiązaniu z potrzebami lokalnego / regionalnego rynku pracy</a:t>
            </a: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</a:t>
            </a:r>
            <a:br>
              <a:rPr sz="1200"/>
            </a:br>
            <a:r>
              <a:rPr b="1" lang="pl-PL" sz="1600" spc="-1" strike="noStrike">
                <a:solidFill>
                  <a:srgbClr val="ff0000"/>
                </a:solidFill>
                <a:latin typeface="Arial"/>
              </a:rPr>
              <a:t>  http://www.kiw-pokl.org.pl/pl/baza-beneficjentow-i-produktow/ </a:t>
            </a:r>
            <a:br>
              <a:rPr sz="1600"/>
            </a:b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468360" y="2349360"/>
          <a:ext cx="8137440" cy="3272040"/>
        </p:xfrm>
        <a:graphic>
          <a:graphicData uri="http://schemas.openxmlformats.org/drawingml/2006/table">
            <a:tbl>
              <a:tblPr/>
              <a:tblGrid>
                <a:gridCol w="652320"/>
                <a:gridCol w="3998880"/>
                <a:gridCol w="2416320"/>
                <a:gridCol w="1069920"/>
              </a:tblGrid>
              <a:tr h="457200">
                <a:tc>
                  <a:txBody>
                    <a:bodyPr lIns="6840" rIns="6840" tIns="68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Typ projekt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c090"/>
                    </a:solidFill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Tytuł projekt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c090"/>
                    </a:solidFill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Beneficjen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c090"/>
                    </a:solidFill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Miast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c090"/>
                    </a:solidFill>
                  </a:tcPr>
                </a:tc>
              </a:tr>
              <a:tr h="551160"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PI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Innowacyjny program przygotowania do wykonywania pracy zawodowej dla młodzieży z niepełnosprawności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EUROPERSPEKTYWA, Beata Romejk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Lubl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47640"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PI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INNOWACJE EDUKACYJNE - program testowania i wdrażania nowych metod modernizacji ofert kształcenia zawodowego w woj. Podlaski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Forum Inicjatyw Rozwojowyc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Białysto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96880">
                <a:tc>
                  <a:txBody>
                    <a:bodyPr lIns="6840" rIns="6840" tIns="68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PI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Modernizacja oferty kształcenia zawodowego w powiązaniu z potrzebami lokalnego / regionalnego rynku prac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Województwo Podkarpackie/UM Woj. Podkarpackieg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Rzeszów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6840" rIns="6840" tIns="68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P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Faber - Rzemiosło motorem tworzenia zawodów kreatywnyc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Miasto Stołeczne Warszaw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Warszaw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8600">
                <a:tc>
                  <a:txBody>
                    <a:bodyPr lIns="6840" rIns="6840" tIns="68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PI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Wielkopolski system monitorowania i prognozowan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Politechnika Poznańsk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Pozna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24000" y="105228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ahoma"/>
              </a:rPr>
              <a:t>Indywidualne konsultacje projektów innowacyjnych </a:t>
            </a:r>
            <a:br>
              <a:rPr sz="2000"/>
            </a:br>
            <a:r>
              <a:rPr b="1" lang="pl-PL" sz="2000" spc="-1" strike="noStrike">
                <a:solidFill>
                  <a:srgbClr val="000000"/>
                </a:solidFill>
                <a:latin typeface="Tahoma"/>
              </a:rPr>
              <a:t>z pracownikami WUP w Szczecinie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68000" y="1844640"/>
            <a:ext cx="359892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2000"/>
          </a:bodyPr>
          <a:p>
            <a:pPr marL="211320" indent="-21132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Spotkania odbywać się będą w Punkcie Konsultacyjnym EFS w Szczecinie, 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 </a:t>
            </a:r>
            <a:r>
              <a:rPr b="1" lang="pl-PL" sz="1400" spc="-1" strike="noStrike">
                <a:solidFill>
                  <a:srgbClr val="000000"/>
                </a:solidFill>
                <a:latin typeface="Tahoma"/>
              </a:rPr>
              <a:t>pierwsze wtorki każdego miesiąca </a:t>
            </a: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(w okresie trwania naboru wniosków 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o dofinansowanie).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11320" indent="-21132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Uczestnikami konsultacji ze strony Instytucji Pośredniczącej będą </a:t>
            </a:r>
            <a:r>
              <a:rPr b="1" lang="pl-PL" sz="1400" spc="-1" strike="noStrike">
                <a:solidFill>
                  <a:srgbClr val="000000"/>
                </a:solidFill>
                <a:latin typeface="Tahoma"/>
              </a:rPr>
              <a:t>pracownicy Punktu Konsultacyjnego EFS </a:t>
            </a: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w Szczecinie oraz pracownicy </a:t>
            </a:r>
            <a:r>
              <a:rPr b="1" lang="pl-PL" sz="1400" spc="-1" strike="noStrike">
                <a:solidFill>
                  <a:srgbClr val="000000"/>
                </a:solidFill>
                <a:latin typeface="Tahoma"/>
              </a:rPr>
              <a:t>właściwych Wydziałów</a:t>
            </a: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. W spotkaniu ze strony beneficjenta mogą brać udział maksymalnie trzy osoby.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11320" indent="-21132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Z uwagi na duże zainteresowanie konsultacjami indywidualnymi w roku poprzednim, przygotowaliśmy krótki </a:t>
            </a:r>
            <a:r>
              <a:rPr b="1" lang="pl-PL" sz="1400" spc="-1" strike="noStrike">
                <a:solidFill>
                  <a:srgbClr val="000000"/>
                </a:solidFill>
                <a:latin typeface="Tahoma"/>
              </a:rPr>
              <a:t>formularz</a:t>
            </a: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, który ułatwi proces zgłoszenia na spotkania.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11320" indent="-21132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11320" indent="-21132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Formularz dostępny będzie na stronie www.wup.pl w Aktualnościach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11320" indent="-2113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1320" indent="-211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1320" indent="-211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1320" indent="-211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1320" indent="-211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1320" indent="-211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1320" indent="-211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Formularz dostępny będzie na stornie www.wup.pl w Aktualnościa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0" name="Picture 4" descr=""/>
          <p:cNvPicPr/>
          <p:nvPr/>
        </p:nvPicPr>
        <p:blipFill>
          <a:blip r:embed="rId1"/>
          <a:stretch/>
        </p:blipFill>
        <p:spPr>
          <a:xfrm>
            <a:off x="4067280" y="1844640"/>
            <a:ext cx="4687920" cy="42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1"/>
          <p:cNvSpPr/>
          <p:nvPr/>
        </p:nvSpPr>
        <p:spPr>
          <a:xfrm>
            <a:off x="1285920" y="5857920"/>
            <a:ext cx="6697440" cy="642960"/>
          </a:xfrm>
          <a:prstGeom prst="rect">
            <a:avLst/>
          </a:prstGeom>
          <a:noFill/>
          <a:ln w="9360">
            <a:solidFill>
              <a:srgbClr val="c3cb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69920" indent="-169920" algn="ctr">
              <a:tabLst>
                <a:tab algn="l" pos="0"/>
                <a:tab algn="l" pos="169920"/>
                <a:tab algn="l" pos="895320"/>
                <a:tab algn="l" pos="1809720"/>
                <a:tab algn="l" pos="2724120"/>
                <a:tab algn="l" pos="3638520"/>
                <a:tab algn="l" pos="4552920"/>
                <a:tab algn="l" pos="5467320"/>
                <a:tab algn="l" pos="6381720"/>
                <a:tab algn="l" pos="7296120"/>
                <a:tab algn="l" pos="8210520"/>
                <a:tab algn="l" pos="9124920"/>
                <a:tab algn="l" pos="1003932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unkt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Konsultacyjny EFS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działa w godzinach: 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9.00 – 15.00 od poniedziałku do piątku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2"/>
          <p:cNvSpPr/>
          <p:nvPr/>
        </p:nvSpPr>
        <p:spPr>
          <a:xfrm>
            <a:off x="1042920" y="981000"/>
            <a:ext cx="7021440" cy="464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33360" indent="-333360" algn="ctr"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 algn="ctr"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 algn="ctr"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 algn="ctr"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 algn="ctr"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 algn="ctr"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10058400"/>
              </a:tabLst>
            </a:pPr>
            <a:r>
              <a:rPr b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Dodatkowych informacji udziela</a:t>
            </a:r>
            <a:r>
              <a:rPr b="1" lang="pl-PL" sz="1800" spc="-1" strike="noStrike" u="sng">
                <a:solidFill>
                  <a:srgbClr val="000000"/>
                </a:solidFill>
                <a:uFillTx/>
                <a:latin typeface="Arial"/>
              </a:rPr>
              <a:t>ją</a:t>
            </a:r>
            <a:r>
              <a:rPr b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 algn="ctr"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 algn="ctr"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Punkt Konsultacyjny E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 algn="ctr"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Wojewódzki Urz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ą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d Pracy w Szczecinie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ul.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A.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Mickiewicza 4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 algn="ctr"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el. 91 42 56 163/164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/2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 algn="ctr"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e-mail: </a:t>
            </a:r>
            <a:r>
              <a:rPr b="1" i="1" lang="en-GB" sz="1600" spc="-1" strike="noStrike">
                <a:solidFill>
                  <a:srgbClr val="000000"/>
                </a:solidFill>
                <a:latin typeface="Arial"/>
              </a:rPr>
              <a:t>pokl@wup.p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 algn="ctr"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 algn="ctr"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10058400"/>
              </a:tabLst>
            </a:pPr>
            <a:r>
              <a:rPr b="1" lang="pl-PL" sz="1400" spc="-1" strike="noStrike">
                <a:solidFill>
                  <a:srgbClr val="301800"/>
                </a:solidFill>
                <a:latin typeface="Arial"/>
              </a:rPr>
              <a:t>www.pokl.wup.p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 algn="ctr"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Zakładka Innowacyjność i ponadnarodowoś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 algn="ctr"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 algn="ctr"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az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 algn="ctr"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Punkt Konsultacyjny EFS 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 algn="ctr"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Wojewódzki Urząd Pracy - f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ili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a Koszalin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ul. Słowiańska 15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 algn="ctr"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el. 94 344 50 25/26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 algn="ctr"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e-mail: </a:t>
            </a:r>
            <a:r>
              <a:rPr b="1" i="1" lang="en-GB" sz="1600" spc="-1" strike="noStrike">
                <a:solidFill>
                  <a:srgbClr val="000000"/>
                </a:solidFill>
                <a:latin typeface="Arial"/>
              </a:rPr>
              <a:t>poklkoszalin@wup.p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 algn="ctr"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 algn="ctr"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10058400"/>
              </a:tabLst>
            </a:pPr>
            <a:r>
              <a:rPr b="1" lang="pl-PL" sz="1400" spc="-1" strike="noStrike" u="sng">
                <a:solidFill>
                  <a:srgbClr val="000000"/>
                </a:solidFill>
                <a:uFillTx/>
                <a:latin typeface="Arial"/>
              </a:rPr>
              <a:t>www.pokl.wup.p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 algn="ctr"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 algn="ctr"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 algn="ctr"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 algn="ctr"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 algn="ctr"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 algn="ctr"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ole tekstowe 3"/>
          <p:cNvSpPr/>
          <p:nvPr/>
        </p:nvSpPr>
        <p:spPr>
          <a:xfrm>
            <a:off x="3143160" y="5500800"/>
            <a:ext cx="292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3c8c93"/>
                </a:solidFill>
                <a:latin typeface="Arial"/>
              </a:rPr>
              <a:t>SKYPE: WUP_SZCZEC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rostokąt 1"/>
          <p:cNvSpPr/>
          <p:nvPr/>
        </p:nvSpPr>
        <p:spPr>
          <a:xfrm>
            <a:off x="500040" y="1071720"/>
            <a:ext cx="7786800" cy="76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Instytucje, które pomogą Państwu przygotować projek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ff0000"/>
                </a:solidFill>
                <a:latin typeface="Arial"/>
              </a:rPr>
              <a:t>Regionalny Ośrodek EFS w Szczecini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600" spc="-1" strike="noStrike">
                <a:solidFill>
                  <a:srgbClr val="000000"/>
                </a:solidFill>
                <a:latin typeface="Arial"/>
              </a:rPr>
              <a:t>Zachodniopomorska Agencja Rozwoju Regionalnego S.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ul. Św. Ducha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70-223 Szczec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tel. 91 432 93 1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e-mail: info_szczecin@roefs.p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301800"/>
                </a:solidFill>
                <a:latin typeface="Arial"/>
              </a:rPr>
              <a:t>www.szczecin.roefs.p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oraz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ff0000"/>
                </a:solidFill>
                <a:latin typeface="Arial"/>
              </a:rPr>
              <a:t>Regionalny Ośrodek EFS w Koszalini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600" spc="-1" strike="noStrike">
                <a:solidFill>
                  <a:srgbClr val="000000"/>
                </a:solidFill>
                <a:latin typeface="Arial"/>
              </a:rPr>
              <a:t>Koszalińska Agencja Rozwoju Regionalnego S.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ul. Przemysłowa 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75-216 Koszal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tel. 94 343 26 3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e-mail: info_koszalin@roefs.p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301800"/>
                </a:solidFill>
                <a:latin typeface="Arial"/>
              </a:rPr>
              <a:t>www.koszalin.roefs.p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112500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Konkursy ogłoszone w ramach projektów innowacyjnych w </a:t>
            </a:r>
            <a:r>
              <a:rPr b="1" lang="pl-PL" sz="2000" spc="-1" strike="noStrike">
                <a:solidFill>
                  <a:srgbClr val="ff0000"/>
                </a:solidFill>
                <a:latin typeface="Arial"/>
              </a:rPr>
              <a:t>2009 rok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68360" y="1699920"/>
            <a:ext cx="8229600" cy="51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W okresie od </a:t>
            </a:r>
            <a:r>
              <a:rPr b="1" lang="pl-PL" sz="1600" spc="-1" strike="noStrike">
                <a:solidFill>
                  <a:srgbClr val="000000"/>
                </a:solidFill>
                <a:latin typeface="Tahoma"/>
              </a:rPr>
              <a:t>13 października do 30 grudnia 2009 </a:t>
            </a: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r. Wojewódzki Urząd Pracy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w Szczecinie prowadził nabór wniosków o dofinansowanie projektów innowacyjnych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z komponentem ponadnarodowym w tematach: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Tahoma"/>
              </a:rPr>
              <a:t>Priorytet VI: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„</a:t>
            </a: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Działania służące wydłużeniu aktywności zawodowej”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Tahoma"/>
              </a:rPr>
              <a:t>Priorytet IX: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„</a:t>
            </a: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Modernizacja oferty kształcenia zawodowego w powiązaniu z potrzebami lokalnego/regionalnego rynku pracy”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rostokąt zaokrąglony 3"/>
          <p:cNvSpPr/>
          <p:nvPr/>
        </p:nvSpPr>
        <p:spPr>
          <a:xfrm>
            <a:off x="468360" y="5084640"/>
            <a:ext cx="8424720" cy="1008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Łącznie złożono </a:t>
            </a:r>
            <a:r>
              <a:rPr b="1" lang="pl-PL" sz="1400" spc="-1" strike="noStrike">
                <a:solidFill>
                  <a:srgbClr val="ff0000"/>
                </a:solidFill>
                <a:latin typeface="Tahoma"/>
              </a:rPr>
              <a:t>6 wniosków o dofinansowanie</a:t>
            </a: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. Żaden wniosek </a:t>
            </a:r>
            <a:r>
              <a:rPr b="1" lang="pl-PL" sz="1400" spc="-1" strike="noStrike">
                <a:solidFill>
                  <a:srgbClr val="000000"/>
                </a:solidFill>
                <a:latin typeface="Tahoma"/>
              </a:rPr>
              <a:t>nie został rekomendowany do dofinansowania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ole tekstowe 4"/>
          <p:cNvSpPr/>
          <p:nvPr/>
        </p:nvSpPr>
        <p:spPr>
          <a:xfrm>
            <a:off x="214200" y="5857920"/>
            <a:ext cx="8715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Spotkanie współfinansowane ze środków Unii Europejskiej – Europejskiego Funduszu Społecznego            w ramach Pomocy Technicznej Programu Operacyjnego Kapitał Ludzk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ole tekstowe 5"/>
          <p:cNvSpPr/>
          <p:nvPr/>
        </p:nvSpPr>
        <p:spPr>
          <a:xfrm>
            <a:off x="2143080" y="2714760"/>
            <a:ext cx="47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Dziękujemy za uwagę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Konkursy ogłoszone w ramach projektów innowacyjnych w </a:t>
            </a:r>
            <a:r>
              <a:rPr b="1" lang="pl-PL" sz="2000" spc="-1" strike="noStrike">
                <a:solidFill>
                  <a:srgbClr val="ff0000"/>
                </a:solidFill>
                <a:latin typeface="Arial"/>
              </a:rPr>
              <a:t>2010 rok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324000" y="1557360"/>
            <a:ext cx="853272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Tahoma"/>
              </a:rPr>
              <a:t>Priorytet VII: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Poszukiwanie metod wczesnej interwencji socjalnej i przeciwdziałania wykluczeniu społecznemu dzieci i młodzieży”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Zwiększenie oferty istniejących, wykreowanie nowych instytucji działających na rzecz integracji społecznej grup marginalizowanych, wykluczonych bądź zagrożonych wykluczeniem społecznym”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Tahoma"/>
              </a:rPr>
              <a:t>Priorytet VIII: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Tworzenie i wdrażanie systemowych rozwiązań podwyższających innowacyjność 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i adaptacyjność pracowników i przedsiębiorstw na poziomie regionalnym”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sparcie świadczenia w jednym miejscu kompleksowych usług - informacyjnych, doradczych 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i finansowych - dla przedsiębiorców i osób zamierzających rozpocząć prowadzenie działalności gospodarczej”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Analiza, testowanie i wdrażanie idei flexicurity”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rostokąt zaokrąglony 3"/>
          <p:cNvSpPr/>
          <p:nvPr/>
        </p:nvSpPr>
        <p:spPr>
          <a:xfrm>
            <a:off x="324000" y="5445000"/>
            <a:ext cx="8424720" cy="1008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Trzy wnioski spośród </a:t>
            </a:r>
            <a:r>
              <a:rPr b="1" lang="pl-PL" sz="1400" spc="-1" strike="noStrike">
                <a:solidFill>
                  <a:srgbClr val="ff0000"/>
                </a:solidFill>
                <a:latin typeface="Arial"/>
              </a:rPr>
              <a:t>22 złożonych 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 odpowiedzi na konkursy innowacyjne w ramach Priorytetu VII 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i VIII zostały odrzucone na etapie oceny formalnej. Pięć wniosków zostało skierowanych do korekty bądź uzupełnienia. Z </a:t>
            </a:r>
            <a:r>
              <a:rPr b="1" lang="pl-PL" sz="1400" spc="-1" strike="noStrike">
                <a:solidFill>
                  <a:srgbClr val="ff0000"/>
                </a:solidFill>
                <a:latin typeface="Arial"/>
              </a:rPr>
              <a:t>9 beneficjentami 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została podpisana umowa o dofinansowanie (w tym 1 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z Priorytetu VIII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46836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ahoma"/>
              </a:rPr>
              <a:t>Czym jest projekt innowacyjny testujący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Projekty innowacyjne poszukują </a:t>
            </a:r>
            <a:r>
              <a:rPr b="1" lang="pl-PL" sz="1600" spc="-1" strike="noStrike">
                <a:solidFill>
                  <a:srgbClr val="ff0000"/>
                </a:solidFill>
                <a:latin typeface="Tahoma"/>
              </a:rPr>
              <a:t>NOWYCH SPOSOBÓW</a:t>
            </a:r>
            <a:r>
              <a:rPr b="0" lang="pl-PL" sz="16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pl-PL" sz="1600" spc="-1" strike="noStrike">
                <a:solidFill>
                  <a:srgbClr val="ff0000"/>
                </a:solidFill>
                <a:latin typeface="Tahoma"/>
              </a:rPr>
              <a:t>ROZWIĄZYWANIA</a:t>
            </a: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 problemów. Projekty standardowe nastawione są na rozwiązywanie problemów przy pomocy znanych, sprawdzonych sposobów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341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ff0000"/>
                </a:solidFill>
                <a:latin typeface="Tahoma"/>
              </a:rPr>
              <a:t>Przykład projektu standardowego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zorganizowanie tradycyjnego kursu szkoleniowego dla grupy pracowników 50+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w zakresie zastosowania technologii IT w oparciu o zdiagnozowany deficyt wiedzy </a:t>
            </a:r>
            <a:br>
              <a:rPr sz="1600"/>
            </a:b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u pracowników tej grupy, co w konsekwencji zwiększy ich szanse na rynku pracy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odbiorcy działań: grupa 50 +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ff0000"/>
                </a:solidFill>
                <a:latin typeface="Tahoma"/>
              </a:rPr>
              <a:t>Przykład projektu innowacyjnego testującego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wypracowanie nowego podejścia do nauczania grupy 50+ w zakresie stosowania IT nowego programu, nowej metodyki nauczania ze względu na specyfikę tej grupy; grupa docelowa użytkowników: trenerzy, instytucje szkoleniowe;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grupa docelowa odbiorców: grupa 50+ (wymiar docelowy, wymiar testowania, wymiar upowszechniania i włączania);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upowszechnianie i włączanie 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6836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ahoma"/>
              </a:rPr>
              <a:t>Co stanowi o innowacyjności projektu w ramach PO KL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c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produkt finaln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grupa docelowa, problem, forma wsparcia (wymiary innowacyjności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etapowość realizacji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39528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Tahoma"/>
              </a:rPr>
              <a:t>C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ahoma"/>
              </a:rPr>
              <a:t>Celem projektu innowacyjnego testującego jest poszukiwanie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0000"/>
                </a:solidFill>
                <a:latin typeface="Tahoma"/>
              </a:rPr>
              <a:t>nowych, lepszych, efektywniejszych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0000"/>
                </a:solidFill>
                <a:latin typeface="Tahoma"/>
              </a:rPr>
              <a:t>sposobów rozwiązywan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ahoma"/>
              </a:rPr>
              <a:t>problemów mieszczących się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ahoma"/>
              </a:rPr>
              <a:t>w obszarach wsparcia EF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02T08:01:27Z</dcterms:created>
  <dc:creator>leszek.teszka</dc:creator>
  <dc:description/>
  <dc:language>en-US</dc:language>
  <cp:lastModifiedBy>alina.szydlowska</cp:lastModifiedBy>
  <dcterms:modified xsi:type="dcterms:W3CDTF">2011-04-19T06:54:39Z</dcterms:modified>
  <cp:revision>855</cp:revision>
  <dc:subject/>
  <dc:title>Slajd 1</dc:title>
</cp:coreProperties>
</file>