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E249-CBF5-4E5C-8369-88445DAFC6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0F02-E72D-4086-9A68-29B25BBBD1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015C-9A0C-465F-B373-80464C570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413000"/>
            <a:ext cx="78483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e konkurs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8.1.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2/8.1.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8.1.3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25 sierpni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 c.d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alności podmiotu)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dostępnienia pełnej dokumentacji wdrażanego projektu oraz zapewniające uczestnikom projektu możliwość osob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ego kontakt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9288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 zakresu programu outplacementu w ramach, którego zapewnione zostanie kompleksowe wsparcie, wykorzystujące wszystkie wskazane w SzOP PO KL instrumenty wsparcia towarzyszącego (w skład którego wchodzą: pomoc w zmianie miejsca pracy, np. dodatek relokacyjny, pomoc w znalezieniu nowej pracy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p. dodatek motywacyjny, wsparcie dla osób zamierzających rozpocząć działalność gospodarczą, staże i praktyki zawodowe przygotowujące do podjęcia pracy w nowym zawodzie, subsydiowanie zatrudnienia uczestnika u nowego pracodawcy) wprowadzonych w ramach Pakietu antykryzysowego PO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00040" y="9288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przypadku przyznawania środków finansowych na rozwój przedsiębiorczości wnioskodawca przyzna pierwszeństwo dla działalności gospodarczych zakładanych w następujących branżach: przemysł drzewno-meblarski, logistyczno-spedycyjny, turystyka, sektor ICT, energia odnawialna i ochrona środowiska, nowoczesne usługi zdrowotne, w tym usługi opiekuńcze nad osobami starszymi oraz bazuj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wykorzystaniu ogólnodostępnych zasobów naturaln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eneficjentem projektu jest konkretne restrukturyzowane przedsiębiorstwo lub projekt przygotowany jest pod potrzeby konkretnych przedsiębiorst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600" spc="-1" strike="noStrike" u="sng">
                <a:solidFill>
                  <a:srgbClr val="ff0000"/>
                </a:solidFill>
                <a:uFillTx/>
                <a:latin typeface="Arial"/>
              </a:rPr>
              <a:t>Reguła proporcjonalnoś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18774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guła proporcjonalności dotyczy rozliczenia projektu pod względem finansowym w zależ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 stopnia osiągnięcia założeń merytorycznych określonych we wniosku o dofinansowanie projektu. W związku z powyższy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niespełnienia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kryterium dostępu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amach projektu – podmiot będący stroną umowy uznaje wszystkie wydatki dotychczas rozliczone w ramach projekt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 niekwalifikowal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niespełnienia kryterium strategicznego w ramach projektu lub nieosiągnięcia celu projektu – wysokość wydatków w dotychczas zatwierdzonych wnioskach o płatność może zostać proporcjonalnie zmniejszona, co jednocześnie oznacza odpowiednie obniżenie kwoty dofinansowania określonej w umowie o dofinansowanie projektu; wysokość zmniejszenia dofinansowania odpowiada procentowi, w jakim dane kryterium lub cel nie zostały zrealizow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2/8.1.2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125000"/>
            <a:ext cx="83516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4 000 000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5280" y="1511640"/>
            <a:ext cx="828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. Pomoc w tworzeniu partnerstw lokalnych z udziałem m.in. przedsiębiorstw, organizacji pracodawców, związków zawodowych, jednostek samorządu terytorialnego, urzędów pracy i innych środowisk, mających na celu opracowanie i wdrażanie strategii przewidywania i zarządzania zmianą gospodarczą na poziomie lokalnym i wojewódzk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. Podnoszenie świadomości pracowników i kadr zarządzających modernizowanych firm w zakresie możliwości i potrzeby realizacji projektów wspierających procesy zmian poprzez szkolenia i doradztw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 Szkolenia przekwalifikowujące i usługi doradcze w zakresie wyboru nowego zawod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zdobycia nowych umiejętności zawodowych (w tym indywidualne plany działań i pom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wyborze odpowiedniego zawodu i miejsca zatrudnien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. Szkolenia i doradztwo dla przedsiębiorców wspomagające proces zmiany profilu działalności przedsiębiorstw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y i pracownicy pracodawców przechodzących procesy adaptacyj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 modernizacyjn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zedsiębior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artnerzy społeczni (organizacje pracodawców i związki zawodow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soby odchodzące z rolnictwa lub rybołówstwa (rybactw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amorządy gospodarcze i zawod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jednostki samorządu terytorial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ytucje rynku pra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połeczność lokaln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ozarządow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Minimalna wartość projektu wynosi 200 tysięcy złotych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3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oprócz zawiązania współpracy przewiduje zagwarantowanie możliwości stałej wymiany informacji pomiędzy podmiotami zaangażowanymi w realizację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.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kres doradztwa udzielanego w projekcie nie pokrywa się z zakresem doradztwa, na które przedsiębiorstwo otrzymało już wsparcie w ramach Poddziałania 1.3.1 RPO WZ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sparcie w projekcie odpowiada na potrzeby przedsiębiorstw wskazan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e wniosku o dofinansowanie realizacji projektu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3,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alności podmiotu)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dostępnienia pełnej dokumentacji wdrażanego projektu oraz zapewniające uczestnikom projektu możliwość osob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ego kontakt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31.08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836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Projekt obejmuje wsparciem w 100% osoby z obszarów gmin o najtrudniejszej sytuacji ekonomicznej (wg załącznika nr 6 do RPO), w szczególności mieszkańców obszarów wiejskich. Jednocześnie projekt zapewnia szkolenia przyczyniające się do uzyskania uprawnień zawodowych, licencji zawodowych, kwalifikacji potwierdzonych formalnym dokumentem lub certyfikatów nabytych na podstawie egzaminów przeprowadzanych przez akredytowane instytucje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dot. 3 typu projektów) lub projekt obejmuje wsparciem w 100% podmiot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funkcjonując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obszarach wiejskich oraz z obszarów gmin o najtrudniejszej sytuacji ekonomicznej - wg załącznika nr 6 do RPO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dotyczy 1 typu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1,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zczegółowy podział został zawarty powyżej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 Projekt zapewnia, w całości lub dodatkowo, wsparcie związane z wprowadzeniem innowacji technicznych oraz organizacyjnych w przedsiębiorstw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10920" y="928800"/>
            <a:ext cx="79930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 całości lub dodatkowo wsparcie związane z procesami certyfikacji przedsiębiorstw w zakresie standardów i norm jakościowych, czyli procesowi poświadczania przez jednostkę certyfikującą, iż funkcjonujący system zarządzania jakością jest zgodn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wymaganiami stosowania norm i skutecznie wdrażan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drożenie/rozszerzenie modelu „e-barometr” lub innego modelu wykorzystywanego w ramach zwalidowanego rezultatu PIW EQUAL, służącego zwiększeniu adaptacyjności przedsiębiorstw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ykorzystanie rezultatów z PIW EQUAL wypracowanych w obszarze zwiększenia zdolności dostosowawczych pracowników w wieku 50+ na rynku pra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1/8.1.3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000" y="1125000"/>
            <a:ext cx="83516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1 439 681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9640" y="1754640"/>
            <a:ext cx="799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icjatywy podejmowane na poziomie lokalnym i regionalnym przez związki pracodawców i związki zawodowe, mające na celu zwiększanie zdolności adaptacyjnych pracowników i przedsiębiorców, w szczególności w zakre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rganizacji pra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form świadczenia pra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promocji podnoszenia kwalifikacji zawodow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godzenia życia zawodowego i prywat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mowanie społecznej odpowiedzialności przedsiębiorstw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dniesieniu do lokalnego rynku pracy, warunków pracy pracownik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środowiska natural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powszechnianie na poziomie lokalnym i regionalnym idei flexicu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y i pracowni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racodawców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wiązki zawod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jednostki samorządu terytorial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ytucje rynku 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połeczność lokaln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ozarządow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realizowany w partnerstwie organizacji pracodawców i związków zawodowych w celu wypracowania wspólnych rozwiązań i zawiązania przyszłej współprac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 operacji nr 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/typów operacji nr 1, 2, 3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alności podmiotu)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udostępnienia pełnej dokumentacji wdrażanego projektu oraz zapewniające uczestnikom projektu możliwość osobistego kontakt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/typów operacji nr 1, 2, 3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360" y="1196640"/>
            <a:ext cx="81360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udzielnie wsparcia w kierunku upowszechnienia i wdrożenia instrumentów pozwalających na zastosowanie elastycznych form zatrudnienia oraz ułatwienia godzenia życia zawodowego z prywatn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: 20 pun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/typów operacji nr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promowanie wśród przedsiębiorców nowoczesnych strategii zarządz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zakresie zasobów ludzkich, w tym obowiązkowo zarządzania różnorodności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przedsiębiorstwach, w szczególności w kontekście płci pracowników oraz upowszechnianie wiedzy w zakresie zmniejszania obszarów dyskryminacji pracowników ze względu na płeć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: 20 pun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/typów operacji nr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2600" y="1285920"/>
            <a:ext cx="7929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warte w Karty oceny merytorycznej wniosku o dofinansowanie projektu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traktowane </a:t>
            </a:r>
            <a:br>
              <a:rPr sz="1400"/>
            </a:b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03280" y="105264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8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4" descr=""/>
          <p:cNvPicPr/>
          <p:nvPr/>
        </p:nvPicPr>
        <p:blipFill>
          <a:blip r:embed="rId1"/>
          <a:stretch/>
        </p:blipFill>
        <p:spPr>
          <a:xfrm>
            <a:off x="317520" y="1407960"/>
            <a:ext cx="85089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1/8.1.2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125000"/>
            <a:ext cx="8424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4 000 000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 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95280" y="1419480"/>
            <a:ext cx="8280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parcie dla osób zwolnionych, przewidzianych do zwolnienia lub zagrożonych zwolnieniem z pracy z przyczyn dotyczących zakładu pracy, zatrudni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 pracodawców przechodzących procesy adaptacyjne i modernizacyjne, realizow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formie tworzenia i wdrażania programów zwolnień monitorowanych (outplacement), obejmujących łączn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szkolenia i poradnictwo zawodowe or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poradnictwo psychologiczn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także wybrane działania spośród następujący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i praktyki zawodowe przygotowujące do podjęcia pracy w nowym zawodz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ubsydiowanie zatrudnienia uczestnika projektu u nowego pracodaw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95280" y="1568520"/>
            <a:ext cx="8280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parcie dla osób zamierzających rozpocząć działalność gospodarczą poprzez zastosowanie co najmniej jednego z następujących instrument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radztwo (indywidualne i grupowe) oraz szkolenia umożliwiające uzyskanie wiedz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umiejętności potrzebnych do założenia i prowadzenia działalności gospodarcz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znanie środków finansowych na rozwój przedsiębiorczości do wysokości 40 tys. PLN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osob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wsparcie pomostowe w okresie do 6 (lub do 12) miesięcy od dnia zawarcia umow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 udzielenie wsparcia pomostowego, obejmujące finansowe wsparcie pomostowe wypłacane miesięcznie w kwocie nie wyższej niż równowartość minimalnego wynagrodzenia obowiązującego w dniu wypłacenia dotacji, połączone z doradztwem oraz pomocą w efektywnym wykorzystaniu dotacji (wyłącznie dla osób, które rozpoczęły działalność w ramach danego projekt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odawcy i pracownicy pracodawców przechodzących procesy adaptacyj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modernizacyjn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soby, które utraciły pracę z przyczyn dotyczących zakładu pracy w okresie nie dłuższym niż 6 miesięcy przed dniem przystąpienia do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Minimalna wartość projektu wynosi 200 tysięcy złotych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outplacementowy musi obowiązkowo zawierać przynajmniej dwa instrumenty z zakresu wsparcia towarzyszącego, w skład którego wchodzą: pomoc w zmianie miejsca prac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p. dodatek relokacyjny (mobilnościowy), pomoc w znalezieniu nowej pracy, np. dodatek motywacyjny12, wsparcie dla osób zamierzających rozpocząć działalność gospodarczą, staż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i praktyki zawodowe przygotowujące do podjęcia pracy w nowym zawodzie, subsydiowanie zatrudnienia uczestnika u nowego pracodaw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skaźnik efektywności zatrudnieniowej uczestników projektu mierzon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zakończenie jego realizacji wynosi co najmniej 50% (uczestnicy, którzy podejmą pracę lub rozpoczną prowadzenie działalności gospodarczej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klonowska</cp:lastModifiedBy>
  <dcterms:modified xsi:type="dcterms:W3CDTF">2011-10-06T07:31:09Z</dcterms:modified>
  <cp:revision>657</cp:revision>
  <dc:subject/>
  <dc:title>Slajd 1</dc:title>
</cp:coreProperties>
</file>