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7AEC-9736-4257-846F-34E0FDFB27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2F1A-D459-48D1-A469-7120AF8CD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A9E4-11C9-4464-8838-D6F6D8C91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7.3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11 październik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awarte w Karty oceny merytorycznej wniosku o dofinansowanie projektu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traktowane </a:t>
            </a:r>
            <a:br>
              <a:rPr sz="1400"/>
            </a:b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600" spc="-1" strike="noStrike" u="sng">
                <a:solidFill>
                  <a:srgbClr val="ff0000"/>
                </a:solidFill>
                <a:uFillTx/>
                <a:latin typeface="Arial"/>
              </a:rPr>
              <a:t>Reguła proporcjonalnoś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8774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guła proporcjonalności dotyczy rozliczenia projektu pod względem finansowym w zależ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 stopnia osiągnięcia założeń merytorycznych określonych we wniosku o dofinansowanie projektu. W związku z powyższy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kryterium dostępu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rojektu – podmiot będący stroną umowy uznaje wszystkie wydatki dotychczas rozliczone w ramach projekt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 niekwalifikowal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kryterium strategicznego w ramach projektu lub nieosiągnięcia celu projektu – wysokość wydatków w dotychczas zatwierdzonych wnioskach o płatność może zostać proporcjonalnie zmniejszona, co jednocześnie oznacza odpowiednie obniżenie kwoty dofinansowania określonej w umowie o dofinansowanie projektu; wysokość zmniejszenia dofinansowania odpowiada procentowi, w jakim dane kryterium lub cel nie zostały zrealizow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W projektach dotyczących oddolnych inicjatyw na obszarach wiejskich projektodawca wypełnia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1.1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Uzasadnienie potrzeby realizacji projektu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ierwszą kolumnę punktu 3.1.2 (cel główny projektu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ierwszą kolumnę punktu 3.1.3 (cele szczegółowe projektu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tabelę 3.2.1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Przewidywana liczba osób/ instytucji objętych wsparciem w ramach projektu i ich statu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3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Zadani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6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Potencjał i doświadczenie projektodawcy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ra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unkt 3.7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Opis sposobu zarządzania projektem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Tabela 3.2.1 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Przewidywania liczba osób/instytucji objętych wsparc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00120" y="2000160"/>
          <a:ext cx="6096240" cy="4143600"/>
        </p:xfrm>
        <a:graphic>
          <a:graphicData uri="http://schemas.openxmlformats.org/drawingml/2006/table">
            <a:tbl>
              <a:tblPr/>
              <a:tblGrid>
                <a:gridCol w="5138640"/>
                <a:gridCol w="319320"/>
                <a:gridCol w="320760"/>
                <a:gridCol w="317520"/>
              </a:tblGrid>
              <a:tr h="47556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2.1 Przewidywana liczba osób/instytucji objętych wsparciem EFS w ramach projektu i ich status  (ilościowe) </a:t>
                      </a:r>
                      <a:r>
                        <a:rPr b="0" i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nie dotyczy projektów informacyjnych i badawczych, w których nie jest udzielane bezpośrednie wsparcie dla osó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us uczestni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czba osó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60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zrobot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długotrwale bezrobot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oby nieaktywne zawodow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uczące lub kształcące się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trudnie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rolni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samozatrudnie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mikro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małych 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średnich 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dużych przedsiębiorstwa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administracji publicznej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zatrudnieni w organizacjach pozarządowy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gół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należące do mniejszości narodowych i etniczny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migran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niepełnospraw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 tym osoby z terenów wiejsk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zedsiębiorstwa objęte wsparciem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czb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kro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łe 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Średnie 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uże przedsiębiorstw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31.08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03280" y="105264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8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4" descr=""/>
          <p:cNvPicPr/>
          <p:nvPr/>
        </p:nvPicPr>
        <p:blipFill>
          <a:blip r:embed="rId1"/>
          <a:stretch/>
        </p:blipFill>
        <p:spPr>
          <a:xfrm>
            <a:off x="317520" y="1407960"/>
            <a:ext cx="85089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71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666 667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0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9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9 listopad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11280" y="1125000"/>
            <a:ext cx="763272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68360" y="1859040"/>
            <a:ext cx="82072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dolne inicjatywy lokalne obejmu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ziałania o charakterze informacyjnym, promocyjnym, szkoleniowym lub doradczym przyczyniające się do przeciwdziałania wykluczeniu społecznemu członków społeczności lokalnych zagrożonych wykluczeniem społecznym lub społecznie wykluczonych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wój dialogu, partnerstwa publiczno-społecznego i współpracy na poziomie lokalnym na rzecz przeciwdziałania wykluczeniu społecznem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42600" y="1052280"/>
            <a:ext cx="7929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soby niezatrudnione, w wieku aktywności zawodowej (15 - 64 lata), zagrożone wykluczeniem społecznym z co najmniej jednego powodu spośród wskaza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art. 7 ustawy z dnia 2 października 2009 r. o pomocy społecznej (Dz. U. z 2009 r. Nr 175 poz. 1362 z późn. zm.), zamieszkujące gminy wiejskie, miejsko – wiejskie oraz miasta do 25 tys. mieszkańców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soby zamieszkujące gminy wiejskie, miejsko – wiejskie oraz miasta do 25 tys. mieszkańców (pod warunkiem, że ich udział w projekcie jest niezbędn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oprawy sytuacji osób zagrożonych wykluczeniem społecznym objętych wsparciem w ramach projektu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mioty działające na obszarach wiejskich na rzecz przeciwdziałania wykluczeniu społecznemu mieszkańców tych obszaró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12 miesięcy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odawca złożył nie więcej niż dwa wnioski o dofinansowanie w ramach danej rundy konkursowej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nimalna wartość projektu wynosi 10 tysięcy z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odawca lub Partner jest podmiotem, który działa lokalnie na terenie określonym we wniosku. (Partner przypisane powinien mieć co najmniej 1 zadanie merytoryczne, którego wartość stanowi co najmniej 10 % wartości projektu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 w okresie realizacji projektu prowadzi biuro projektu (lub posiada siedzibę, filię, delegaturę, oddział czy inną prawnie dozwolona formę organizacyjną działalności podmiotu) na terenie województwa zachodniopomorskiego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 możliwością udostępnienia pełnej dokumentacji wdrażanego projektu oraz zapewniające uczestnikom możliwość osobistego kontaktu z kadrą projektu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Grupę docelową  w projekcie stanowią osoby mające miejsce zamieszkania lub uczące się, w wieku aktywności zawodowej, na terenie gmin wiejskich lub  miejsko-wiejskich (do 15 tys. mieszkańców) oraz miast do 15 tys. mieszkańców z terenu województwa zachodniopomorskiego w rozumieniu przepisów Kodeksu Cywilnego oraz podmioty działające na tych terena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odawca, w wyniku ogłaszanych dotychczas konkursów, nie otrzymał dofinansowania  projektu w ramach Działania 7.3 w województwie zachodniopomorskim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 punkt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uwzględnia współpracę partnerów  publicznych, społecznych i gospodarcz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ramach Lokalnych Grup Działani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 punkt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Grupę docelową w projekcie, stanowi nie mniej niż 50% osób niepełnosprawnych, przy jednoczesnym udziale w projekcie osób pełnosprawnych oraz wsparcie to jest dostosowane do specyficznych potrzeb osób niepełnosprawnych w szczególności poprzez wykorzystanie mechanizmu cross- financingu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20 punkt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ykorzystanie dobrych praktyk wypracowanych na podstawie zwalidowanych rezultatów PIW EQUAL w obszarze integracji społeczno- zawodowej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 punkt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klonowska</cp:lastModifiedBy>
  <dcterms:modified xsi:type="dcterms:W3CDTF">2011-10-10T08:00:53Z</dcterms:modified>
  <cp:revision>648</cp:revision>
  <dc:subject/>
  <dc:title>Slajd 1</dc:title>
</cp:coreProperties>
</file>